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634-518D-4A2F-AF51-271C2A86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F2F-72F6-4FFF-A3FA-99146A7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509-FAE3-4711-AC57-3CE40D14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21D-EDDB-4B4C-B8EB-D01BCC20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647-CC06-4094-9F30-1317277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56F-D497-4075-A9E4-FBDB323A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3B3-AA99-499A-A9B0-6BEA58E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696-45FF-4DBB-A96A-5AECC2D4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063-3CB9-4E54-A720-273264A9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92F-2FB5-43EB-8F13-6D3E36C1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FAE-6C40-40C1-9154-228EC833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336-1FD9-4367-BC6E-03871EF4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02F-7F1B-42F1-B7E9-A142D784A0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программирования алгоритмов для ЭВ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ция 1: Представление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ов на псевдокод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: Heuristic Search Examples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268280"/>
            <a:ext cx="276696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1268280"/>
            <a:ext cx="276696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156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1906560" y="16272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185840" y="25639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690560" y="24192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916280"/>
            <a:ext cx="936360" cy="502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330200" y="1700280"/>
            <a:ext cx="648000" cy="86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18511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5362560" y="17064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4641840" y="26431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6560" y="24987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788000" y="2571480"/>
            <a:ext cx="35856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211640" y="1779480"/>
            <a:ext cx="1150920" cy="144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338560" y="2492280"/>
            <a:ext cx="1425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85264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690560" y="28512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2340000" y="3284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24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409840" y="263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794200" y="257004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6227640" y="29304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146560" y="29289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33624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291280" y="3002040"/>
            <a:ext cx="93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865840" y="2714760"/>
            <a:ext cx="0" cy="647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13399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185840" y="1916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114200" y="148428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141912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570560" y="19954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498560" y="156348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3034440" y="191628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3060000" y="20304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6126120" y="4070520"/>
            <a:ext cx="276696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6486480" y="4653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7781760" y="4508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706104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7566120" y="5300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207200" y="537336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630840" y="4581360"/>
            <a:ext cx="1150920" cy="144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8213760" y="537228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8647200" y="573264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7566120" y="57308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215200" y="6164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846840" y="4221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6989760" y="4797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918120" y="4365360"/>
            <a:ext cx="144360" cy="43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69080" y="5444640"/>
            <a:ext cx="576360" cy="360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318520" y="5876640"/>
            <a:ext cx="358920" cy="360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5390280" y="461160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5569560" y="47242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4076640"/>
            <a:ext cx="276732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244680" y="465948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540320" y="45147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819600" y="545148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4324320" y="53071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65400" y="5379840"/>
            <a:ext cx="358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4971960" y="53784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05400" y="573876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324320" y="57373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973760" y="61707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3605040" y="422748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3747960" y="48038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427640" y="545112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588276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3676680" y="4365720"/>
            <a:ext cx="863640" cy="21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3387600" y="4724280"/>
            <a:ext cx="360360" cy="144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4334040"/>
            <a:ext cx="265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initial coupl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icted abov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uristic search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terminate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3 step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rot="3373800">
            <a:off x="6273000" y="323136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rot="3356400">
            <a:off x="6300000" y="33454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: Heuristic Search Examples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9560" y="1484280"/>
            <a:ext cx="2837160" cy="1368360"/>
          </a:xfrm>
          <a:custGeom>
            <a:avLst/>
            <a:gdLst/>
            <a:ahLst/>
            <a:rect l="l" t="t" r="r" b="b"/>
            <a:pathLst>
              <a:path w="1787" h="1428">
                <a:moveTo>
                  <a:pt x="422" y="315"/>
                </a:moveTo>
                <a:cubicBezTo>
                  <a:pt x="409" y="273"/>
                  <a:pt x="422" y="317"/>
                  <a:pt x="409" y="247"/>
                </a:cubicBezTo>
                <a:cubicBezTo>
                  <a:pt x="405" y="224"/>
                  <a:pt x="395" y="178"/>
                  <a:pt x="395" y="178"/>
                </a:cubicBezTo>
                <a:cubicBezTo>
                  <a:pt x="402" y="106"/>
                  <a:pt x="396" y="82"/>
                  <a:pt x="464" y="62"/>
                </a:cubicBezTo>
                <a:cubicBezTo>
                  <a:pt x="563" y="69"/>
                  <a:pt x="659" y="83"/>
                  <a:pt x="758" y="89"/>
                </a:cubicBezTo>
                <a:cubicBezTo>
                  <a:pt x="782" y="99"/>
                  <a:pt x="811" y="97"/>
                  <a:pt x="834" y="110"/>
                </a:cubicBezTo>
                <a:cubicBezTo>
                  <a:pt x="859" y="124"/>
                  <a:pt x="875" y="155"/>
                  <a:pt x="889" y="178"/>
                </a:cubicBezTo>
                <a:cubicBezTo>
                  <a:pt x="899" y="217"/>
                  <a:pt x="895" y="226"/>
                  <a:pt x="854" y="212"/>
                </a:cubicBezTo>
                <a:cubicBezTo>
                  <a:pt x="812" y="170"/>
                  <a:pt x="826" y="83"/>
                  <a:pt x="868" y="41"/>
                </a:cubicBezTo>
                <a:cubicBezTo>
                  <a:pt x="877" y="32"/>
                  <a:pt x="906" y="18"/>
                  <a:pt x="916" y="14"/>
                </a:cubicBezTo>
                <a:cubicBezTo>
                  <a:pt x="929" y="9"/>
                  <a:pt x="957" y="0"/>
                  <a:pt x="957" y="0"/>
                </a:cubicBezTo>
                <a:cubicBezTo>
                  <a:pt x="1096" y="17"/>
                  <a:pt x="1174" y="32"/>
                  <a:pt x="1238" y="164"/>
                </a:cubicBezTo>
                <a:cubicBezTo>
                  <a:pt x="1236" y="173"/>
                  <a:pt x="1240" y="187"/>
                  <a:pt x="1232" y="192"/>
                </a:cubicBezTo>
                <a:cubicBezTo>
                  <a:pt x="1224" y="197"/>
                  <a:pt x="1209" y="193"/>
                  <a:pt x="1204" y="185"/>
                </a:cubicBezTo>
                <a:cubicBezTo>
                  <a:pt x="1199" y="177"/>
                  <a:pt x="1206" y="166"/>
                  <a:pt x="1211" y="158"/>
                </a:cubicBezTo>
                <a:cubicBezTo>
                  <a:pt x="1216" y="151"/>
                  <a:pt x="1225" y="149"/>
                  <a:pt x="1232" y="144"/>
                </a:cubicBezTo>
                <a:cubicBezTo>
                  <a:pt x="1374" y="153"/>
                  <a:pt x="1447" y="177"/>
                  <a:pt x="1561" y="254"/>
                </a:cubicBezTo>
                <a:cubicBezTo>
                  <a:pt x="1561" y="254"/>
                  <a:pt x="1615" y="297"/>
                  <a:pt x="1622" y="308"/>
                </a:cubicBezTo>
                <a:cubicBezTo>
                  <a:pt x="1636" y="330"/>
                  <a:pt x="1657" y="377"/>
                  <a:pt x="1657" y="377"/>
                </a:cubicBezTo>
                <a:cubicBezTo>
                  <a:pt x="1667" y="426"/>
                  <a:pt x="1670" y="500"/>
                  <a:pt x="1629" y="535"/>
                </a:cubicBezTo>
                <a:cubicBezTo>
                  <a:pt x="1614" y="548"/>
                  <a:pt x="1593" y="563"/>
                  <a:pt x="1574" y="569"/>
                </a:cubicBezTo>
                <a:cubicBezTo>
                  <a:pt x="1556" y="575"/>
                  <a:pt x="1520" y="583"/>
                  <a:pt x="1520" y="583"/>
                </a:cubicBezTo>
                <a:cubicBezTo>
                  <a:pt x="1580" y="604"/>
                  <a:pt x="1641" y="633"/>
                  <a:pt x="1691" y="672"/>
                </a:cubicBezTo>
                <a:cubicBezTo>
                  <a:pt x="1705" y="694"/>
                  <a:pt x="1726" y="712"/>
                  <a:pt x="1739" y="734"/>
                </a:cubicBezTo>
                <a:cubicBezTo>
                  <a:pt x="1774" y="793"/>
                  <a:pt x="1775" y="888"/>
                  <a:pt x="1787" y="953"/>
                </a:cubicBezTo>
                <a:cubicBezTo>
                  <a:pt x="1785" y="969"/>
                  <a:pt x="1780" y="1095"/>
                  <a:pt x="1760" y="1138"/>
                </a:cubicBezTo>
                <a:cubicBezTo>
                  <a:pt x="1675" y="1320"/>
                  <a:pt x="1447" y="1357"/>
                  <a:pt x="1280" y="1412"/>
                </a:cubicBezTo>
                <a:cubicBezTo>
                  <a:pt x="1210" y="1406"/>
                  <a:pt x="1128" y="1428"/>
                  <a:pt x="1088" y="1364"/>
                </a:cubicBezTo>
                <a:cubicBezTo>
                  <a:pt x="1078" y="1317"/>
                  <a:pt x="1086" y="1265"/>
                  <a:pt x="1136" y="1248"/>
                </a:cubicBezTo>
                <a:cubicBezTo>
                  <a:pt x="1175" y="1308"/>
                  <a:pt x="1106" y="1341"/>
                  <a:pt x="1060" y="1364"/>
                </a:cubicBezTo>
                <a:cubicBezTo>
                  <a:pt x="1048" y="1370"/>
                  <a:pt x="1039" y="1382"/>
                  <a:pt x="1026" y="1385"/>
                </a:cubicBezTo>
                <a:cubicBezTo>
                  <a:pt x="995" y="1393"/>
                  <a:pt x="962" y="1394"/>
                  <a:pt x="930" y="1399"/>
                </a:cubicBezTo>
                <a:cubicBezTo>
                  <a:pt x="914" y="1401"/>
                  <a:pt x="882" y="1406"/>
                  <a:pt x="882" y="1406"/>
                </a:cubicBezTo>
                <a:cubicBezTo>
                  <a:pt x="793" y="1404"/>
                  <a:pt x="702" y="1413"/>
                  <a:pt x="614" y="1399"/>
                </a:cubicBezTo>
                <a:cubicBezTo>
                  <a:pt x="545" y="1388"/>
                  <a:pt x="363" y="1286"/>
                  <a:pt x="292" y="1255"/>
                </a:cubicBezTo>
                <a:cubicBezTo>
                  <a:pt x="269" y="1231"/>
                  <a:pt x="254" y="1217"/>
                  <a:pt x="244" y="1186"/>
                </a:cubicBezTo>
                <a:cubicBezTo>
                  <a:pt x="246" y="1170"/>
                  <a:pt x="242" y="1151"/>
                  <a:pt x="251" y="1138"/>
                </a:cubicBezTo>
                <a:cubicBezTo>
                  <a:pt x="262" y="1122"/>
                  <a:pt x="299" y="1104"/>
                  <a:pt x="299" y="1104"/>
                </a:cubicBezTo>
                <a:cubicBezTo>
                  <a:pt x="373" y="1112"/>
                  <a:pt x="369" y="1101"/>
                  <a:pt x="388" y="1159"/>
                </a:cubicBezTo>
                <a:cubicBezTo>
                  <a:pt x="301" y="1190"/>
                  <a:pt x="156" y="1067"/>
                  <a:pt x="114" y="1001"/>
                </a:cubicBezTo>
                <a:cubicBezTo>
                  <a:pt x="105" y="987"/>
                  <a:pt x="93" y="975"/>
                  <a:pt x="86" y="960"/>
                </a:cubicBezTo>
                <a:cubicBezTo>
                  <a:pt x="70" y="929"/>
                  <a:pt x="45" y="864"/>
                  <a:pt x="45" y="864"/>
                </a:cubicBezTo>
                <a:cubicBezTo>
                  <a:pt x="31" y="781"/>
                  <a:pt x="0" y="645"/>
                  <a:pt x="107" y="617"/>
                </a:cubicBezTo>
                <a:cubicBezTo>
                  <a:pt x="147" y="638"/>
                  <a:pt x="168" y="653"/>
                  <a:pt x="182" y="699"/>
                </a:cubicBezTo>
                <a:cubicBezTo>
                  <a:pt x="173" y="701"/>
                  <a:pt x="164" y="707"/>
                  <a:pt x="155" y="706"/>
                </a:cubicBezTo>
                <a:cubicBezTo>
                  <a:pt x="136" y="703"/>
                  <a:pt x="121" y="686"/>
                  <a:pt x="107" y="672"/>
                </a:cubicBezTo>
                <a:cubicBezTo>
                  <a:pt x="71" y="636"/>
                  <a:pt x="34" y="582"/>
                  <a:pt x="18" y="535"/>
                </a:cubicBezTo>
                <a:cubicBezTo>
                  <a:pt x="26" y="478"/>
                  <a:pt x="31" y="463"/>
                  <a:pt x="86" y="446"/>
                </a:cubicBezTo>
                <a:cubicBezTo>
                  <a:pt x="159" y="449"/>
                  <a:pt x="250" y="431"/>
                  <a:pt x="306" y="487"/>
                </a:cubicBezTo>
                <a:cubicBezTo>
                  <a:pt x="262" y="502"/>
                  <a:pt x="226" y="462"/>
                  <a:pt x="196" y="432"/>
                </a:cubicBezTo>
                <a:cubicBezTo>
                  <a:pt x="182" y="418"/>
                  <a:pt x="155" y="391"/>
                  <a:pt x="155" y="391"/>
                </a:cubicBezTo>
                <a:cubicBezTo>
                  <a:pt x="146" y="363"/>
                  <a:pt x="138" y="336"/>
                  <a:pt x="128" y="308"/>
                </a:cubicBezTo>
                <a:cubicBezTo>
                  <a:pt x="130" y="292"/>
                  <a:pt x="126" y="274"/>
                  <a:pt x="134" y="260"/>
                </a:cubicBezTo>
                <a:cubicBezTo>
                  <a:pt x="147" y="236"/>
                  <a:pt x="189" y="252"/>
                  <a:pt x="203" y="254"/>
                </a:cubicBezTo>
                <a:cubicBezTo>
                  <a:pt x="269" y="264"/>
                  <a:pt x="329" y="287"/>
                  <a:pt x="395" y="295"/>
                </a:cubicBezTo>
                <a:cubicBezTo>
                  <a:pt x="419" y="310"/>
                  <a:pt x="411" y="302"/>
                  <a:pt x="422" y="3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773440" y="213192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1304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213192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2035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213192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1712880" y="1361520"/>
            <a:ext cx="245880" cy="2160720"/>
          </a:xfrm>
          <a:custGeom>
            <a:avLst/>
            <a:gdLst>
              <a:gd name="textAreaLeft" fmla="*/ 157320 w 245880"/>
              <a:gd name="textAreaRight" fmla="*/ 246240 w 24588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420560" y="249228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1796040" y="1627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1401840" y="170028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rot="1921800">
            <a:off x="3177720" y="242064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rot="1908000">
            <a:off x="3204000" y="253476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3014640"/>
            <a:ext cx="2836800" cy="1368360"/>
          </a:xfrm>
          <a:custGeom>
            <a:avLst/>
            <a:gdLst/>
            <a:ahLst/>
            <a:rect l="l" t="t" r="r" b="b"/>
            <a:pathLst>
              <a:path w="1787" h="1428">
                <a:moveTo>
                  <a:pt x="422" y="315"/>
                </a:moveTo>
                <a:cubicBezTo>
                  <a:pt x="409" y="273"/>
                  <a:pt x="422" y="317"/>
                  <a:pt x="409" y="247"/>
                </a:cubicBezTo>
                <a:cubicBezTo>
                  <a:pt x="405" y="224"/>
                  <a:pt x="395" y="178"/>
                  <a:pt x="395" y="178"/>
                </a:cubicBezTo>
                <a:cubicBezTo>
                  <a:pt x="402" y="106"/>
                  <a:pt x="396" y="82"/>
                  <a:pt x="464" y="62"/>
                </a:cubicBezTo>
                <a:cubicBezTo>
                  <a:pt x="563" y="69"/>
                  <a:pt x="659" y="83"/>
                  <a:pt x="758" y="89"/>
                </a:cubicBezTo>
                <a:cubicBezTo>
                  <a:pt x="782" y="99"/>
                  <a:pt x="811" y="97"/>
                  <a:pt x="834" y="110"/>
                </a:cubicBezTo>
                <a:cubicBezTo>
                  <a:pt x="859" y="124"/>
                  <a:pt x="875" y="155"/>
                  <a:pt x="889" y="178"/>
                </a:cubicBezTo>
                <a:cubicBezTo>
                  <a:pt x="899" y="217"/>
                  <a:pt x="895" y="226"/>
                  <a:pt x="854" y="212"/>
                </a:cubicBezTo>
                <a:cubicBezTo>
                  <a:pt x="812" y="170"/>
                  <a:pt x="826" y="83"/>
                  <a:pt x="868" y="41"/>
                </a:cubicBezTo>
                <a:cubicBezTo>
                  <a:pt x="877" y="32"/>
                  <a:pt x="906" y="18"/>
                  <a:pt x="916" y="14"/>
                </a:cubicBezTo>
                <a:cubicBezTo>
                  <a:pt x="929" y="9"/>
                  <a:pt x="957" y="0"/>
                  <a:pt x="957" y="0"/>
                </a:cubicBezTo>
                <a:cubicBezTo>
                  <a:pt x="1096" y="17"/>
                  <a:pt x="1174" y="32"/>
                  <a:pt x="1238" y="164"/>
                </a:cubicBezTo>
                <a:cubicBezTo>
                  <a:pt x="1236" y="173"/>
                  <a:pt x="1240" y="187"/>
                  <a:pt x="1232" y="192"/>
                </a:cubicBezTo>
                <a:cubicBezTo>
                  <a:pt x="1224" y="197"/>
                  <a:pt x="1209" y="193"/>
                  <a:pt x="1204" y="185"/>
                </a:cubicBezTo>
                <a:cubicBezTo>
                  <a:pt x="1199" y="177"/>
                  <a:pt x="1206" y="166"/>
                  <a:pt x="1211" y="158"/>
                </a:cubicBezTo>
                <a:cubicBezTo>
                  <a:pt x="1216" y="151"/>
                  <a:pt x="1225" y="149"/>
                  <a:pt x="1232" y="144"/>
                </a:cubicBezTo>
                <a:cubicBezTo>
                  <a:pt x="1374" y="153"/>
                  <a:pt x="1447" y="177"/>
                  <a:pt x="1561" y="254"/>
                </a:cubicBezTo>
                <a:cubicBezTo>
                  <a:pt x="1561" y="254"/>
                  <a:pt x="1615" y="297"/>
                  <a:pt x="1622" y="308"/>
                </a:cubicBezTo>
                <a:cubicBezTo>
                  <a:pt x="1636" y="330"/>
                  <a:pt x="1657" y="377"/>
                  <a:pt x="1657" y="377"/>
                </a:cubicBezTo>
                <a:cubicBezTo>
                  <a:pt x="1667" y="426"/>
                  <a:pt x="1670" y="500"/>
                  <a:pt x="1629" y="535"/>
                </a:cubicBezTo>
                <a:cubicBezTo>
                  <a:pt x="1614" y="548"/>
                  <a:pt x="1593" y="563"/>
                  <a:pt x="1574" y="569"/>
                </a:cubicBezTo>
                <a:cubicBezTo>
                  <a:pt x="1556" y="575"/>
                  <a:pt x="1520" y="583"/>
                  <a:pt x="1520" y="583"/>
                </a:cubicBezTo>
                <a:cubicBezTo>
                  <a:pt x="1580" y="604"/>
                  <a:pt x="1641" y="633"/>
                  <a:pt x="1691" y="672"/>
                </a:cubicBezTo>
                <a:cubicBezTo>
                  <a:pt x="1705" y="694"/>
                  <a:pt x="1726" y="712"/>
                  <a:pt x="1739" y="734"/>
                </a:cubicBezTo>
                <a:cubicBezTo>
                  <a:pt x="1774" y="793"/>
                  <a:pt x="1775" y="888"/>
                  <a:pt x="1787" y="953"/>
                </a:cubicBezTo>
                <a:cubicBezTo>
                  <a:pt x="1785" y="969"/>
                  <a:pt x="1780" y="1095"/>
                  <a:pt x="1760" y="1138"/>
                </a:cubicBezTo>
                <a:cubicBezTo>
                  <a:pt x="1675" y="1320"/>
                  <a:pt x="1447" y="1357"/>
                  <a:pt x="1280" y="1412"/>
                </a:cubicBezTo>
                <a:cubicBezTo>
                  <a:pt x="1210" y="1406"/>
                  <a:pt x="1128" y="1428"/>
                  <a:pt x="1088" y="1364"/>
                </a:cubicBezTo>
                <a:cubicBezTo>
                  <a:pt x="1078" y="1317"/>
                  <a:pt x="1086" y="1265"/>
                  <a:pt x="1136" y="1248"/>
                </a:cubicBezTo>
                <a:cubicBezTo>
                  <a:pt x="1175" y="1308"/>
                  <a:pt x="1106" y="1341"/>
                  <a:pt x="1060" y="1364"/>
                </a:cubicBezTo>
                <a:cubicBezTo>
                  <a:pt x="1048" y="1370"/>
                  <a:pt x="1039" y="1382"/>
                  <a:pt x="1026" y="1385"/>
                </a:cubicBezTo>
                <a:cubicBezTo>
                  <a:pt x="995" y="1393"/>
                  <a:pt x="962" y="1394"/>
                  <a:pt x="930" y="1399"/>
                </a:cubicBezTo>
                <a:cubicBezTo>
                  <a:pt x="914" y="1401"/>
                  <a:pt x="882" y="1406"/>
                  <a:pt x="882" y="1406"/>
                </a:cubicBezTo>
                <a:cubicBezTo>
                  <a:pt x="793" y="1404"/>
                  <a:pt x="702" y="1413"/>
                  <a:pt x="614" y="1399"/>
                </a:cubicBezTo>
                <a:cubicBezTo>
                  <a:pt x="545" y="1388"/>
                  <a:pt x="363" y="1286"/>
                  <a:pt x="292" y="1255"/>
                </a:cubicBezTo>
                <a:cubicBezTo>
                  <a:pt x="269" y="1231"/>
                  <a:pt x="254" y="1217"/>
                  <a:pt x="244" y="1186"/>
                </a:cubicBezTo>
                <a:cubicBezTo>
                  <a:pt x="246" y="1170"/>
                  <a:pt x="242" y="1151"/>
                  <a:pt x="251" y="1138"/>
                </a:cubicBezTo>
                <a:cubicBezTo>
                  <a:pt x="262" y="1122"/>
                  <a:pt x="299" y="1104"/>
                  <a:pt x="299" y="1104"/>
                </a:cubicBezTo>
                <a:cubicBezTo>
                  <a:pt x="373" y="1112"/>
                  <a:pt x="369" y="1101"/>
                  <a:pt x="388" y="1159"/>
                </a:cubicBezTo>
                <a:cubicBezTo>
                  <a:pt x="301" y="1190"/>
                  <a:pt x="156" y="1067"/>
                  <a:pt x="114" y="1001"/>
                </a:cubicBezTo>
                <a:cubicBezTo>
                  <a:pt x="105" y="987"/>
                  <a:pt x="93" y="975"/>
                  <a:pt x="86" y="960"/>
                </a:cubicBezTo>
                <a:cubicBezTo>
                  <a:pt x="70" y="929"/>
                  <a:pt x="45" y="864"/>
                  <a:pt x="45" y="864"/>
                </a:cubicBezTo>
                <a:cubicBezTo>
                  <a:pt x="31" y="781"/>
                  <a:pt x="0" y="645"/>
                  <a:pt x="107" y="617"/>
                </a:cubicBezTo>
                <a:cubicBezTo>
                  <a:pt x="147" y="638"/>
                  <a:pt x="168" y="653"/>
                  <a:pt x="182" y="699"/>
                </a:cubicBezTo>
                <a:cubicBezTo>
                  <a:pt x="173" y="701"/>
                  <a:pt x="164" y="707"/>
                  <a:pt x="155" y="706"/>
                </a:cubicBezTo>
                <a:cubicBezTo>
                  <a:pt x="136" y="703"/>
                  <a:pt x="121" y="686"/>
                  <a:pt x="107" y="672"/>
                </a:cubicBezTo>
                <a:cubicBezTo>
                  <a:pt x="71" y="636"/>
                  <a:pt x="34" y="582"/>
                  <a:pt x="18" y="535"/>
                </a:cubicBezTo>
                <a:cubicBezTo>
                  <a:pt x="26" y="478"/>
                  <a:pt x="31" y="463"/>
                  <a:pt x="86" y="446"/>
                </a:cubicBezTo>
                <a:cubicBezTo>
                  <a:pt x="159" y="449"/>
                  <a:pt x="250" y="431"/>
                  <a:pt x="306" y="487"/>
                </a:cubicBezTo>
                <a:cubicBezTo>
                  <a:pt x="262" y="502"/>
                  <a:pt x="226" y="462"/>
                  <a:pt x="196" y="432"/>
                </a:cubicBezTo>
                <a:cubicBezTo>
                  <a:pt x="182" y="418"/>
                  <a:pt x="155" y="391"/>
                  <a:pt x="155" y="391"/>
                </a:cubicBezTo>
                <a:cubicBezTo>
                  <a:pt x="146" y="363"/>
                  <a:pt x="138" y="336"/>
                  <a:pt x="128" y="308"/>
                </a:cubicBezTo>
                <a:cubicBezTo>
                  <a:pt x="130" y="292"/>
                  <a:pt x="126" y="274"/>
                  <a:pt x="134" y="260"/>
                </a:cubicBezTo>
                <a:cubicBezTo>
                  <a:pt x="147" y="236"/>
                  <a:pt x="189" y="252"/>
                  <a:pt x="203" y="254"/>
                </a:cubicBezTo>
                <a:cubicBezTo>
                  <a:pt x="269" y="264"/>
                  <a:pt x="329" y="287"/>
                  <a:pt x="395" y="295"/>
                </a:cubicBezTo>
                <a:cubicBezTo>
                  <a:pt x="419" y="310"/>
                  <a:pt x="411" y="302"/>
                  <a:pt x="422" y="3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960800" y="366228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943360" y="36608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3664080" y="366228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087720" y="37339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4311720" y="366228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567960" y="3235680"/>
            <a:ext cx="235080" cy="1484280"/>
          </a:xfrm>
          <a:custGeom>
            <a:avLst/>
            <a:gdLst>
              <a:gd name="textAreaLeft" fmla="*/ 150120 w 235080"/>
              <a:gd name="textAreaRight" fmla="*/ 235440 w 235080"/>
              <a:gd name="textAreaTop" fmla="*/ 38520 h 1484280"/>
              <a:gd name="textAreaBottom" fmla="*/ 1445760 h 14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276360" y="402264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250160" y="2891880"/>
            <a:ext cx="198360" cy="1307880"/>
          </a:xfrm>
          <a:custGeom>
            <a:avLst/>
            <a:gdLst>
              <a:gd name="textAreaLeft" fmla="*/ 126720 w 198360"/>
              <a:gd name="textAreaRight" fmla="*/ 198720 w 198360"/>
              <a:gd name="textAreaTop" fmla="*/ 33840 h 1307880"/>
              <a:gd name="textAreaBottom" fmla="*/ 1274040 h 130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3889440" y="323064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921800">
            <a:off x="5365440" y="395100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rot="1908000">
            <a:off x="5391360" y="40651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4527720"/>
            <a:ext cx="2836800" cy="1368360"/>
          </a:xfrm>
          <a:custGeom>
            <a:avLst/>
            <a:gdLst/>
            <a:ahLst/>
            <a:rect l="l" t="t" r="r" b="b"/>
            <a:pathLst>
              <a:path w="1787" h="1428">
                <a:moveTo>
                  <a:pt x="422" y="315"/>
                </a:moveTo>
                <a:cubicBezTo>
                  <a:pt x="409" y="273"/>
                  <a:pt x="422" y="317"/>
                  <a:pt x="409" y="247"/>
                </a:cubicBezTo>
                <a:cubicBezTo>
                  <a:pt x="405" y="224"/>
                  <a:pt x="395" y="178"/>
                  <a:pt x="395" y="178"/>
                </a:cubicBezTo>
                <a:cubicBezTo>
                  <a:pt x="402" y="106"/>
                  <a:pt x="396" y="82"/>
                  <a:pt x="464" y="62"/>
                </a:cubicBezTo>
                <a:cubicBezTo>
                  <a:pt x="563" y="69"/>
                  <a:pt x="659" y="83"/>
                  <a:pt x="758" y="89"/>
                </a:cubicBezTo>
                <a:cubicBezTo>
                  <a:pt x="782" y="99"/>
                  <a:pt x="811" y="97"/>
                  <a:pt x="834" y="110"/>
                </a:cubicBezTo>
                <a:cubicBezTo>
                  <a:pt x="859" y="124"/>
                  <a:pt x="875" y="155"/>
                  <a:pt x="889" y="178"/>
                </a:cubicBezTo>
                <a:cubicBezTo>
                  <a:pt x="899" y="217"/>
                  <a:pt x="895" y="226"/>
                  <a:pt x="854" y="212"/>
                </a:cubicBezTo>
                <a:cubicBezTo>
                  <a:pt x="812" y="170"/>
                  <a:pt x="826" y="83"/>
                  <a:pt x="868" y="41"/>
                </a:cubicBezTo>
                <a:cubicBezTo>
                  <a:pt x="877" y="32"/>
                  <a:pt x="906" y="18"/>
                  <a:pt x="916" y="14"/>
                </a:cubicBezTo>
                <a:cubicBezTo>
                  <a:pt x="929" y="9"/>
                  <a:pt x="957" y="0"/>
                  <a:pt x="957" y="0"/>
                </a:cubicBezTo>
                <a:cubicBezTo>
                  <a:pt x="1096" y="17"/>
                  <a:pt x="1174" y="32"/>
                  <a:pt x="1238" y="164"/>
                </a:cubicBezTo>
                <a:cubicBezTo>
                  <a:pt x="1236" y="173"/>
                  <a:pt x="1240" y="187"/>
                  <a:pt x="1232" y="192"/>
                </a:cubicBezTo>
                <a:cubicBezTo>
                  <a:pt x="1224" y="197"/>
                  <a:pt x="1209" y="193"/>
                  <a:pt x="1204" y="185"/>
                </a:cubicBezTo>
                <a:cubicBezTo>
                  <a:pt x="1199" y="177"/>
                  <a:pt x="1206" y="166"/>
                  <a:pt x="1211" y="158"/>
                </a:cubicBezTo>
                <a:cubicBezTo>
                  <a:pt x="1216" y="151"/>
                  <a:pt x="1225" y="149"/>
                  <a:pt x="1232" y="144"/>
                </a:cubicBezTo>
                <a:cubicBezTo>
                  <a:pt x="1374" y="153"/>
                  <a:pt x="1447" y="177"/>
                  <a:pt x="1561" y="254"/>
                </a:cubicBezTo>
                <a:cubicBezTo>
                  <a:pt x="1561" y="254"/>
                  <a:pt x="1615" y="297"/>
                  <a:pt x="1622" y="308"/>
                </a:cubicBezTo>
                <a:cubicBezTo>
                  <a:pt x="1636" y="330"/>
                  <a:pt x="1657" y="377"/>
                  <a:pt x="1657" y="377"/>
                </a:cubicBezTo>
                <a:cubicBezTo>
                  <a:pt x="1667" y="426"/>
                  <a:pt x="1670" y="500"/>
                  <a:pt x="1629" y="535"/>
                </a:cubicBezTo>
                <a:cubicBezTo>
                  <a:pt x="1614" y="548"/>
                  <a:pt x="1593" y="563"/>
                  <a:pt x="1574" y="569"/>
                </a:cubicBezTo>
                <a:cubicBezTo>
                  <a:pt x="1556" y="575"/>
                  <a:pt x="1520" y="583"/>
                  <a:pt x="1520" y="583"/>
                </a:cubicBezTo>
                <a:cubicBezTo>
                  <a:pt x="1580" y="604"/>
                  <a:pt x="1641" y="633"/>
                  <a:pt x="1691" y="672"/>
                </a:cubicBezTo>
                <a:cubicBezTo>
                  <a:pt x="1705" y="694"/>
                  <a:pt x="1726" y="712"/>
                  <a:pt x="1739" y="734"/>
                </a:cubicBezTo>
                <a:cubicBezTo>
                  <a:pt x="1774" y="793"/>
                  <a:pt x="1775" y="888"/>
                  <a:pt x="1787" y="953"/>
                </a:cubicBezTo>
                <a:cubicBezTo>
                  <a:pt x="1785" y="969"/>
                  <a:pt x="1780" y="1095"/>
                  <a:pt x="1760" y="1138"/>
                </a:cubicBezTo>
                <a:cubicBezTo>
                  <a:pt x="1675" y="1320"/>
                  <a:pt x="1447" y="1357"/>
                  <a:pt x="1280" y="1412"/>
                </a:cubicBezTo>
                <a:cubicBezTo>
                  <a:pt x="1210" y="1406"/>
                  <a:pt x="1128" y="1428"/>
                  <a:pt x="1088" y="1364"/>
                </a:cubicBezTo>
                <a:cubicBezTo>
                  <a:pt x="1078" y="1317"/>
                  <a:pt x="1086" y="1265"/>
                  <a:pt x="1136" y="1248"/>
                </a:cubicBezTo>
                <a:cubicBezTo>
                  <a:pt x="1175" y="1308"/>
                  <a:pt x="1106" y="1341"/>
                  <a:pt x="1060" y="1364"/>
                </a:cubicBezTo>
                <a:cubicBezTo>
                  <a:pt x="1048" y="1370"/>
                  <a:pt x="1039" y="1382"/>
                  <a:pt x="1026" y="1385"/>
                </a:cubicBezTo>
                <a:cubicBezTo>
                  <a:pt x="995" y="1393"/>
                  <a:pt x="962" y="1394"/>
                  <a:pt x="930" y="1399"/>
                </a:cubicBezTo>
                <a:cubicBezTo>
                  <a:pt x="914" y="1401"/>
                  <a:pt x="882" y="1406"/>
                  <a:pt x="882" y="1406"/>
                </a:cubicBezTo>
                <a:cubicBezTo>
                  <a:pt x="793" y="1404"/>
                  <a:pt x="702" y="1413"/>
                  <a:pt x="614" y="1399"/>
                </a:cubicBezTo>
                <a:cubicBezTo>
                  <a:pt x="545" y="1388"/>
                  <a:pt x="363" y="1286"/>
                  <a:pt x="292" y="1255"/>
                </a:cubicBezTo>
                <a:cubicBezTo>
                  <a:pt x="269" y="1231"/>
                  <a:pt x="254" y="1217"/>
                  <a:pt x="244" y="1186"/>
                </a:cubicBezTo>
                <a:cubicBezTo>
                  <a:pt x="246" y="1170"/>
                  <a:pt x="242" y="1151"/>
                  <a:pt x="251" y="1138"/>
                </a:cubicBezTo>
                <a:cubicBezTo>
                  <a:pt x="262" y="1122"/>
                  <a:pt x="299" y="1104"/>
                  <a:pt x="299" y="1104"/>
                </a:cubicBezTo>
                <a:cubicBezTo>
                  <a:pt x="373" y="1112"/>
                  <a:pt x="369" y="1101"/>
                  <a:pt x="388" y="1159"/>
                </a:cubicBezTo>
                <a:cubicBezTo>
                  <a:pt x="301" y="1190"/>
                  <a:pt x="156" y="1067"/>
                  <a:pt x="114" y="1001"/>
                </a:cubicBezTo>
                <a:cubicBezTo>
                  <a:pt x="105" y="987"/>
                  <a:pt x="93" y="975"/>
                  <a:pt x="86" y="960"/>
                </a:cubicBezTo>
                <a:cubicBezTo>
                  <a:pt x="70" y="929"/>
                  <a:pt x="45" y="864"/>
                  <a:pt x="45" y="864"/>
                </a:cubicBezTo>
                <a:cubicBezTo>
                  <a:pt x="31" y="781"/>
                  <a:pt x="0" y="645"/>
                  <a:pt x="107" y="617"/>
                </a:cubicBezTo>
                <a:cubicBezTo>
                  <a:pt x="147" y="638"/>
                  <a:pt x="168" y="653"/>
                  <a:pt x="182" y="699"/>
                </a:cubicBezTo>
                <a:cubicBezTo>
                  <a:pt x="173" y="701"/>
                  <a:pt x="164" y="707"/>
                  <a:pt x="155" y="706"/>
                </a:cubicBezTo>
                <a:cubicBezTo>
                  <a:pt x="136" y="703"/>
                  <a:pt x="121" y="686"/>
                  <a:pt x="107" y="672"/>
                </a:cubicBezTo>
                <a:cubicBezTo>
                  <a:pt x="71" y="636"/>
                  <a:pt x="34" y="582"/>
                  <a:pt x="18" y="535"/>
                </a:cubicBezTo>
                <a:cubicBezTo>
                  <a:pt x="26" y="478"/>
                  <a:pt x="31" y="463"/>
                  <a:pt x="86" y="446"/>
                </a:cubicBezTo>
                <a:cubicBezTo>
                  <a:pt x="159" y="449"/>
                  <a:pt x="250" y="431"/>
                  <a:pt x="306" y="487"/>
                </a:cubicBezTo>
                <a:cubicBezTo>
                  <a:pt x="262" y="502"/>
                  <a:pt x="226" y="462"/>
                  <a:pt x="196" y="432"/>
                </a:cubicBezTo>
                <a:cubicBezTo>
                  <a:pt x="182" y="418"/>
                  <a:pt x="155" y="391"/>
                  <a:pt x="155" y="391"/>
                </a:cubicBezTo>
                <a:cubicBezTo>
                  <a:pt x="146" y="363"/>
                  <a:pt x="138" y="336"/>
                  <a:pt x="128" y="308"/>
                </a:cubicBezTo>
                <a:cubicBezTo>
                  <a:pt x="130" y="292"/>
                  <a:pt x="126" y="274"/>
                  <a:pt x="134" y="260"/>
                </a:cubicBezTo>
                <a:cubicBezTo>
                  <a:pt x="147" y="236"/>
                  <a:pt x="189" y="252"/>
                  <a:pt x="203" y="254"/>
                </a:cubicBezTo>
                <a:cubicBezTo>
                  <a:pt x="269" y="264"/>
                  <a:pt x="329" y="287"/>
                  <a:pt x="395" y="295"/>
                </a:cubicBezTo>
                <a:cubicBezTo>
                  <a:pt x="419" y="310"/>
                  <a:pt x="411" y="302"/>
                  <a:pt x="422" y="3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0" y="517536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175360" y="51735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5896080" y="517536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5319720" y="524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6543720" y="517536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6132240" y="4405320"/>
            <a:ext cx="246240" cy="2160360"/>
          </a:xfrm>
          <a:custGeom>
            <a:avLst/>
            <a:gdLst>
              <a:gd name="textAreaLeft" fmla="*/ 157320 w 246240"/>
              <a:gd name="textAreaRight" fmla="*/ 246600 w 2462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5840280" y="55357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6215760" y="467100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5821560" y="474336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interv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921800">
            <a:off x="7597440" y="546372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rot="1908000">
            <a:off x="7623360" y="55782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7886160" y="569736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3919320" y="1519200"/>
            <a:ext cx="511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s!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 heuristic algorithm can loop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02600" y="5032440"/>
            <a:ext cx="46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articular case looping occur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4 points are on some straight li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on Pseudo Code for Heuristic Searc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pseudo code of heuristic search algorithm exploits abstract data type (coupling) and polivariant (nondeterministic) operations (initial and flip).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rrectness of the pseudo code is explicit: if the algorithm terminates, then it outputs a good coupling for given input points. Unfortunately, termination is not guaranteed:  sometimes the algorithm can loop forever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But there is a hope: if non three points are co-linea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, then the heuristic search algorithm does not loop forever, eventually terminates, and hence is correct;-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xtract a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946040" y="1341360"/>
            <a:ext cx="395568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put value for N, and positions of all point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{ VAR X : coupling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X:=initial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HILE !good(X) DO X:=flip(X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169560" y="1268280"/>
            <a:ext cx="477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is how to implemen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and operations for abstrac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“coupling”. The crucial poin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ange of values for N. Below w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at N is in [1..100]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505800" y="299088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settings every coupling can be represented by two array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_Black[1..100] and All_White[1..100] that store in first N element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s of black and white points that are connected by intervals, ex.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1881360" y="4076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58784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753000" y="4940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1089000" y="45100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728640" y="5300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60944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73000" y="5013000"/>
            <a:ext cx="2880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36640" y="4221000"/>
            <a:ext cx="21600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33360" y="4653000"/>
            <a:ext cx="2592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5560" y="4076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655560" y="6308640"/>
            <a:ext cx="334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808440" y="6323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96720" y="39337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073400" y="4533840"/>
          <a:ext cx="4788000" cy="334800"/>
        </p:xfrm>
        <a:graphic>
          <a:graphicData uri="http://schemas.openxmlformats.org/drawingml/2006/table">
            <a:tbl>
              <a:tblPr/>
              <a:tblGrid>
                <a:gridCol w="957240"/>
                <a:gridCol w="959040"/>
                <a:gridCol w="955440"/>
                <a:gridCol w="959040"/>
                <a:gridCol w="957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3995640" y="408924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_Black[1..100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073400" y="5614920"/>
          <a:ext cx="4788000" cy="334800"/>
        </p:xfrm>
        <a:graphic>
          <a:graphicData uri="http://schemas.openxmlformats.org/drawingml/2006/table">
            <a:tbl>
              <a:tblPr/>
              <a:tblGrid>
                <a:gridCol w="957240"/>
                <a:gridCol w="959040"/>
                <a:gridCol w="955440"/>
                <a:gridCol w="959040"/>
                <a:gridCol w="957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3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y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3996720" y="6021360"/>
            <a:ext cx="171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_White[1..100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4221000"/>
            <a:ext cx="0" cy="216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6661080" y="6321600"/>
            <a:ext cx="5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xtract a Program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constant “initial” is trivial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i=1 TO N step 1 DO { input All_Black[i]; input All_White[i]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relation “good” follows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ood:=true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i=1 TO (N-1) STEP 1 D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j=(i+1) TO N STEP 1 D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IF intervals (All_Black[i], All_White[i])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ll_Black[j], All_White[j]) inters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 {good:=false; BREAK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TURN goo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xtract a Program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the operation “flip” is very similar to relation “good”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i=1 TO (N-1) STEP 1 D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j=(i+1) TO N STEP 1 D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IF intervals (All_Black[i], All_White[i])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ll_Black[j], All_White[j]) inters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 { permute(All_White[i], All_White[j]) ; BREAK }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: implement check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vals (All_Black[i], All_White[i])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All_Black[j], All_White[j]) intersect 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ative, Functional and Logic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n the algorithm part of the course we will use imperative style fo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seudo code, i.e. style based 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variables of different types (low level, high order and abstract)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perations without side effects and assignments to variables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tructured control constructs (IF-THEN-ELSE, polivariant FOR-loops, WHILE-loops, etc.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is imperative style of pseudo code in algorithm design perfectly matches imperative programming paradigm and is very convenient for generation of code in imperative languages like Pascal, C, C++ and Java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ative, Functional and Logical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imultaneously with imperative paradigm, there are two other major algorithm and program languages paradigms: functional and logica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paradigm is based 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matching  mechanism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function applic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paradigm is based 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cation mechanism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educ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in Imperative, Functional and Logical paradig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Let us compare three major paradigms for factorial for positive integer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standard definition of N! is the product of all integers from 1 to N (inclusively) is perfect for imperative pseudo code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VAR N, F : integer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input N; F:=1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FOR all k in [1..N] DO {F:=F x k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output 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is high level pseudo code can be transformed to lowlevel pseudo code by a refinement of the polivariant FOR-loop as follows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VAR N, F : integer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input N; F:=1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FOR k=1 TO N STEP 1 DO {F:=F x k}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Arial"/>
              </a:rPr>
              <a:t>output F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in Imperative, Functional and Logical paradigms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n contrast, the standard definition of N! is not adequate for functional design. Alternatively we should use recursive mathematical definition 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 x F(N-1), if N&gt;1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F(N)=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1, othewis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is definition is easy to transform to low level functional pseudo code (which is extremely inefficient for implementation, but it is nice from purist point of view)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99"/>
                </a:solidFill>
                <a:latin typeface="Arial"/>
              </a:rPr>
              <a:t>F(1) = 1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333399"/>
                </a:solidFill>
                <a:latin typeface="Arial"/>
              </a:rPr>
              <a:t>F(N) = N x F(N-1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2362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re are N black and N white points positioned on the plain. Black and white points can be coupled pairwise by intervals, ex.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Write a program that couples the input points by intervals without intersection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Homework: Suggest a real-life problem, that can be formalized as the Dijkstra problem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34936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5938920" y="41511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21300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27828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843280" y="3573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3671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87640" y="3285720"/>
            <a:ext cx="287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51280" y="2494080"/>
            <a:ext cx="21600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2925720"/>
            <a:ext cx="2592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in Imperative, Functional and Logical paradigms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, both the standard and the functional definitions of N! are not adequate for logical design. Alternatively we should use deductive definition       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&gt;1 and (M/N) is factorial of (N-1)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s factorial of N iff      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N = 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efinition is easy to transform to low level logical pseudo code (which is extremely inefficient for implementation, but it is nice from purist point of view)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(1,1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N&gt;1) &amp; F((N-1), (M/N)) --&gt; F(N,M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2843280" y="2565360"/>
            <a:ext cx="75960" cy="865080"/>
          </a:xfrm>
          <a:custGeom>
            <a:avLst/>
            <a:gdLst>
              <a:gd name="textAreaLeft" fmla="*/ 22320 w 75960"/>
              <a:gd name="textAreaRight" fmla="*/ 76320 w 75960"/>
              <a:gd name="textAreaTop" fmla="*/ 36000 h 865080"/>
              <a:gd name="textAreaBottom" fmla="*/ 8290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in Imperative, Functional and Logical paradigms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 we have examples of imperative, functional and logical low level pseudo code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compare how imperative, functional and logical virtual machines proceed  these examples for N=4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993960" y="2470320"/>
            <a:ext cx="32925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VAR N, F : integer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put N; F:=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OR k=1 TO N STEP 1 DO {F:=F x k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utput 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3622680"/>
            <a:ext cx="1631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1) = 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N) = N x F(N-1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992880" y="4414680"/>
            <a:ext cx="2972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1,1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(N&gt;1) &amp; F((N-1), (M/N)) --&gt; F(N,M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ative Virtual Machin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5529240" y="3284640"/>
            <a:ext cx="329256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VAR N, F : integer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put N;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:=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OR k=1 TO N STEP 1 DO {F:=F x k}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output 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042920" y="1670040"/>
          <a:ext cx="3552840" cy="4967280"/>
        </p:xfrm>
        <a:graphic>
          <a:graphicData uri="http://schemas.openxmlformats.org/drawingml/2006/table">
            <a:tbl>
              <a:tblPr/>
              <a:tblGrid>
                <a:gridCol w="711360"/>
                <a:gridCol w="742680"/>
                <a:gridCol w="677880"/>
                <a:gridCol w="709920"/>
                <a:gridCol w="711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 flipV="1">
            <a:off x="684360" y="3284640"/>
            <a:ext cx="194292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3933720"/>
            <a:ext cx="152640" cy="1798920"/>
          </a:xfrm>
          <a:custGeom>
            <a:avLst/>
            <a:gdLst>
              <a:gd name="textAreaLeft" fmla="*/ 0 w 152640"/>
              <a:gd name="textAreaRight" fmla="*/ 55080 w 1526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3492000" y="3715920"/>
            <a:ext cx="208764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788000" y="4076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564000" y="2924280"/>
            <a:ext cx="201600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843280" y="2924280"/>
            <a:ext cx="273672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637160" y="26370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274920" y="3862440"/>
            <a:ext cx="5763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3274920" y="4294080"/>
            <a:ext cx="5763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x2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274920" y="4799160"/>
            <a:ext cx="576360" cy="142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x3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916360" y="3284640"/>
            <a:ext cx="266364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330120" y="3351240"/>
            <a:ext cx="322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30120" y="5398920"/>
            <a:ext cx="464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826560" y="5661000"/>
            <a:ext cx="244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08000" y="4365720"/>
            <a:ext cx="1871640" cy="151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609280" y="17002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666320" y="62499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relea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274920" y="5230800"/>
            <a:ext cx="5763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x4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Virtual Machin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826320" y="4098960"/>
            <a:ext cx="1631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1) = 1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N) = N x F(N-1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819880" y="2220840"/>
            <a:ext cx="179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F(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(3xF(2)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(3x(2xF(1))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(3x(2x1))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(3x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3809880"/>
            <a:ext cx="309564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778200" y="3235320"/>
            <a:ext cx="316872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2585880"/>
            <a:ext cx="331164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994200" y="4243320"/>
            <a:ext cx="288144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4425480" y="3753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785840" y="432756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3562200" y="25858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706920" y="3233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851280" y="38098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3922560" y="438624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4066920" y="31622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5001840" y="32353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417024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computa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82920" y="316224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482920" y="3809880"/>
            <a:ext cx="115236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2482920" y="43149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01760" y="1214280"/>
            <a:ext cx="786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mory allocation or release, no input or output... But delay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s make the particular functional pseudo code twice l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than the imperative o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3924360" y="5011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3708360" y="6235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4393080" y="5446800"/>
            <a:ext cx="476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: write functional pseudo c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efficient as the imperative o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Virtual Machi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5361480" y="2781360"/>
            <a:ext cx="2972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(1,1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(N&gt;1) &amp; F((N-1), (M/N)) --&gt; F(N,M)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101760" y="22766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4,M)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2119320" y="299736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&gt;1) &amp; F(3,M/4)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924200" y="3718080"/>
            <a:ext cx="25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&gt;1) &amp; F(2,(M/4)/3)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1759320" y="447372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&gt;1) &amp; F(1,((M/4)/3)/2)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3165480" y="51944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1,1)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1331280" y="30337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1690560" y="3178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1186920" y="375444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546200" y="38988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1044000" y="454644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1403280" y="46911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2410920" y="5280120"/>
            <a:ext cx="42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2770200" y="54244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985840" y="260208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841480" y="33228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698560" y="411480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841480" y="483408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3701880" y="4333320"/>
            <a:ext cx="152280" cy="1152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209760" y="491976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with 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3669840" y="5159160"/>
            <a:ext cx="216000" cy="142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600 h 142920"/>
              <a:gd name="textAreaBottom" fmla="*/ 139320 h 1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3701880" y="3756960"/>
            <a:ext cx="152280" cy="72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3168360" y="41274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with 2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3634560" y="4042440"/>
            <a:ext cx="215640" cy="79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3701880" y="3182400"/>
            <a:ext cx="152280" cy="4320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128760" y="34084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with 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3562920" y="3466080"/>
            <a:ext cx="214200" cy="504720"/>
          </a:xfrm>
          <a:custGeom>
            <a:avLst/>
            <a:gdLst>
              <a:gd name="textAreaLeft" fmla="*/ 136800 w 214200"/>
              <a:gd name="textAreaRight" fmla="*/ 214560 w 21420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664800" y="2570400"/>
            <a:ext cx="153720" cy="216000"/>
          </a:xfrm>
          <a:custGeom>
            <a:avLst/>
            <a:gdLst>
              <a:gd name="textAreaLeft" fmla="*/ 98280 w 153720"/>
              <a:gd name="textAreaRight" fmla="*/ 154080 w 15372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3240720" y="268920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with 2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3567600" y="2896560"/>
            <a:ext cx="214200" cy="206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040 h 206280"/>
              <a:gd name="textAreaBottom" fmla="*/ 201240 h 20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5427360" y="4653000"/>
            <a:ext cx="1950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d: F(4,2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5213520" y="375444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ed computation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3849840" y="3322800"/>
            <a:ext cx="1441440" cy="50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4065480" y="3897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282920" y="3970440"/>
            <a:ext cx="93528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402480" y="1341360"/>
            <a:ext cx="835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mory allocation or release, no input or output... But again delaye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s make the particular functional pseudo code twice les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than the imperative o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4638600" y="5446800"/>
            <a:ext cx="447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: write logical pseudo cod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efficient as the imperative o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for Pseudo C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seudo code can be imperative, functional or logical, it can be high level or low level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mperative pseudo code may exploit abstract data types, high order concrete data types and polivariant control constructs. Nevertheless these data types and control construct must be easy to implement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rrectness, termination, and efficiency of pseudo code is non-trivial problem that requires special techniques and method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General recommendation: Do not rush to code your program!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tart with informal algorithm design decision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formalize it in terms of human-friendly high-level pseudo code and data structures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ptimize algorithm in terms of pseudo code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generate the code by refinement of the pseudo cod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n particular, for Dijkstra problem there are two (at least) choices for algorithm design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haustive search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heuristic search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: Exhaustive Searc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haustive search for Dijkstra Problem can be described at informal level as follows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n this informal algorithm “coupling” is any coupling by intervals fo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given points, a “good  coupling” is a coupling without intersection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is algorithm is too inefficient, since it obligatory generates and stores all possible N! couplings while we look for a single good one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256760" y="2540160"/>
            <a:ext cx="6622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value for N, and positions of all point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enerate all possible N! couplings for the given point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lect all good couplings among N! generated one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utput a good coupling (if any exists)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: Exhaustive Search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exhaustive search algorithm can be described at informa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as follows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eems that the improved informal exhaustive search algorithm just hides preliminary generation and storage of all possible coupling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907280" y="2565360"/>
            <a:ext cx="54705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value for N, and positions of all point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VAR X : coupling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very possible coupling X DO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X is good THEN {output X ; BREAK 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: Exhaustive Search (cont.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ined exhaustive search algorithm without preliminary coupling generation and without coupling storage is presented below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ortunately, it is not clear whether the algorithm ever terminates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2062440" y="2565360"/>
            <a:ext cx="51015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value for N, and positions of all point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VAR X : coupling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:= initial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X is not good DO X:=next(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: Heuristic Search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idea of the heuristic search for Dijkstra Problem is: start with some coupling and try to eliminate all local intersections.  This informal idea can be represented by the following pseudo code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where “initial” is a constant of coupling type, and “flip” is an operation that finds some intersection (if any) in the coupling and switches it off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206800" y="2722680"/>
            <a:ext cx="51015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value for N, and positions of all points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{ VAR X : coupling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:= initial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ILE !good(X) DO X:=flip(X);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: Heuristic Search (co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541080" y="3159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p: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565360"/>
            <a:ext cx="276696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2486160"/>
            <a:ext cx="2766960" cy="2382840"/>
          </a:xfrm>
          <a:custGeom>
            <a:avLst/>
            <a:gdLst/>
            <a:ahLst/>
            <a:rect l="l" t="t" r="r" b="b"/>
            <a:pathLst>
              <a:path w="1743" h="1501">
                <a:moveTo>
                  <a:pt x="144" y="233"/>
                </a:moveTo>
                <a:cubicBezTo>
                  <a:pt x="158" y="167"/>
                  <a:pt x="155" y="81"/>
                  <a:pt x="219" y="41"/>
                </a:cubicBezTo>
                <a:cubicBezTo>
                  <a:pt x="237" y="14"/>
                  <a:pt x="252" y="14"/>
                  <a:pt x="281" y="0"/>
                </a:cubicBezTo>
                <a:cubicBezTo>
                  <a:pt x="352" y="4"/>
                  <a:pt x="422" y="8"/>
                  <a:pt x="493" y="13"/>
                </a:cubicBezTo>
                <a:cubicBezTo>
                  <a:pt x="511" y="14"/>
                  <a:pt x="530" y="18"/>
                  <a:pt x="548" y="20"/>
                </a:cubicBezTo>
                <a:cubicBezTo>
                  <a:pt x="596" y="25"/>
                  <a:pt x="692" y="34"/>
                  <a:pt x="692" y="34"/>
                </a:cubicBezTo>
                <a:cubicBezTo>
                  <a:pt x="719" y="45"/>
                  <a:pt x="747" y="57"/>
                  <a:pt x="774" y="68"/>
                </a:cubicBezTo>
                <a:cubicBezTo>
                  <a:pt x="786" y="73"/>
                  <a:pt x="809" y="82"/>
                  <a:pt x="809" y="82"/>
                </a:cubicBezTo>
                <a:cubicBezTo>
                  <a:pt x="847" y="120"/>
                  <a:pt x="848" y="137"/>
                  <a:pt x="864" y="185"/>
                </a:cubicBezTo>
                <a:cubicBezTo>
                  <a:pt x="889" y="68"/>
                  <a:pt x="964" y="56"/>
                  <a:pt x="1069" y="48"/>
                </a:cubicBezTo>
                <a:cubicBezTo>
                  <a:pt x="1127" y="52"/>
                  <a:pt x="1184" y="54"/>
                  <a:pt x="1241" y="68"/>
                </a:cubicBezTo>
                <a:cubicBezTo>
                  <a:pt x="1250" y="83"/>
                  <a:pt x="1266" y="94"/>
                  <a:pt x="1275" y="109"/>
                </a:cubicBezTo>
                <a:cubicBezTo>
                  <a:pt x="1280" y="117"/>
                  <a:pt x="1278" y="128"/>
                  <a:pt x="1282" y="137"/>
                </a:cubicBezTo>
                <a:cubicBezTo>
                  <a:pt x="1285" y="144"/>
                  <a:pt x="1291" y="150"/>
                  <a:pt x="1296" y="157"/>
                </a:cubicBezTo>
                <a:cubicBezTo>
                  <a:pt x="1310" y="205"/>
                  <a:pt x="1363" y="222"/>
                  <a:pt x="1405" y="240"/>
                </a:cubicBezTo>
                <a:cubicBezTo>
                  <a:pt x="1414" y="244"/>
                  <a:pt x="1424" y="248"/>
                  <a:pt x="1433" y="253"/>
                </a:cubicBezTo>
                <a:cubicBezTo>
                  <a:pt x="1447" y="261"/>
                  <a:pt x="1474" y="281"/>
                  <a:pt x="1474" y="281"/>
                </a:cubicBezTo>
                <a:cubicBezTo>
                  <a:pt x="1492" y="311"/>
                  <a:pt x="1506" y="336"/>
                  <a:pt x="1515" y="370"/>
                </a:cubicBezTo>
                <a:cubicBezTo>
                  <a:pt x="1513" y="393"/>
                  <a:pt x="1514" y="416"/>
                  <a:pt x="1508" y="438"/>
                </a:cubicBezTo>
                <a:cubicBezTo>
                  <a:pt x="1485" y="520"/>
                  <a:pt x="1349" y="537"/>
                  <a:pt x="1282" y="548"/>
                </a:cubicBezTo>
                <a:cubicBezTo>
                  <a:pt x="1257" y="546"/>
                  <a:pt x="1230" y="549"/>
                  <a:pt x="1206" y="541"/>
                </a:cubicBezTo>
                <a:cubicBezTo>
                  <a:pt x="1195" y="537"/>
                  <a:pt x="1229" y="534"/>
                  <a:pt x="1241" y="534"/>
                </a:cubicBezTo>
                <a:cubicBezTo>
                  <a:pt x="1253" y="534"/>
                  <a:pt x="1264" y="539"/>
                  <a:pt x="1275" y="541"/>
                </a:cubicBezTo>
                <a:cubicBezTo>
                  <a:pt x="1398" y="595"/>
                  <a:pt x="1544" y="636"/>
                  <a:pt x="1632" y="747"/>
                </a:cubicBezTo>
                <a:cubicBezTo>
                  <a:pt x="1649" y="769"/>
                  <a:pt x="1688" y="842"/>
                  <a:pt x="1700" y="864"/>
                </a:cubicBezTo>
                <a:cubicBezTo>
                  <a:pt x="1709" y="903"/>
                  <a:pt x="1719" y="941"/>
                  <a:pt x="1728" y="980"/>
                </a:cubicBezTo>
                <a:cubicBezTo>
                  <a:pt x="1743" y="1040"/>
                  <a:pt x="1719" y="1104"/>
                  <a:pt x="1707" y="1165"/>
                </a:cubicBezTo>
                <a:cubicBezTo>
                  <a:pt x="1668" y="1366"/>
                  <a:pt x="1474" y="1424"/>
                  <a:pt x="1309" y="1474"/>
                </a:cubicBezTo>
                <a:cubicBezTo>
                  <a:pt x="1257" y="1472"/>
                  <a:pt x="1202" y="1483"/>
                  <a:pt x="1152" y="1467"/>
                </a:cubicBezTo>
                <a:cubicBezTo>
                  <a:pt x="1139" y="1463"/>
                  <a:pt x="1149" y="1437"/>
                  <a:pt x="1158" y="1426"/>
                </a:cubicBezTo>
                <a:cubicBezTo>
                  <a:pt x="1163" y="1420"/>
                  <a:pt x="1172" y="1431"/>
                  <a:pt x="1179" y="1433"/>
                </a:cubicBezTo>
                <a:cubicBezTo>
                  <a:pt x="1154" y="1480"/>
                  <a:pt x="1107" y="1494"/>
                  <a:pt x="1056" y="1501"/>
                </a:cubicBezTo>
                <a:cubicBezTo>
                  <a:pt x="902" y="1488"/>
                  <a:pt x="780" y="1481"/>
                  <a:pt x="637" y="1433"/>
                </a:cubicBezTo>
                <a:cubicBezTo>
                  <a:pt x="584" y="1415"/>
                  <a:pt x="529" y="1404"/>
                  <a:pt x="480" y="1378"/>
                </a:cubicBezTo>
                <a:cubicBezTo>
                  <a:pt x="446" y="1360"/>
                  <a:pt x="377" y="1323"/>
                  <a:pt x="377" y="1323"/>
                </a:cubicBezTo>
                <a:cubicBezTo>
                  <a:pt x="351" y="1291"/>
                  <a:pt x="327" y="1259"/>
                  <a:pt x="301" y="1227"/>
                </a:cubicBezTo>
                <a:cubicBezTo>
                  <a:pt x="292" y="1195"/>
                  <a:pt x="274" y="1151"/>
                  <a:pt x="294" y="1117"/>
                </a:cubicBezTo>
                <a:cubicBezTo>
                  <a:pt x="299" y="1108"/>
                  <a:pt x="368" y="1086"/>
                  <a:pt x="377" y="1083"/>
                </a:cubicBezTo>
                <a:cubicBezTo>
                  <a:pt x="404" y="1085"/>
                  <a:pt x="432" y="1083"/>
                  <a:pt x="459" y="1090"/>
                </a:cubicBezTo>
                <a:cubicBezTo>
                  <a:pt x="491" y="1098"/>
                  <a:pt x="483" y="1139"/>
                  <a:pt x="473" y="1158"/>
                </a:cubicBezTo>
                <a:cubicBezTo>
                  <a:pt x="465" y="1174"/>
                  <a:pt x="441" y="1181"/>
                  <a:pt x="425" y="1186"/>
                </a:cubicBezTo>
                <a:cubicBezTo>
                  <a:pt x="395" y="1184"/>
                  <a:pt x="365" y="1184"/>
                  <a:pt x="336" y="1179"/>
                </a:cubicBezTo>
                <a:cubicBezTo>
                  <a:pt x="307" y="1174"/>
                  <a:pt x="284" y="1152"/>
                  <a:pt x="260" y="1138"/>
                </a:cubicBezTo>
                <a:cubicBezTo>
                  <a:pt x="164" y="1082"/>
                  <a:pt x="104" y="1002"/>
                  <a:pt x="54" y="905"/>
                </a:cubicBezTo>
                <a:cubicBezTo>
                  <a:pt x="44" y="838"/>
                  <a:pt x="9" y="714"/>
                  <a:pt x="96" y="685"/>
                </a:cubicBezTo>
                <a:cubicBezTo>
                  <a:pt x="129" y="699"/>
                  <a:pt x="155" y="707"/>
                  <a:pt x="144" y="747"/>
                </a:cubicBezTo>
                <a:cubicBezTo>
                  <a:pt x="105" y="721"/>
                  <a:pt x="90" y="686"/>
                  <a:pt x="54" y="658"/>
                </a:cubicBezTo>
                <a:cubicBezTo>
                  <a:pt x="34" y="624"/>
                  <a:pt x="19" y="586"/>
                  <a:pt x="6" y="548"/>
                </a:cubicBezTo>
                <a:cubicBezTo>
                  <a:pt x="8" y="508"/>
                  <a:pt x="0" y="377"/>
                  <a:pt x="61" y="356"/>
                </a:cubicBezTo>
                <a:cubicBezTo>
                  <a:pt x="68" y="365"/>
                  <a:pt x="82" y="372"/>
                  <a:pt x="82" y="384"/>
                </a:cubicBezTo>
                <a:cubicBezTo>
                  <a:pt x="82" y="391"/>
                  <a:pt x="68" y="393"/>
                  <a:pt x="61" y="390"/>
                </a:cubicBezTo>
                <a:cubicBezTo>
                  <a:pt x="54" y="387"/>
                  <a:pt x="52" y="377"/>
                  <a:pt x="48" y="370"/>
                </a:cubicBezTo>
                <a:cubicBezTo>
                  <a:pt x="41" y="343"/>
                  <a:pt x="38" y="318"/>
                  <a:pt x="68" y="301"/>
                </a:cubicBezTo>
                <a:cubicBezTo>
                  <a:pt x="81" y="294"/>
                  <a:pt x="109" y="288"/>
                  <a:pt x="109" y="288"/>
                </a:cubicBezTo>
                <a:cubicBezTo>
                  <a:pt x="133" y="272"/>
                  <a:pt x="147" y="260"/>
                  <a:pt x="157" y="233"/>
                </a:cubicBezTo>
                <a:cubicBezTo>
                  <a:pt x="148" y="205"/>
                  <a:pt x="152" y="205"/>
                  <a:pt x="144" y="23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671360" y="302724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052720" y="306864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2924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386064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3716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3213000"/>
            <a:ext cx="936360" cy="503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2997360"/>
            <a:ext cx="648000" cy="863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6156360" y="306864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7451640" y="2924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6730920" y="386064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37162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877080" y="3789000"/>
            <a:ext cx="35892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00720" y="2997000"/>
            <a:ext cx="115092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3789360"/>
            <a:ext cx="1425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213080" y="41497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414828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781440" y="458136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221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39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7883640" y="37879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317080" y="4148280"/>
            <a:ext cx="1425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414648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7885080" y="4579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42195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7954920" y="3932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2637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32130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555640" y="2781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63700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321300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588000" y="278100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725400" y="5222880"/>
            <a:ext cx="78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c! Flip eliminates an intersection, but may introduce several new!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ijkstra Problem : Heuristic Search Exampl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1844640"/>
            <a:ext cx="4098960" cy="3346560"/>
          </a:xfrm>
          <a:custGeom>
            <a:avLst/>
            <a:gdLst/>
            <a:ahLst/>
            <a:rect l="l" t="t" r="r" b="b"/>
            <a:pathLst>
              <a:path w="2582" h="2108">
                <a:moveTo>
                  <a:pt x="316" y="633"/>
                </a:moveTo>
                <a:cubicBezTo>
                  <a:pt x="278" y="555"/>
                  <a:pt x="270" y="471"/>
                  <a:pt x="255" y="386"/>
                </a:cubicBezTo>
                <a:cubicBezTo>
                  <a:pt x="264" y="284"/>
                  <a:pt x="241" y="218"/>
                  <a:pt x="323" y="167"/>
                </a:cubicBezTo>
                <a:cubicBezTo>
                  <a:pt x="380" y="169"/>
                  <a:pt x="438" y="168"/>
                  <a:pt x="495" y="174"/>
                </a:cubicBezTo>
                <a:cubicBezTo>
                  <a:pt x="608" y="186"/>
                  <a:pt x="718" y="255"/>
                  <a:pt x="817" y="304"/>
                </a:cubicBezTo>
                <a:cubicBezTo>
                  <a:pt x="844" y="338"/>
                  <a:pt x="863" y="351"/>
                  <a:pt x="872" y="393"/>
                </a:cubicBezTo>
                <a:cubicBezTo>
                  <a:pt x="863" y="430"/>
                  <a:pt x="850" y="431"/>
                  <a:pt x="817" y="448"/>
                </a:cubicBezTo>
                <a:cubicBezTo>
                  <a:pt x="792" y="443"/>
                  <a:pt x="765" y="443"/>
                  <a:pt x="741" y="434"/>
                </a:cubicBezTo>
                <a:cubicBezTo>
                  <a:pt x="734" y="431"/>
                  <a:pt x="732" y="421"/>
                  <a:pt x="728" y="414"/>
                </a:cubicBezTo>
                <a:cubicBezTo>
                  <a:pt x="709" y="376"/>
                  <a:pt x="696" y="339"/>
                  <a:pt x="687" y="297"/>
                </a:cubicBezTo>
                <a:cubicBezTo>
                  <a:pt x="690" y="267"/>
                  <a:pt x="682" y="232"/>
                  <a:pt x="700" y="208"/>
                </a:cubicBezTo>
                <a:cubicBezTo>
                  <a:pt x="761" y="125"/>
                  <a:pt x="871" y="115"/>
                  <a:pt x="968" y="105"/>
                </a:cubicBezTo>
                <a:cubicBezTo>
                  <a:pt x="1111" y="110"/>
                  <a:pt x="1156" y="95"/>
                  <a:pt x="1269" y="133"/>
                </a:cubicBezTo>
                <a:cubicBezTo>
                  <a:pt x="1318" y="149"/>
                  <a:pt x="1413" y="188"/>
                  <a:pt x="1413" y="188"/>
                </a:cubicBezTo>
                <a:cubicBezTo>
                  <a:pt x="1468" y="235"/>
                  <a:pt x="1501" y="267"/>
                  <a:pt x="1516" y="338"/>
                </a:cubicBezTo>
                <a:cubicBezTo>
                  <a:pt x="1503" y="404"/>
                  <a:pt x="1477" y="381"/>
                  <a:pt x="1420" y="366"/>
                </a:cubicBezTo>
                <a:cubicBezTo>
                  <a:pt x="1373" y="330"/>
                  <a:pt x="1357" y="305"/>
                  <a:pt x="1338" y="249"/>
                </a:cubicBezTo>
                <a:cubicBezTo>
                  <a:pt x="1340" y="219"/>
                  <a:pt x="1340" y="189"/>
                  <a:pt x="1345" y="160"/>
                </a:cubicBezTo>
                <a:cubicBezTo>
                  <a:pt x="1363" y="60"/>
                  <a:pt x="1495" y="40"/>
                  <a:pt x="1571" y="23"/>
                </a:cubicBezTo>
                <a:cubicBezTo>
                  <a:pt x="1793" y="27"/>
                  <a:pt x="1893" y="0"/>
                  <a:pt x="2065" y="78"/>
                </a:cubicBezTo>
                <a:cubicBezTo>
                  <a:pt x="2125" y="105"/>
                  <a:pt x="2180" y="137"/>
                  <a:pt x="2216" y="194"/>
                </a:cubicBezTo>
                <a:cubicBezTo>
                  <a:pt x="2232" y="220"/>
                  <a:pt x="2257" y="277"/>
                  <a:pt x="2257" y="277"/>
                </a:cubicBezTo>
                <a:cubicBezTo>
                  <a:pt x="2255" y="327"/>
                  <a:pt x="2260" y="379"/>
                  <a:pt x="2250" y="428"/>
                </a:cubicBezTo>
                <a:cubicBezTo>
                  <a:pt x="2238" y="487"/>
                  <a:pt x="2170" y="586"/>
                  <a:pt x="2113" y="606"/>
                </a:cubicBezTo>
                <a:cubicBezTo>
                  <a:pt x="2219" y="524"/>
                  <a:pt x="2261" y="576"/>
                  <a:pt x="2449" y="585"/>
                </a:cubicBezTo>
                <a:cubicBezTo>
                  <a:pt x="2493" y="598"/>
                  <a:pt x="2526" y="608"/>
                  <a:pt x="2559" y="640"/>
                </a:cubicBezTo>
                <a:cubicBezTo>
                  <a:pt x="2582" y="746"/>
                  <a:pt x="2459" y="810"/>
                  <a:pt x="2380" y="853"/>
                </a:cubicBezTo>
                <a:cubicBezTo>
                  <a:pt x="2290" y="902"/>
                  <a:pt x="2194" y="922"/>
                  <a:pt x="2099" y="956"/>
                </a:cubicBezTo>
                <a:cubicBezTo>
                  <a:pt x="1977" y="1000"/>
                  <a:pt x="2034" y="995"/>
                  <a:pt x="1914" y="1024"/>
                </a:cubicBezTo>
                <a:cubicBezTo>
                  <a:pt x="1824" y="1046"/>
                  <a:pt x="1731" y="1056"/>
                  <a:pt x="1640" y="1072"/>
                </a:cubicBezTo>
                <a:cubicBezTo>
                  <a:pt x="1679" y="1074"/>
                  <a:pt x="1718" y="1072"/>
                  <a:pt x="1756" y="1079"/>
                </a:cubicBezTo>
                <a:cubicBezTo>
                  <a:pt x="1825" y="1092"/>
                  <a:pt x="1959" y="1167"/>
                  <a:pt x="2017" y="1209"/>
                </a:cubicBezTo>
                <a:cubicBezTo>
                  <a:pt x="2031" y="1219"/>
                  <a:pt x="2083" y="1275"/>
                  <a:pt x="2092" y="1292"/>
                </a:cubicBezTo>
                <a:cubicBezTo>
                  <a:pt x="2104" y="1313"/>
                  <a:pt x="2120" y="1360"/>
                  <a:pt x="2120" y="1360"/>
                </a:cubicBezTo>
                <a:cubicBezTo>
                  <a:pt x="2131" y="1437"/>
                  <a:pt x="2133" y="1429"/>
                  <a:pt x="2120" y="1538"/>
                </a:cubicBezTo>
                <a:cubicBezTo>
                  <a:pt x="2101" y="1691"/>
                  <a:pt x="1916" y="1760"/>
                  <a:pt x="1791" y="1792"/>
                </a:cubicBezTo>
                <a:cubicBezTo>
                  <a:pt x="1825" y="1799"/>
                  <a:pt x="1859" y="1804"/>
                  <a:pt x="1893" y="1813"/>
                </a:cubicBezTo>
                <a:cubicBezTo>
                  <a:pt x="1929" y="1836"/>
                  <a:pt x="1957" y="1848"/>
                  <a:pt x="1983" y="1881"/>
                </a:cubicBezTo>
                <a:cubicBezTo>
                  <a:pt x="2003" y="1951"/>
                  <a:pt x="1957" y="1987"/>
                  <a:pt x="1893" y="2005"/>
                </a:cubicBezTo>
                <a:cubicBezTo>
                  <a:pt x="1853" y="2016"/>
                  <a:pt x="1770" y="2032"/>
                  <a:pt x="1770" y="2032"/>
                </a:cubicBezTo>
                <a:cubicBezTo>
                  <a:pt x="1645" y="2019"/>
                  <a:pt x="1540" y="1999"/>
                  <a:pt x="1420" y="1977"/>
                </a:cubicBezTo>
                <a:cubicBezTo>
                  <a:pt x="1385" y="1961"/>
                  <a:pt x="1346" y="1952"/>
                  <a:pt x="1311" y="1936"/>
                </a:cubicBezTo>
                <a:cubicBezTo>
                  <a:pt x="1301" y="1931"/>
                  <a:pt x="1293" y="1922"/>
                  <a:pt x="1283" y="1916"/>
                </a:cubicBezTo>
                <a:cubicBezTo>
                  <a:pt x="1277" y="1913"/>
                  <a:pt x="1270" y="1911"/>
                  <a:pt x="1263" y="1909"/>
                </a:cubicBezTo>
                <a:cubicBezTo>
                  <a:pt x="1280" y="1832"/>
                  <a:pt x="1391" y="1882"/>
                  <a:pt x="1448" y="1888"/>
                </a:cubicBezTo>
                <a:cubicBezTo>
                  <a:pt x="1516" y="1918"/>
                  <a:pt x="1584" y="1950"/>
                  <a:pt x="1619" y="2018"/>
                </a:cubicBezTo>
                <a:cubicBezTo>
                  <a:pt x="1617" y="2034"/>
                  <a:pt x="1622" y="2053"/>
                  <a:pt x="1612" y="2066"/>
                </a:cubicBezTo>
                <a:cubicBezTo>
                  <a:pt x="1581" y="2105"/>
                  <a:pt x="1499" y="2102"/>
                  <a:pt x="1455" y="2108"/>
                </a:cubicBezTo>
                <a:cubicBezTo>
                  <a:pt x="1347" y="2106"/>
                  <a:pt x="1239" y="2108"/>
                  <a:pt x="1132" y="2101"/>
                </a:cubicBezTo>
                <a:cubicBezTo>
                  <a:pt x="1011" y="2093"/>
                  <a:pt x="895" y="2036"/>
                  <a:pt x="783" y="1998"/>
                </a:cubicBezTo>
                <a:cubicBezTo>
                  <a:pt x="573" y="1926"/>
                  <a:pt x="718" y="1990"/>
                  <a:pt x="543" y="1916"/>
                </a:cubicBezTo>
                <a:cubicBezTo>
                  <a:pt x="501" y="1898"/>
                  <a:pt x="419" y="1861"/>
                  <a:pt x="419" y="1861"/>
                </a:cubicBezTo>
                <a:cubicBezTo>
                  <a:pt x="349" y="1763"/>
                  <a:pt x="531" y="1701"/>
                  <a:pt x="604" y="1689"/>
                </a:cubicBezTo>
                <a:cubicBezTo>
                  <a:pt x="638" y="1683"/>
                  <a:pt x="707" y="1676"/>
                  <a:pt x="707" y="1676"/>
                </a:cubicBezTo>
                <a:cubicBezTo>
                  <a:pt x="739" y="1678"/>
                  <a:pt x="772" y="1674"/>
                  <a:pt x="803" y="1682"/>
                </a:cubicBezTo>
                <a:cubicBezTo>
                  <a:pt x="823" y="1687"/>
                  <a:pt x="809" y="1728"/>
                  <a:pt x="796" y="1744"/>
                </a:cubicBezTo>
                <a:cubicBezTo>
                  <a:pt x="774" y="1773"/>
                  <a:pt x="729" y="1769"/>
                  <a:pt x="700" y="1772"/>
                </a:cubicBezTo>
                <a:cubicBezTo>
                  <a:pt x="606" y="1766"/>
                  <a:pt x="532" y="1751"/>
                  <a:pt x="447" y="1710"/>
                </a:cubicBezTo>
                <a:cubicBezTo>
                  <a:pt x="404" y="1689"/>
                  <a:pt x="364" y="1664"/>
                  <a:pt x="323" y="1641"/>
                </a:cubicBezTo>
                <a:cubicBezTo>
                  <a:pt x="302" y="1630"/>
                  <a:pt x="261" y="1607"/>
                  <a:pt x="261" y="1607"/>
                </a:cubicBezTo>
                <a:cubicBezTo>
                  <a:pt x="221" y="1561"/>
                  <a:pt x="180" y="1520"/>
                  <a:pt x="145" y="1470"/>
                </a:cubicBezTo>
                <a:cubicBezTo>
                  <a:pt x="136" y="1440"/>
                  <a:pt x="116" y="1412"/>
                  <a:pt x="117" y="1381"/>
                </a:cubicBezTo>
                <a:cubicBezTo>
                  <a:pt x="120" y="1304"/>
                  <a:pt x="131" y="1211"/>
                  <a:pt x="213" y="1182"/>
                </a:cubicBezTo>
                <a:cubicBezTo>
                  <a:pt x="250" y="1235"/>
                  <a:pt x="201" y="1203"/>
                  <a:pt x="186" y="1189"/>
                </a:cubicBezTo>
                <a:cubicBezTo>
                  <a:pt x="166" y="1129"/>
                  <a:pt x="147" y="1069"/>
                  <a:pt x="124" y="1010"/>
                </a:cubicBezTo>
                <a:cubicBezTo>
                  <a:pt x="130" y="937"/>
                  <a:pt x="126" y="891"/>
                  <a:pt x="200" y="866"/>
                </a:cubicBezTo>
                <a:cubicBezTo>
                  <a:pt x="293" y="880"/>
                  <a:pt x="312" y="862"/>
                  <a:pt x="296" y="942"/>
                </a:cubicBezTo>
                <a:cubicBezTo>
                  <a:pt x="178" y="934"/>
                  <a:pt x="71" y="922"/>
                  <a:pt x="15" y="805"/>
                </a:cubicBezTo>
                <a:cubicBezTo>
                  <a:pt x="5" y="748"/>
                  <a:pt x="0" y="682"/>
                  <a:pt x="63" y="661"/>
                </a:cubicBezTo>
                <a:cubicBezTo>
                  <a:pt x="128" y="666"/>
                  <a:pt x="179" y="675"/>
                  <a:pt x="241" y="688"/>
                </a:cubicBezTo>
                <a:cubicBezTo>
                  <a:pt x="239" y="697"/>
                  <a:pt x="230" y="725"/>
                  <a:pt x="234" y="716"/>
                </a:cubicBezTo>
                <a:cubicBezTo>
                  <a:pt x="259" y="666"/>
                  <a:pt x="242" y="669"/>
                  <a:pt x="296" y="633"/>
                </a:cubicBezTo>
                <a:cubicBezTo>
                  <a:pt x="304" y="665"/>
                  <a:pt x="303" y="651"/>
                  <a:pt x="303" y="674"/>
                </a:cubicBezTo>
                <a:lnTo>
                  <a:pt x="316" y="63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276640"/>
            <a:ext cx="14436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3346560" y="4078440"/>
            <a:ext cx="14436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31399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709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50028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42940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5280" y="3212640"/>
            <a:ext cx="2879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58920" y="2421000"/>
            <a:ext cx="216000" cy="187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2852640"/>
            <a:ext cx="2592360" cy="12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937040" y="1954080"/>
            <a:ext cx="4098960" cy="3346560"/>
          </a:xfrm>
          <a:custGeom>
            <a:avLst/>
            <a:gdLst/>
            <a:ahLst/>
            <a:rect l="l" t="t" r="r" b="b"/>
            <a:pathLst>
              <a:path w="2582" h="2108">
                <a:moveTo>
                  <a:pt x="316" y="633"/>
                </a:moveTo>
                <a:cubicBezTo>
                  <a:pt x="278" y="555"/>
                  <a:pt x="270" y="471"/>
                  <a:pt x="255" y="386"/>
                </a:cubicBezTo>
                <a:cubicBezTo>
                  <a:pt x="264" y="284"/>
                  <a:pt x="241" y="218"/>
                  <a:pt x="323" y="167"/>
                </a:cubicBezTo>
                <a:cubicBezTo>
                  <a:pt x="380" y="169"/>
                  <a:pt x="438" y="168"/>
                  <a:pt x="495" y="174"/>
                </a:cubicBezTo>
                <a:cubicBezTo>
                  <a:pt x="608" y="186"/>
                  <a:pt x="718" y="255"/>
                  <a:pt x="817" y="304"/>
                </a:cubicBezTo>
                <a:cubicBezTo>
                  <a:pt x="844" y="338"/>
                  <a:pt x="863" y="351"/>
                  <a:pt x="872" y="393"/>
                </a:cubicBezTo>
                <a:cubicBezTo>
                  <a:pt x="863" y="430"/>
                  <a:pt x="850" y="431"/>
                  <a:pt x="817" y="448"/>
                </a:cubicBezTo>
                <a:cubicBezTo>
                  <a:pt x="792" y="443"/>
                  <a:pt x="765" y="443"/>
                  <a:pt x="741" y="434"/>
                </a:cubicBezTo>
                <a:cubicBezTo>
                  <a:pt x="734" y="431"/>
                  <a:pt x="732" y="421"/>
                  <a:pt x="728" y="414"/>
                </a:cubicBezTo>
                <a:cubicBezTo>
                  <a:pt x="709" y="376"/>
                  <a:pt x="696" y="339"/>
                  <a:pt x="687" y="297"/>
                </a:cubicBezTo>
                <a:cubicBezTo>
                  <a:pt x="690" y="267"/>
                  <a:pt x="682" y="232"/>
                  <a:pt x="700" y="208"/>
                </a:cubicBezTo>
                <a:cubicBezTo>
                  <a:pt x="761" y="125"/>
                  <a:pt x="871" y="115"/>
                  <a:pt x="968" y="105"/>
                </a:cubicBezTo>
                <a:cubicBezTo>
                  <a:pt x="1111" y="110"/>
                  <a:pt x="1156" y="95"/>
                  <a:pt x="1269" y="133"/>
                </a:cubicBezTo>
                <a:cubicBezTo>
                  <a:pt x="1318" y="149"/>
                  <a:pt x="1413" y="188"/>
                  <a:pt x="1413" y="188"/>
                </a:cubicBezTo>
                <a:cubicBezTo>
                  <a:pt x="1468" y="235"/>
                  <a:pt x="1501" y="267"/>
                  <a:pt x="1516" y="338"/>
                </a:cubicBezTo>
                <a:cubicBezTo>
                  <a:pt x="1503" y="404"/>
                  <a:pt x="1477" y="381"/>
                  <a:pt x="1420" y="366"/>
                </a:cubicBezTo>
                <a:cubicBezTo>
                  <a:pt x="1373" y="330"/>
                  <a:pt x="1357" y="305"/>
                  <a:pt x="1338" y="249"/>
                </a:cubicBezTo>
                <a:cubicBezTo>
                  <a:pt x="1340" y="219"/>
                  <a:pt x="1340" y="189"/>
                  <a:pt x="1345" y="160"/>
                </a:cubicBezTo>
                <a:cubicBezTo>
                  <a:pt x="1363" y="60"/>
                  <a:pt x="1495" y="40"/>
                  <a:pt x="1571" y="23"/>
                </a:cubicBezTo>
                <a:cubicBezTo>
                  <a:pt x="1793" y="27"/>
                  <a:pt x="1893" y="0"/>
                  <a:pt x="2065" y="78"/>
                </a:cubicBezTo>
                <a:cubicBezTo>
                  <a:pt x="2125" y="105"/>
                  <a:pt x="2180" y="137"/>
                  <a:pt x="2216" y="194"/>
                </a:cubicBezTo>
                <a:cubicBezTo>
                  <a:pt x="2232" y="220"/>
                  <a:pt x="2257" y="277"/>
                  <a:pt x="2257" y="277"/>
                </a:cubicBezTo>
                <a:cubicBezTo>
                  <a:pt x="2255" y="327"/>
                  <a:pt x="2260" y="379"/>
                  <a:pt x="2250" y="428"/>
                </a:cubicBezTo>
                <a:cubicBezTo>
                  <a:pt x="2238" y="487"/>
                  <a:pt x="2170" y="586"/>
                  <a:pt x="2113" y="606"/>
                </a:cubicBezTo>
                <a:cubicBezTo>
                  <a:pt x="2219" y="524"/>
                  <a:pt x="2261" y="576"/>
                  <a:pt x="2449" y="585"/>
                </a:cubicBezTo>
                <a:cubicBezTo>
                  <a:pt x="2493" y="598"/>
                  <a:pt x="2526" y="608"/>
                  <a:pt x="2559" y="640"/>
                </a:cubicBezTo>
                <a:cubicBezTo>
                  <a:pt x="2582" y="746"/>
                  <a:pt x="2459" y="810"/>
                  <a:pt x="2380" y="853"/>
                </a:cubicBezTo>
                <a:cubicBezTo>
                  <a:pt x="2290" y="902"/>
                  <a:pt x="2194" y="922"/>
                  <a:pt x="2099" y="956"/>
                </a:cubicBezTo>
                <a:cubicBezTo>
                  <a:pt x="1977" y="1000"/>
                  <a:pt x="2034" y="995"/>
                  <a:pt x="1914" y="1024"/>
                </a:cubicBezTo>
                <a:cubicBezTo>
                  <a:pt x="1824" y="1046"/>
                  <a:pt x="1731" y="1056"/>
                  <a:pt x="1640" y="1072"/>
                </a:cubicBezTo>
                <a:cubicBezTo>
                  <a:pt x="1679" y="1074"/>
                  <a:pt x="1718" y="1072"/>
                  <a:pt x="1756" y="1079"/>
                </a:cubicBezTo>
                <a:cubicBezTo>
                  <a:pt x="1825" y="1092"/>
                  <a:pt x="1959" y="1167"/>
                  <a:pt x="2017" y="1209"/>
                </a:cubicBezTo>
                <a:cubicBezTo>
                  <a:pt x="2031" y="1219"/>
                  <a:pt x="2083" y="1275"/>
                  <a:pt x="2092" y="1292"/>
                </a:cubicBezTo>
                <a:cubicBezTo>
                  <a:pt x="2104" y="1313"/>
                  <a:pt x="2120" y="1360"/>
                  <a:pt x="2120" y="1360"/>
                </a:cubicBezTo>
                <a:cubicBezTo>
                  <a:pt x="2131" y="1437"/>
                  <a:pt x="2133" y="1429"/>
                  <a:pt x="2120" y="1538"/>
                </a:cubicBezTo>
                <a:cubicBezTo>
                  <a:pt x="2101" y="1691"/>
                  <a:pt x="1916" y="1760"/>
                  <a:pt x="1791" y="1792"/>
                </a:cubicBezTo>
                <a:cubicBezTo>
                  <a:pt x="1825" y="1799"/>
                  <a:pt x="1859" y="1804"/>
                  <a:pt x="1893" y="1813"/>
                </a:cubicBezTo>
                <a:cubicBezTo>
                  <a:pt x="1929" y="1836"/>
                  <a:pt x="1957" y="1848"/>
                  <a:pt x="1983" y="1881"/>
                </a:cubicBezTo>
                <a:cubicBezTo>
                  <a:pt x="2003" y="1951"/>
                  <a:pt x="1957" y="1987"/>
                  <a:pt x="1893" y="2005"/>
                </a:cubicBezTo>
                <a:cubicBezTo>
                  <a:pt x="1853" y="2016"/>
                  <a:pt x="1770" y="2032"/>
                  <a:pt x="1770" y="2032"/>
                </a:cubicBezTo>
                <a:cubicBezTo>
                  <a:pt x="1645" y="2019"/>
                  <a:pt x="1540" y="1999"/>
                  <a:pt x="1420" y="1977"/>
                </a:cubicBezTo>
                <a:cubicBezTo>
                  <a:pt x="1385" y="1961"/>
                  <a:pt x="1346" y="1952"/>
                  <a:pt x="1311" y="1936"/>
                </a:cubicBezTo>
                <a:cubicBezTo>
                  <a:pt x="1301" y="1931"/>
                  <a:pt x="1293" y="1922"/>
                  <a:pt x="1283" y="1916"/>
                </a:cubicBezTo>
                <a:cubicBezTo>
                  <a:pt x="1277" y="1913"/>
                  <a:pt x="1270" y="1911"/>
                  <a:pt x="1263" y="1909"/>
                </a:cubicBezTo>
                <a:cubicBezTo>
                  <a:pt x="1280" y="1832"/>
                  <a:pt x="1391" y="1882"/>
                  <a:pt x="1448" y="1888"/>
                </a:cubicBezTo>
                <a:cubicBezTo>
                  <a:pt x="1516" y="1918"/>
                  <a:pt x="1584" y="1950"/>
                  <a:pt x="1619" y="2018"/>
                </a:cubicBezTo>
                <a:cubicBezTo>
                  <a:pt x="1617" y="2034"/>
                  <a:pt x="1622" y="2053"/>
                  <a:pt x="1612" y="2066"/>
                </a:cubicBezTo>
                <a:cubicBezTo>
                  <a:pt x="1581" y="2105"/>
                  <a:pt x="1499" y="2102"/>
                  <a:pt x="1455" y="2108"/>
                </a:cubicBezTo>
                <a:cubicBezTo>
                  <a:pt x="1347" y="2106"/>
                  <a:pt x="1239" y="2108"/>
                  <a:pt x="1132" y="2101"/>
                </a:cubicBezTo>
                <a:cubicBezTo>
                  <a:pt x="1011" y="2093"/>
                  <a:pt x="895" y="2036"/>
                  <a:pt x="783" y="1998"/>
                </a:cubicBezTo>
                <a:cubicBezTo>
                  <a:pt x="573" y="1926"/>
                  <a:pt x="718" y="1990"/>
                  <a:pt x="543" y="1916"/>
                </a:cubicBezTo>
                <a:cubicBezTo>
                  <a:pt x="501" y="1898"/>
                  <a:pt x="419" y="1861"/>
                  <a:pt x="419" y="1861"/>
                </a:cubicBezTo>
                <a:cubicBezTo>
                  <a:pt x="349" y="1763"/>
                  <a:pt x="531" y="1701"/>
                  <a:pt x="604" y="1689"/>
                </a:cubicBezTo>
                <a:cubicBezTo>
                  <a:pt x="638" y="1683"/>
                  <a:pt x="707" y="1676"/>
                  <a:pt x="707" y="1676"/>
                </a:cubicBezTo>
                <a:cubicBezTo>
                  <a:pt x="739" y="1678"/>
                  <a:pt x="772" y="1674"/>
                  <a:pt x="803" y="1682"/>
                </a:cubicBezTo>
                <a:cubicBezTo>
                  <a:pt x="823" y="1687"/>
                  <a:pt x="809" y="1728"/>
                  <a:pt x="796" y="1744"/>
                </a:cubicBezTo>
                <a:cubicBezTo>
                  <a:pt x="774" y="1773"/>
                  <a:pt x="729" y="1769"/>
                  <a:pt x="700" y="1772"/>
                </a:cubicBezTo>
                <a:cubicBezTo>
                  <a:pt x="606" y="1766"/>
                  <a:pt x="532" y="1751"/>
                  <a:pt x="447" y="1710"/>
                </a:cubicBezTo>
                <a:cubicBezTo>
                  <a:pt x="404" y="1689"/>
                  <a:pt x="364" y="1664"/>
                  <a:pt x="323" y="1641"/>
                </a:cubicBezTo>
                <a:cubicBezTo>
                  <a:pt x="302" y="1630"/>
                  <a:pt x="261" y="1607"/>
                  <a:pt x="261" y="1607"/>
                </a:cubicBezTo>
                <a:cubicBezTo>
                  <a:pt x="221" y="1561"/>
                  <a:pt x="180" y="1520"/>
                  <a:pt x="145" y="1470"/>
                </a:cubicBezTo>
                <a:cubicBezTo>
                  <a:pt x="136" y="1440"/>
                  <a:pt x="116" y="1412"/>
                  <a:pt x="117" y="1381"/>
                </a:cubicBezTo>
                <a:cubicBezTo>
                  <a:pt x="120" y="1304"/>
                  <a:pt x="131" y="1211"/>
                  <a:pt x="213" y="1182"/>
                </a:cubicBezTo>
                <a:cubicBezTo>
                  <a:pt x="250" y="1235"/>
                  <a:pt x="201" y="1203"/>
                  <a:pt x="186" y="1189"/>
                </a:cubicBezTo>
                <a:cubicBezTo>
                  <a:pt x="166" y="1129"/>
                  <a:pt x="147" y="1069"/>
                  <a:pt x="124" y="1010"/>
                </a:cubicBezTo>
                <a:cubicBezTo>
                  <a:pt x="130" y="937"/>
                  <a:pt x="126" y="891"/>
                  <a:pt x="200" y="866"/>
                </a:cubicBezTo>
                <a:cubicBezTo>
                  <a:pt x="293" y="880"/>
                  <a:pt x="312" y="862"/>
                  <a:pt x="296" y="942"/>
                </a:cubicBezTo>
                <a:cubicBezTo>
                  <a:pt x="178" y="934"/>
                  <a:pt x="71" y="922"/>
                  <a:pt x="15" y="805"/>
                </a:cubicBezTo>
                <a:cubicBezTo>
                  <a:pt x="5" y="748"/>
                  <a:pt x="0" y="682"/>
                  <a:pt x="63" y="661"/>
                </a:cubicBezTo>
                <a:cubicBezTo>
                  <a:pt x="128" y="666"/>
                  <a:pt x="179" y="675"/>
                  <a:pt x="241" y="688"/>
                </a:cubicBezTo>
                <a:cubicBezTo>
                  <a:pt x="239" y="697"/>
                  <a:pt x="230" y="725"/>
                  <a:pt x="234" y="716"/>
                </a:cubicBezTo>
                <a:cubicBezTo>
                  <a:pt x="259" y="666"/>
                  <a:pt x="242" y="669"/>
                  <a:pt x="296" y="633"/>
                </a:cubicBezTo>
                <a:cubicBezTo>
                  <a:pt x="304" y="665"/>
                  <a:pt x="303" y="651"/>
                  <a:pt x="303" y="674"/>
                </a:cubicBezTo>
                <a:lnTo>
                  <a:pt x="316" y="63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6305400" y="238608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8248680" y="418788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8177040" y="3249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513400" y="28195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5153040" y="361008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089760" y="44038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297400" y="3322800"/>
            <a:ext cx="2879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580000" y="2530440"/>
            <a:ext cx="797040" cy="3222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27640" y="4292280"/>
            <a:ext cx="201636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187160" y="302724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212360" y="314172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i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52320" y="5583240"/>
            <a:ext cx="79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initial coupling discussed in the exhaustive search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uristic search algorithm terminates in 1 step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08:24:14Z</dcterms:created>
  <dc:creator>ec</dc:creator>
  <dc:description/>
  <dc:language>en-US</dc:language>
  <cp:lastModifiedBy>admin</cp:lastModifiedBy>
  <dcterms:modified xsi:type="dcterms:W3CDTF">2008-02-21T07:17:33Z</dcterms:modified>
  <cp:revision>96</cp:revision>
  <dc:subject/>
  <dc:title>슬라이드 1</dc:title>
</cp:coreProperties>
</file>