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ED2-7BD7-4E3A-8F1E-3DEF760A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F76-DE4B-427C-B14C-1D68A8C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279-1641-475D-90BB-110B6C5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9AB-C5D5-4DA6-8F90-34054BF6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830-CD17-446B-9D2E-77E373E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EFE-A936-40D6-9E73-2B858B2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D12-0292-4408-98A6-B8925372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DF1-8619-4EC4-89F3-C8EECFAE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EBE-09DD-4B3E-866B-58D82696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14A-09B3-4E2F-87E9-50364B4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925-7406-404C-8816-C304998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E1D-D7A5-41F2-82FA-FF7EA10C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CED-F9EF-458B-889E-42850721591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программирования алгоритмов для 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4: Основы языка программ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и операторы, блоки и организация ите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ple exercis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ello!”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Hello CAU!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xample – “The largest Common Deviser (LCD) for 24384 and 48342 is 6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3938400"/>
            <a:ext cx="4038480" cy="22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main( ) {int x=24384, y=4834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int LCD; LCD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"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The largest Common Deviser (LCD) for %d and %d 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%d\n",x,y,LCD); }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ple exercis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most important formats for output are presented at r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Hello!\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%s\n”, “Hello!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%c%c%c%c%c%c\n”, ‘H’, ‘e’, ‘l’, ‘l’, ‘o’, ‘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%d%d%d%d%d%d%\n”, ‘H’, ‘e’, ‘l’, ‘l’, ‘o’, ‘!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3320"/>
                <a:gridCol w="1081080"/>
                <a:gridCol w="19540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yp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%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%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ingle 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%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loa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%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loating 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%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ring of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ple exercis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amine size of all arithmetic types in your computer. Examine size of all pointer to arithmetic types in your compu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clare a variable that comprise fields for family name, given name, age and student number. Assign this variable your data.  Print out this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y to violate some (2-5) of typing rules, exercise these “programs” and report what is violations and outcome of computer exerc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ment to Homework Comput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t is recommended to use Microsof Visual C++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or every your test proceed as foll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en a new source C++ file for your test program, name it with extension “c”. Write you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mpile it. (Accept default project and work space.) Then build it. (It is a kind of magic at your present stage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rcise your test and report test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ose your test and work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terative Control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quencing, Branching,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ructured Programming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control construct is a syntactic unit of a programming language that determines control flow (sequence of instructions). A structured approach is based on control constructs with  single (at most) entrance and single (at most) exit control flow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 permits the structured programming through sequencing as a default, branching through “if” and “switch” statements, iterations through “for”, “while” and “do” loop statements, and recursion through function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C any statement can appear at any position for operator, any function call can appear in any position for expression of the appropriat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F” Branching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hort form of “if” control statement i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f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an expression of an integer type. In a program, if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gets nonzero value, then the program executes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; otherwise the program just skip it and passes control to the next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other form of “if” control statemen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f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as above. In a program, if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gets nonzero value, then the program executes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otherwise it executes the compound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then the program passes control to the next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WITCH” Branching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witch statement allows choice among multiple alterna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witch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{   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and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…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are of integer types. The value of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valuated and matched with the values of 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…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n accordance with their order. As soon as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matches som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the program execution continues from the appropriat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. Otherwise the default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WITCH” Branching Statemen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choice  = 1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witch ( choice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1 : i = 1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2 : i = 3 ;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굴림"/>
              </a:rPr>
              <a:t>break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3 : i = 10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efault : i = 1 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choice  = 1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witch ( choice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1 : i = 1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2 : i = 3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 3 : i = 100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efault : i = 1 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 soon as “condition” matches some alternative, there is an option to skip a “reminder” of the “switch” by mean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굴림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statement. The statement causes control to leave the “switch” and go to the next statement that follows the closing br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00280"/>
            <a:ext cx="2136960" cy="2089080"/>
          </a:xfrm>
          <a:custGeom>
            <a:avLst/>
            <a:gdLst/>
            <a:ahLst/>
            <a:rect l="l" t="t" r="r" b="b"/>
            <a:pathLst>
              <a:path w="1346" h="1316">
                <a:moveTo>
                  <a:pt x="234" y="0"/>
                </a:moveTo>
                <a:cubicBezTo>
                  <a:pt x="211" y="189"/>
                  <a:pt x="189" y="378"/>
                  <a:pt x="234" y="454"/>
                </a:cubicBezTo>
                <a:cubicBezTo>
                  <a:pt x="279" y="530"/>
                  <a:pt x="356" y="454"/>
                  <a:pt x="507" y="454"/>
                </a:cubicBezTo>
                <a:cubicBezTo>
                  <a:pt x="658" y="454"/>
                  <a:pt x="1029" y="401"/>
                  <a:pt x="1142" y="454"/>
                </a:cubicBezTo>
                <a:cubicBezTo>
                  <a:pt x="1255" y="507"/>
                  <a:pt x="1346" y="718"/>
                  <a:pt x="1187" y="771"/>
                </a:cubicBezTo>
                <a:cubicBezTo>
                  <a:pt x="1028" y="824"/>
                  <a:pt x="378" y="680"/>
                  <a:pt x="189" y="771"/>
                </a:cubicBezTo>
                <a:cubicBezTo>
                  <a:pt x="0" y="862"/>
                  <a:pt x="76" y="1225"/>
                  <a:pt x="53" y="1316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64240" y="1700280"/>
            <a:ext cx="1942920" cy="2016000"/>
          </a:xfrm>
          <a:custGeom>
            <a:avLst/>
            <a:gdLst/>
            <a:ahLst/>
            <a:rect l="l" t="t" r="r" b="b"/>
            <a:pathLst>
              <a:path w="1224" h="1270">
                <a:moveTo>
                  <a:pt x="106" y="0"/>
                </a:moveTo>
                <a:cubicBezTo>
                  <a:pt x="53" y="204"/>
                  <a:pt x="0" y="408"/>
                  <a:pt x="106" y="499"/>
                </a:cubicBezTo>
                <a:cubicBezTo>
                  <a:pt x="212" y="590"/>
                  <a:pt x="567" y="537"/>
                  <a:pt x="741" y="545"/>
                </a:cubicBezTo>
                <a:cubicBezTo>
                  <a:pt x="915" y="553"/>
                  <a:pt x="1074" y="424"/>
                  <a:pt x="1149" y="545"/>
                </a:cubicBezTo>
                <a:cubicBezTo>
                  <a:pt x="1224" y="666"/>
                  <a:pt x="1187" y="1149"/>
                  <a:pt x="1194" y="127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WITCH” Branching Statemen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ually switch stat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 be “simulated” by nested “if” statements, ex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switch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{ 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(almost always) equivale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f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=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 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;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else { if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=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value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{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1" lang="en-US" sz="2000" spc="-1" strike="noStrike" baseline="-25000">
                <a:solidFill>
                  <a:srgbClr val="009999"/>
                </a:solidFill>
                <a:latin typeface="Arial"/>
                <a:ea typeface="굴림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implies that switches are syntactical sugar as soon as we are interested in input-output of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программирования алгоритмов для 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4: Основы языка программ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и операторы, бло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ите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ILE” Loop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most common form of  the “while” control statemen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whil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an expression of an integer type.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iterated as long as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holds (i.e. has nonzero value)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굴림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ach iteration; if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does not holds (i.e. has nonzero value) then the execution continues at the next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culation of sum of the series 100+99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+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x, sum; x = 100; sum = 0; while (x &gt; 0) {sum += x--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ILE” Loop Statemen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lternative form of  the “while” control statement is “do” lo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o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while 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as above. The “do” loop differs from “while”:  in that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valuated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굴림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ach it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” loop can be “simulated” by “while” loo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whil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implies that “do” loop is a syntactical s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culation of sum of the series 100+99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+1+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x, sum; x = 100; sum = 0; do sum += x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while (x--&gt;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OR” Loop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or” loop is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fo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, and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are expressions (empty maybe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f Integer ty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valuated once at the beginning of loop execution. Then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valuated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굴림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ach iteration; if it gives nonzero value then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xecuted; finally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is evaluated. These sequence of actions is iterated until the value of the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get become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culation of sum of the series 100+99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+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i = 100, sum = 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for (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i &gt; 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i-- )  sum += i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culation of sum of the series 100+99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+1+0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nt i = 100, su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for ( sum=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i-- &gt; 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sum+=i ){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OR” Loop Statement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uall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for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 be “simulated” by “while” loop for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while (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) 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tateme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ncr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a fresh variable (i.e. that has not been used in the program). It implies that “for” loop is a syntactical sugar as soon as we are interested in input-output of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terative Structured Programming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tructured approach is based on control constructs with  single (at most) entrance and single (at most) exit control flow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erative approach to algorithm design is based on control construct that are able iterate (i.e. repeat) some process a number of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 supports iterative structured programming through sequencing (as a default), branching (“if” and “switch” statements), looping (“for”, “while” and “do” statemen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굴림"/>
              </a:rPr>
              <a:t>(Recursion via functions is structural but not iterative programming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ton Method Made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ume we have to compute approximate value of      .  Then we can proceed in the following man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et X denote the perfect irrational value. Unfortunately, we do not know this value, but know some (rough maybe) approximatio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e.g., 1) Then we can w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 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 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s a some ‘small’ value in comparison wit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e.g. i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=1 then 0&lt; D &lt;0.5). Since X=      , then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=2. It implies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 +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=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nce D is some ‘small’ in comparison wit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hen 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s very small in comparison wit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with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. Hence we can convert the last equality to the following approximate ‘equality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10040" y="4076640"/>
                <a:ext cx="417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315120" y="1844640"/>
                <a:ext cx="417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et us convert the above approximate equality to eq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solve it with respect to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subject to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0)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=  (2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/ 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n let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let us iterate the abov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t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stead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stead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……………………………………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et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let us iterate the abov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th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stead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stead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il a satisfactory preci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us we come to the following iterative process for computing approximate value of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rt with some initial approximate valu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n iterate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:=  (2 –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/ 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,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=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+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ntil a satisfactory precis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low is a real run of this process (with precision 3 digits after poi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401920" y="3938760"/>
            <a:ext cx="4475160" cy="2187360"/>
            <a:chOff x="2401920" y="3938760"/>
            <a:chExt cx="4475160" cy="2187360"/>
          </a:xfrm>
        </p:grpSpPr>
        <p:sp>
          <p:nvSpPr>
            <p:cNvPr id="114" name=""/>
            <p:cNvSpPr/>
            <p:nvPr/>
          </p:nvSpPr>
          <p:spPr>
            <a:xfrm>
              <a:off x="5758200" y="56880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39320" y="56880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0.0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20440" y="56880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.4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1920" y="56880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8200" y="5251320"/>
              <a:ext cx="1118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-0.0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39320" y="5251320"/>
              <a:ext cx="1118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-0.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0440" y="5251320"/>
              <a:ext cx="1118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.4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01920" y="5251320"/>
              <a:ext cx="1118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58200" y="48132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-0.0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39320" y="48132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-0.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20440" y="48132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1920" y="481320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58200" y="4376880"/>
              <a:ext cx="11185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39320" y="4376880"/>
              <a:ext cx="11185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0440" y="4376880"/>
              <a:ext cx="11185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920" y="4376880"/>
              <a:ext cx="11185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8200" y="393876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39320" y="393876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 – 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굴림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0440" y="393876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01920" y="3938760"/>
              <a:ext cx="1118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01920" y="3938760"/>
              <a:ext cx="4475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01920" y="4376880"/>
              <a:ext cx="44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1920" y="4813200"/>
              <a:ext cx="44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01920" y="5251320"/>
              <a:ext cx="44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01920" y="5688000"/>
              <a:ext cx="44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01920" y="6126120"/>
              <a:ext cx="4475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192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044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932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58200" y="3938760"/>
              <a:ext cx="0" cy="21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77080" y="3938760"/>
              <a:ext cx="0" cy="2187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90760" y="1903320"/>
                <a:ext cx="4176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liminary algorithm 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st A=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ar X, D : 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:= initial approxim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f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0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{D:= (A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/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) ; X:= X + 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lse through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il  precision is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should be initial approxi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does it mean that precision is g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to avoid exceptional situation X = 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blem sol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or A&gt; 1 initial approximation may be 1 or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cision may be measured by |D| or by |A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|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above setting X = 0 never happe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variant of final design for any A&gt;1 and E&gt;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st A, E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ar X, D : Real numb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: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 D:= (A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/(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) ; X:= X +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il  |A –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| &lt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ignment: Operation and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ment is the most specific feature of all imperative languages. It provides opportunity to update explicitly values in memory locations. It is possible to clai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IMERATIVE = ASSIGNMENTS +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most common form of assignment operation in C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Left_Hand_S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=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Right_Hand_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L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s component of an array, a field of a structure, dereferenced    pointer variable, and a variable of  any type but array (i.e., structure is OK;-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R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s an expression but of the same type as th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L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(while implicit type  casting can be applied;-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ition of 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” converts assignment operation to assignment operat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ample of Iterative Program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variant of C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define A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define E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float x, d, ab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x=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do { d= (A - x*x)/(2*x); x=x+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abs= A-x*x; if (abs &lt; 0) abs= -abs;} while (abs&gt;=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printf(“Approximate square root of %f is %f. ", A,x)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ignment: Operation and Operator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ome “auxiliary” assignment operations are admissible too for numeric types (see table for examp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ually these auxiliary assignments can be treated as a “syntactic sugar”(;-) but with a bitter taste :-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8880"/>
                <a:gridCol w="2019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yn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man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x += 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x = x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y -= 3.14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y = y - 3.1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z *= 3*x + 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z = z*(3*x + 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z /= 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z = z/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x %= x + 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x = x%(x + 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ther operators in C can be used in expressions in right hand sid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ments (and in conditions in control flow construct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475000"/>
          <a:ext cx="8136000" cy="3162240"/>
        </p:xfrm>
        <a:graphic>
          <a:graphicData uri="http://schemas.openxmlformats.org/drawingml/2006/table">
            <a:tbl>
              <a:tblPr/>
              <a:tblGrid>
                <a:gridCol w="1150920"/>
                <a:gridCol w="698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p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man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amp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dentifiers; returns pointer “&amp;var” to memory allocated for “var”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pointer types; dereferenc “pnt”, does not change stored val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!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“¬exp”, does not change value of “exp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+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updates value by “exp+1”, returns the updated val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value of “exp”, then updates value by “exp+1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-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updates value by “exp -1”, returns the updated valu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value of “exp”, then updates value by “exp -1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 Opera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268280"/>
          <a:ext cx="8136000" cy="5139000"/>
        </p:xfrm>
        <a:graphic>
          <a:graphicData uri="http://schemas.openxmlformats.org/drawingml/2006/table">
            <a:tbl>
              <a:tblPr/>
              <a:tblGrid>
                <a:gridCol w="1150920"/>
                <a:gridCol w="6985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amp;&amp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ND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R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+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-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×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/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integer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od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lt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&lt;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&gt;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≤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&g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≥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≠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=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umeric types; returns “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= e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”, does not change operant valu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 Opera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349360"/>
          <a:ext cx="8229600" cy="302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man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rr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]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]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-dimensional arrays  and n integer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turns “APL(A, (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) )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rr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]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[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]  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n-dimensional arrays, n integers,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nd “ground” type;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rray update “UPD(A, (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) , exp)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r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structures and identifiers; returns “APL( str, fld )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r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 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ld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굴림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 structures, identifiers; and “ground” type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ructure update  “UPD( str, fld, exp)”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ndling with components of aggregated types can be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487840"/>
            <a:ext cx="842472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where “ground” type stays for any type other than array typ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mmary on Data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 assignment provides opportunity to modify any variable of any data type but arrays can be modified via their components only. Semantics of assignment is described in terms of update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All  other C operations are able to handle and return values of basic types; their semantics is expressed in terms of operations on basic types.  Some unary operators have updating sid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C provides opportunities for direct access to stored values (via names of variables and fields, and indexes) and indirect (via dereferencing and array index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imple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rst, some “magic”… The simplest structure of a program that can run and report you is depicted at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Blue font is used for formal syntax of a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green font is for informal comment about pro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main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a block of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{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some variable declarations and definitions follow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assignment operators (to declared variable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nesting bloc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  <a:ea typeface="굴림"/>
              </a:rPr>
              <a:t>printing” operators (standard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20:54:53Z</dcterms:created>
  <dc:creator>Nicolai Shilov</dc:creator>
  <dc:description/>
  <dc:language>en-US</dc:language>
  <cp:lastModifiedBy>admin</cp:lastModifiedBy>
  <dcterms:modified xsi:type="dcterms:W3CDTF">2008-02-21T09:29:00Z</dcterms:modified>
  <cp:revision>490</cp:revision>
  <dc:subject/>
  <dc:title>C  OPERATORS</dc:title>
</cp:coreProperties>
</file>