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02355-2C9F-47A2-A024-332B10C73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BA17E-7885-48B3-8739-DF14AE989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4BF78-39CB-487A-A45B-1CF59DC65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CB87F-29BC-4DCD-B353-3DC34A09E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D49C0-6612-46A0-B18D-5E26E3425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5C1CC-73F8-4C3E-B56F-E4B6077F5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8D0BC-9B13-4DED-8B25-8820A792E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03ECF-B5AD-4D35-91EB-713455FA4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7950D-50AA-4FAB-B6F6-FF6C7B756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91EE4-462C-4293-A42C-11293E72D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F1F77-87B4-43C8-A9F5-74E269E34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AA50D-15E4-48A6-B440-A07F1B86A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Arial"/>
                <a:ea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Arial"/>
                <a:ea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Arial"/>
                <a:ea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06ABC-101C-4409-8E89-FCA9D881CE9B}" type="slidenum">
              <a:rPr b="0" lang="ko-KR" sz="1400" spc="-1" strike="noStrike">
                <a:solidFill>
                  <a:srgbClr val="000000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hyperlink" Target="http://www.dangermouse.net/esoteric/ook.html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ема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: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сновы программирования алгоритмов для ЭВ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екция 4: Основы языка программирования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дульность и организация рекурсивного управления; библиотеки и работа с файловой систем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Standard INPUT/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The standard input/output library provides many  functions for input from the keyboard, output to the screen, and file input and output (from either text or binary files), ex.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457200" y="3938760"/>
          <a:ext cx="8229600" cy="2616120"/>
        </p:xfrm>
        <a:graphic>
          <a:graphicData uri="http://schemas.openxmlformats.org/drawingml/2006/table">
            <a:tbl>
              <a:tblPr/>
              <a:tblGrid>
                <a:gridCol w="4441680"/>
                <a:gridCol w="3787920"/>
              </a:tblGrid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굴림"/>
                        </a:rPr>
                        <a:t>printf (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output formatting string </a:t>
                      </a: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굴림"/>
                        </a:rPr>
                        <a:t>,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      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variable list </a:t>
                      </a: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굴림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formatted print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굴림"/>
                        </a:rPr>
                        <a:t>scanf (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input formatting string </a:t>
                      </a: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굴림"/>
                        </a:rPr>
                        <a:t>,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       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pointer variable list </a:t>
                      </a: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굴림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formatted inp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굴림"/>
                        </a:rPr>
                        <a:t>putchar (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character </a:t>
                      </a: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굴림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single character outp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굴림"/>
                        </a:rPr>
                        <a:t>get ( 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turns a single input character from keyboar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Standard INPUT/OUTPUT (cont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NZ" sz="2000" spc="-1" strike="noStrike">
                <a:solidFill>
                  <a:srgbClr val="009999"/>
                </a:solidFill>
                <a:latin typeface="Arial"/>
              </a:rPr>
              <a:t>output formatting string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 can merely consists of a massage to be printed. It can also contain special characters that specify how to display values of listed variables (i.e. from </a:t>
            </a:r>
            <a:r>
              <a:rPr b="0" lang="en-NZ" sz="2000" spc="-1" strike="noStrike">
                <a:solidFill>
                  <a:srgbClr val="009999"/>
                </a:solidFill>
                <a:latin typeface="Arial"/>
              </a:rPr>
              <a:t>variable list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). These special characters are </a:t>
            </a:r>
            <a:r>
              <a:rPr b="0" lang="en-NZ" sz="2000" spc="-1" strike="noStrike">
                <a:solidFill>
                  <a:srgbClr val="333399"/>
                </a:solidFill>
                <a:latin typeface="Arial"/>
              </a:rPr>
              <a:t>%d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 for integer values, </a:t>
            </a:r>
            <a:r>
              <a:rPr b="0" lang="en-NZ" sz="2000" spc="-1" strike="noStrike">
                <a:solidFill>
                  <a:srgbClr val="333399"/>
                </a:solidFill>
                <a:latin typeface="Arial"/>
              </a:rPr>
              <a:t>%f 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for float values, </a:t>
            </a:r>
            <a:r>
              <a:rPr b="0" lang="en-NZ" sz="2000" spc="-1" strike="noStrike">
                <a:solidFill>
                  <a:srgbClr val="333399"/>
                </a:solidFill>
                <a:latin typeface="Arial"/>
              </a:rPr>
              <a:t>%c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 for character values, and </a:t>
            </a:r>
            <a:r>
              <a:rPr b="0" lang="en-NZ" sz="2000" spc="-1" strike="noStrike">
                <a:solidFill>
                  <a:srgbClr val="333399"/>
                </a:solidFill>
                <a:latin typeface="Arial"/>
              </a:rPr>
              <a:t>%s 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for string valu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Listed special characters can be used in the </a:t>
            </a:r>
            <a:r>
              <a:rPr b="0" lang="en-NZ" sz="2000" spc="-1" strike="noStrike">
                <a:solidFill>
                  <a:srgbClr val="009999"/>
                </a:solidFill>
                <a:latin typeface="Arial"/>
              </a:rPr>
              <a:t>input formatting string</a:t>
            </a:r>
            <a:r>
              <a:rPr b="0" lang="en-NZ" sz="2000" spc="-1" strike="noStrike">
                <a:solidFill>
                  <a:srgbClr val="009999"/>
                </a:solidFill>
                <a:latin typeface="Arial"/>
                <a:ea typeface="굴림"/>
              </a:rPr>
              <a:t> 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also. Note that pointers are used for the input instead of variables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  <a:ea typeface="굴림"/>
              </a:rPr>
              <a:t> themselves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. The only exclusion is input of strings (since they are arrays of characters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  <a:ea typeface="굴림"/>
              </a:rPr>
              <a:t>) 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and all array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  <a:ea typeface="굴림"/>
              </a:rPr>
              <a:t>s (since they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 are pointers to the front-end of the allocated memory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Standard INPUT/OUTPUT (cont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333399"/>
                </a:solidFill>
                <a:latin typeface="Arial"/>
              </a:rPr>
              <a:t>int i </a:t>
            </a:r>
            <a:r>
              <a:rPr b="1" lang="en-NZ" sz="2000" spc="-1" strike="noStrike">
                <a:solidFill>
                  <a:srgbClr val="333399"/>
                </a:solidFill>
                <a:latin typeface="Arial"/>
              </a:rPr>
              <a:t>;</a:t>
            </a:r>
            <a:r>
              <a:rPr b="0" lang="en-NZ" sz="2000" spc="-1" strike="noStrike">
                <a:solidFill>
                  <a:srgbClr val="333399"/>
                </a:solidFill>
                <a:latin typeface="Arial"/>
              </a:rPr>
              <a:t>    float l </a:t>
            </a:r>
            <a:r>
              <a:rPr b="1" lang="en-NZ" sz="2000" spc="-1" strike="noStrike">
                <a:solidFill>
                  <a:srgbClr val="333399"/>
                </a:solidFill>
                <a:latin typeface="Arial"/>
              </a:rPr>
              <a:t>,</a:t>
            </a:r>
            <a:r>
              <a:rPr b="0" lang="en-NZ" sz="2000" spc="-1" strike="noStrike">
                <a:solidFill>
                  <a:srgbClr val="333399"/>
                </a:solidFill>
                <a:latin typeface="Arial"/>
              </a:rPr>
              <a:t> r </a:t>
            </a:r>
            <a:r>
              <a:rPr b="1" lang="en-NZ" sz="2000" spc="-1" strike="noStrike">
                <a:solidFill>
                  <a:srgbClr val="333399"/>
                </a:solidFill>
                <a:latin typeface="Arial"/>
              </a:rPr>
              <a:t>;</a:t>
            </a:r>
            <a:r>
              <a:rPr b="0" lang="en-NZ" sz="2000" spc="-1" strike="noStrike">
                <a:solidFill>
                  <a:srgbClr val="333399"/>
                </a:solidFill>
                <a:latin typeface="Arial"/>
              </a:rPr>
              <a:t>     char inich </a:t>
            </a:r>
            <a:r>
              <a:rPr b="1" lang="en-NZ" sz="2000" spc="-1" strike="noStrike">
                <a:solidFill>
                  <a:srgbClr val="333399"/>
                </a:solidFill>
                <a:latin typeface="Arial"/>
              </a:rPr>
              <a:t>;</a:t>
            </a:r>
            <a:r>
              <a:rPr b="0" lang="en-NZ" sz="2000" spc="-1" strike="noStrike">
                <a:solidFill>
                  <a:srgbClr val="333399"/>
                </a:solidFill>
                <a:latin typeface="Arial"/>
              </a:rPr>
              <a:t>      char surname[30] </a:t>
            </a:r>
            <a:r>
              <a:rPr b="1" lang="en-NZ" sz="2000" spc="-1" strike="noStrike">
                <a:solidFill>
                  <a:srgbClr val="333399"/>
                </a:solidFill>
                <a:latin typeface="Arial"/>
              </a:rPr>
              <a:t>;</a:t>
            </a:r>
            <a:r>
              <a:rPr b="0" lang="en-NZ" sz="2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333399"/>
                </a:solidFill>
                <a:latin typeface="Arial"/>
              </a:rPr>
              <a:t>printf (“Input the integer, its left and right approximations</a:t>
            </a:r>
            <a:r>
              <a:rPr b="1" lang="en-NZ" sz="2000" spc="-1" strike="noStrike">
                <a:solidFill>
                  <a:srgbClr val="333399"/>
                </a:solidFill>
                <a:latin typeface="Arial"/>
              </a:rPr>
              <a:t>:</a:t>
            </a:r>
            <a:r>
              <a:rPr b="0" lang="en-NZ" sz="2000" spc="-1" strike="noStrike">
                <a:solidFill>
                  <a:srgbClr val="333399"/>
                </a:solidFill>
                <a:latin typeface="Arial"/>
              </a:rPr>
              <a:t>” ) </a:t>
            </a:r>
            <a:r>
              <a:rPr b="1" lang="en-NZ" sz="2000" spc="-1" strike="noStrike">
                <a:solidFill>
                  <a:srgbClr val="333399"/>
                </a:solidFill>
                <a:latin typeface="Arial"/>
              </a:rPr>
              <a:t>;</a:t>
            </a:r>
            <a:r>
              <a:rPr b="0" lang="en-NZ" sz="2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333399"/>
                </a:solidFill>
                <a:latin typeface="Arial"/>
              </a:rPr>
              <a:t>scanf (“%d %f %f” </a:t>
            </a:r>
            <a:r>
              <a:rPr b="1" lang="en-NZ" sz="2000" spc="-1" strike="noStrike">
                <a:solidFill>
                  <a:srgbClr val="333399"/>
                </a:solidFill>
                <a:latin typeface="Arial"/>
              </a:rPr>
              <a:t>,</a:t>
            </a:r>
            <a:r>
              <a:rPr b="0" lang="en-NZ" sz="2000" spc="-1" strike="noStrike">
                <a:solidFill>
                  <a:srgbClr val="333399"/>
                </a:solidFill>
                <a:latin typeface="Arial"/>
              </a:rPr>
              <a:t> &amp;i</a:t>
            </a:r>
            <a:r>
              <a:rPr b="1" lang="en-NZ" sz="2000" spc="-1" strike="noStrike">
                <a:solidFill>
                  <a:srgbClr val="333399"/>
                </a:solidFill>
                <a:latin typeface="Arial"/>
              </a:rPr>
              <a:t>,</a:t>
            </a:r>
            <a:r>
              <a:rPr b="0" lang="en-NZ" sz="2000" spc="-1" strike="noStrike">
                <a:solidFill>
                  <a:srgbClr val="333399"/>
                </a:solidFill>
                <a:latin typeface="Arial"/>
              </a:rPr>
              <a:t> &amp;l </a:t>
            </a:r>
            <a:r>
              <a:rPr b="1" lang="en-NZ" sz="2000" spc="-1" strike="noStrike">
                <a:solidFill>
                  <a:srgbClr val="333399"/>
                </a:solidFill>
                <a:latin typeface="Arial"/>
              </a:rPr>
              <a:t>,</a:t>
            </a:r>
            <a:r>
              <a:rPr b="0" lang="en-NZ" sz="2000" spc="-1" strike="noStrike">
                <a:solidFill>
                  <a:srgbClr val="333399"/>
                </a:solidFill>
                <a:latin typeface="Arial"/>
              </a:rPr>
              <a:t> &amp;r ) </a:t>
            </a:r>
            <a:r>
              <a:rPr b="1" lang="en-NZ" sz="2000" spc="-1" strike="noStrike">
                <a:solidFill>
                  <a:srgbClr val="333399"/>
                </a:solidFill>
                <a:latin typeface="Arial"/>
              </a:rPr>
              <a:t>;</a:t>
            </a:r>
            <a:r>
              <a:rPr b="0" lang="en-NZ" sz="2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333399"/>
                </a:solidFill>
                <a:latin typeface="Arial"/>
              </a:rPr>
              <a:t>printf (“The interval [ %f </a:t>
            </a:r>
            <a:r>
              <a:rPr b="1" lang="en-NZ" sz="2000" spc="-1" strike="noStrike">
                <a:solidFill>
                  <a:srgbClr val="333399"/>
                </a:solidFill>
                <a:latin typeface="Arial"/>
              </a:rPr>
              <a:t>,</a:t>
            </a:r>
            <a:r>
              <a:rPr b="0" lang="en-NZ" sz="2000" spc="-1" strike="noStrike">
                <a:solidFill>
                  <a:srgbClr val="333399"/>
                </a:solidFill>
                <a:latin typeface="Arial"/>
              </a:rPr>
              <a:t> %f ] is a vicinity of the integer %d </a:t>
            </a:r>
            <a:r>
              <a:rPr b="1" lang="en-NZ" sz="2000" spc="-1" strike="noStrike">
                <a:solidFill>
                  <a:srgbClr val="333399"/>
                </a:solidFill>
                <a:latin typeface="Arial"/>
              </a:rPr>
              <a:t>.</a:t>
            </a:r>
            <a:r>
              <a:rPr b="0" lang="en-NZ" sz="2000" spc="-1" strike="noStrike">
                <a:solidFill>
                  <a:srgbClr val="333399"/>
                </a:solidFill>
                <a:latin typeface="Arial"/>
              </a:rPr>
              <a:t>” </a:t>
            </a:r>
            <a:r>
              <a:rPr b="1" lang="en-NZ" sz="2000" spc="-1" strike="noStrike">
                <a:solidFill>
                  <a:srgbClr val="333399"/>
                </a:solidFill>
                <a:latin typeface="Arial"/>
              </a:rPr>
              <a:t>,</a:t>
            </a:r>
            <a:r>
              <a:rPr b="0" lang="en-NZ" sz="2000" spc="-1" strike="noStrike">
                <a:solidFill>
                  <a:srgbClr val="333399"/>
                </a:solidFill>
                <a:latin typeface="Arial"/>
              </a:rPr>
              <a:t> l </a:t>
            </a:r>
            <a:r>
              <a:rPr b="1" lang="en-NZ" sz="2000" spc="-1" strike="noStrike">
                <a:solidFill>
                  <a:srgbClr val="333399"/>
                </a:solidFill>
                <a:latin typeface="Arial"/>
              </a:rPr>
              <a:t>,</a:t>
            </a:r>
            <a:r>
              <a:rPr b="0" lang="en-NZ" sz="2000" spc="-1" strike="noStrike">
                <a:solidFill>
                  <a:srgbClr val="333399"/>
                </a:solidFill>
                <a:latin typeface="Arial"/>
              </a:rPr>
              <a:t> r </a:t>
            </a:r>
            <a:r>
              <a:rPr b="1" lang="en-NZ" sz="2000" spc="-1" strike="noStrike">
                <a:solidFill>
                  <a:srgbClr val="333399"/>
                </a:solidFill>
                <a:latin typeface="Arial"/>
              </a:rPr>
              <a:t>,</a:t>
            </a:r>
            <a:r>
              <a:rPr b="0" lang="en-NZ" sz="2000" spc="-1" strike="noStrike">
                <a:solidFill>
                  <a:srgbClr val="333399"/>
                </a:solidFill>
                <a:latin typeface="Arial"/>
              </a:rPr>
              <a:t> i  ) </a:t>
            </a:r>
            <a:r>
              <a:rPr b="1" lang="en-NZ" sz="2000" spc="-1" strike="noStrike">
                <a:solidFill>
                  <a:srgbClr val="333399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333399"/>
                </a:solidFill>
                <a:latin typeface="Arial"/>
              </a:rPr>
              <a:t>printf (“Input the initial of you name and you surname</a:t>
            </a:r>
            <a:r>
              <a:rPr b="1" lang="en-NZ" sz="2000" spc="-1" strike="noStrike">
                <a:solidFill>
                  <a:srgbClr val="333399"/>
                </a:solidFill>
                <a:latin typeface="Arial"/>
              </a:rPr>
              <a:t>:</a:t>
            </a:r>
            <a:r>
              <a:rPr b="0" lang="en-NZ" sz="2000" spc="-1" strike="noStrike">
                <a:solidFill>
                  <a:srgbClr val="333399"/>
                </a:solidFill>
                <a:latin typeface="Arial"/>
              </a:rPr>
              <a:t>”) </a:t>
            </a:r>
            <a:r>
              <a:rPr b="1" lang="en-NZ" sz="2000" spc="-1" strike="noStrike">
                <a:solidFill>
                  <a:srgbClr val="333399"/>
                </a:solidFill>
                <a:latin typeface="Arial"/>
              </a:rPr>
              <a:t>;</a:t>
            </a:r>
            <a:r>
              <a:rPr b="0" lang="en-NZ" sz="2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333399"/>
                </a:solidFill>
                <a:latin typeface="Arial"/>
              </a:rPr>
              <a:t>scanf(“%c %s” </a:t>
            </a:r>
            <a:r>
              <a:rPr b="1" lang="en-NZ" sz="2000" spc="-1" strike="noStrike">
                <a:solidFill>
                  <a:srgbClr val="333399"/>
                </a:solidFill>
                <a:latin typeface="Arial"/>
              </a:rPr>
              <a:t>,</a:t>
            </a:r>
            <a:r>
              <a:rPr b="0" lang="en-NZ" sz="2000" spc="-1" strike="noStrike">
                <a:solidFill>
                  <a:srgbClr val="333399"/>
                </a:solidFill>
                <a:latin typeface="Arial"/>
              </a:rPr>
              <a:t> &amp;inich </a:t>
            </a:r>
            <a:r>
              <a:rPr b="1" lang="en-NZ" sz="2000" spc="-1" strike="noStrike">
                <a:solidFill>
                  <a:srgbClr val="333399"/>
                </a:solidFill>
                <a:latin typeface="Arial"/>
              </a:rPr>
              <a:t>,</a:t>
            </a:r>
            <a:r>
              <a:rPr b="0" lang="en-NZ" sz="2000" spc="-1" strike="noStrike">
                <a:solidFill>
                  <a:srgbClr val="333399"/>
                </a:solidFill>
                <a:latin typeface="Arial"/>
              </a:rPr>
              <a:t> surname ) </a:t>
            </a:r>
            <a:r>
              <a:rPr b="1" lang="en-NZ" sz="2000" spc="-1" strike="noStrike">
                <a:solidFill>
                  <a:srgbClr val="333399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Sample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굴림"/>
              </a:rPr>
              <a:t>/* The factorial  program.  Input: unsigned integer n. Output: n! or …*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굴림"/>
              </a:rPr>
              <a:t># include &lt;stdio.h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굴림"/>
              </a:rPr>
              <a:t>long int fact ( long int ) 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굴림"/>
              </a:rPr>
              <a:t>void main ( void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굴림"/>
              </a:rPr>
              <a:t>{ unsigned int n 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굴림"/>
              </a:rPr>
              <a:t>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굴림"/>
              </a:rPr>
              <a:t>printf ("Input non-negative integer n :") 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굴림"/>
              </a:rPr>
              <a:t>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굴림"/>
              </a:rPr>
              <a:t>scanf ("%d" , &amp;n) 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굴림"/>
              </a:rPr>
              <a:t>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굴림"/>
              </a:rPr>
              <a:t>printf ("%d\n" , fact(n) ) 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굴림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굴림"/>
              </a:rPr>
              <a:t>long int fact ( long int 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굴림"/>
              </a:rPr>
              <a:t>{ if (n &lt; 2) {return 1 ;} else {return n*fact(--n) ;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굴림"/>
              </a:rPr>
              <a:t>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nk to File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e Input/Output (cont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open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, "r“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read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, "w“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write to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, "a“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modify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fclose(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le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close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returns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ff file is closed, otherwise it returns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EO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putc(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charater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,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le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getc(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le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 similar to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putcha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getcha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ut outputs and inputs single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charact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/from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fprintf(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le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,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…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fscanf(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le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,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…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 similar to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print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scan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ut outputs and inputs single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rmatted dat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/from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feof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eturns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f file points out at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EO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therwi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e Input/Output (cont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#include &lt;stdio.h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void main(voi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{FILE *i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float x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int coun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in = fopen("values.txt", "r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if (in != NULL)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for (count=1 ; count &lt;10 ; count++) { fscanf(in, "%f", &amp;x); printf("%f\n", x);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fclose(in); in = fopen("values.txt", "r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while (!feof(in)) { fscanf(in, "%f", &amp;x); printf("%f\n", x+10);}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else printf("File does not exists!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fclose(in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e as a Data Ty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ndard input-output library provides a data-type-like interface for access to “physical” files located in the directory. Values of this data type FILE are physical files, they are not representable in 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ration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point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fopen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, “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descriptor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“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“opens”, i.e. virtualizes a physical file by means of a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point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Here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descrip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r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w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w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or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a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s existing file for reading,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w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s and erases existing file or creates a new empty file for writing,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a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s existing file for expanding,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ermits modifications inside the fi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54200" y="4340160"/>
            <a:ext cx="2570040" cy="2173320"/>
          </a:xfrm>
          <a:custGeom>
            <a:avLst/>
            <a:gdLst/>
            <a:ahLst/>
            <a:rect l="l" t="t" r="r" b="b"/>
            <a:pathLst>
              <a:path w="1619" h="1369">
                <a:moveTo>
                  <a:pt x="256" y="420"/>
                </a:moveTo>
                <a:cubicBezTo>
                  <a:pt x="266" y="205"/>
                  <a:pt x="213" y="172"/>
                  <a:pt x="394" y="128"/>
                </a:cubicBezTo>
                <a:cubicBezTo>
                  <a:pt x="409" y="131"/>
                  <a:pt x="424" y="139"/>
                  <a:pt x="439" y="137"/>
                </a:cubicBezTo>
                <a:cubicBezTo>
                  <a:pt x="463" y="134"/>
                  <a:pt x="467" y="98"/>
                  <a:pt x="485" y="82"/>
                </a:cubicBezTo>
                <a:cubicBezTo>
                  <a:pt x="501" y="67"/>
                  <a:pt x="522" y="57"/>
                  <a:pt x="540" y="45"/>
                </a:cubicBezTo>
                <a:cubicBezTo>
                  <a:pt x="552" y="37"/>
                  <a:pt x="562" y="24"/>
                  <a:pt x="576" y="18"/>
                </a:cubicBezTo>
                <a:cubicBezTo>
                  <a:pt x="599" y="8"/>
                  <a:pt x="626" y="8"/>
                  <a:pt x="650" y="0"/>
                </a:cubicBezTo>
                <a:cubicBezTo>
                  <a:pt x="680" y="3"/>
                  <a:pt x="712" y="0"/>
                  <a:pt x="741" y="9"/>
                </a:cubicBezTo>
                <a:cubicBezTo>
                  <a:pt x="753" y="13"/>
                  <a:pt x="757" y="29"/>
                  <a:pt x="768" y="36"/>
                </a:cubicBezTo>
                <a:cubicBezTo>
                  <a:pt x="776" y="41"/>
                  <a:pt x="787" y="42"/>
                  <a:pt x="796" y="45"/>
                </a:cubicBezTo>
                <a:cubicBezTo>
                  <a:pt x="850" y="99"/>
                  <a:pt x="830" y="73"/>
                  <a:pt x="860" y="119"/>
                </a:cubicBezTo>
                <a:cubicBezTo>
                  <a:pt x="925" y="78"/>
                  <a:pt x="984" y="33"/>
                  <a:pt x="1061" y="18"/>
                </a:cubicBezTo>
                <a:cubicBezTo>
                  <a:pt x="1091" y="12"/>
                  <a:pt x="1152" y="0"/>
                  <a:pt x="1152" y="0"/>
                </a:cubicBezTo>
                <a:cubicBezTo>
                  <a:pt x="1192" y="9"/>
                  <a:pt x="1234" y="9"/>
                  <a:pt x="1271" y="27"/>
                </a:cubicBezTo>
                <a:cubicBezTo>
                  <a:pt x="1301" y="42"/>
                  <a:pt x="1319" y="71"/>
                  <a:pt x="1354" y="82"/>
                </a:cubicBezTo>
                <a:cubicBezTo>
                  <a:pt x="1404" y="132"/>
                  <a:pt x="1409" y="159"/>
                  <a:pt x="1390" y="237"/>
                </a:cubicBezTo>
                <a:cubicBezTo>
                  <a:pt x="1382" y="271"/>
                  <a:pt x="1336" y="281"/>
                  <a:pt x="1308" y="301"/>
                </a:cubicBezTo>
                <a:cubicBezTo>
                  <a:pt x="1300" y="306"/>
                  <a:pt x="1326" y="295"/>
                  <a:pt x="1335" y="292"/>
                </a:cubicBezTo>
                <a:cubicBezTo>
                  <a:pt x="1393" y="296"/>
                  <a:pt x="1458" y="282"/>
                  <a:pt x="1509" y="311"/>
                </a:cubicBezTo>
                <a:cubicBezTo>
                  <a:pt x="1543" y="330"/>
                  <a:pt x="1582" y="402"/>
                  <a:pt x="1582" y="402"/>
                </a:cubicBezTo>
                <a:cubicBezTo>
                  <a:pt x="1595" y="441"/>
                  <a:pt x="1611" y="471"/>
                  <a:pt x="1619" y="512"/>
                </a:cubicBezTo>
                <a:cubicBezTo>
                  <a:pt x="1616" y="552"/>
                  <a:pt x="1619" y="592"/>
                  <a:pt x="1610" y="631"/>
                </a:cubicBezTo>
                <a:cubicBezTo>
                  <a:pt x="1606" y="646"/>
                  <a:pt x="1591" y="655"/>
                  <a:pt x="1582" y="667"/>
                </a:cubicBezTo>
                <a:cubicBezTo>
                  <a:pt x="1548" y="715"/>
                  <a:pt x="1517" y="723"/>
                  <a:pt x="1463" y="740"/>
                </a:cubicBezTo>
                <a:cubicBezTo>
                  <a:pt x="1499" y="776"/>
                  <a:pt x="1528" y="815"/>
                  <a:pt x="1564" y="850"/>
                </a:cubicBezTo>
                <a:cubicBezTo>
                  <a:pt x="1570" y="862"/>
                  <a:pt x="1577" y="874"/>
                  <a:pt x="1582" y="887"/>
                </a:cubicBezTo>
                <a:cubicBezTo>
                  <a:pt x="1589" y="905"/>
                  <a:pt x="1600" y="941"/>
                  <a:pt x="1600" y="941"/>
                </a:cubicBezTo>
                <a:cubicBezTo>
                  <a:pt x="1591" y="1021"/>
                  <a:pt x="1602" y="1037"/>
                  <a:pt x="1536" y="1069"/>
                </a:cubicBezTo>
                <a:cubicBezTo>
                  <a:pt x="1469" y="1138"/>
                  <a:pt x="1372" y="1102"/>
                  <a:pt x="1280" y="1097"/>
                </a:cubicBezTo>
                <a:cubicBezTo>
                  <a:pt x="1271" y="1094"/>
                  <a:pt x="1255" y="1079"/>
                  <a:pt x="1253" y="1088"/>
                </a:cubicBezTo>
                <a:cubicBezTo>
                  <a:pt x="1249" y="1104"/>
                  <a:pt x="1263" y="1119"/>
                  <a:pt x="1271" y="1133"/>
                </a:cubicBezTo>
                <a:cubicBezTo>
                  <a:pt x="1321" y="1221"/>
                  <a:pt x="1281" y="1115"/>
                  <a:pt x="1317" y="1216"/>
                </a:cubicBezTo>
                <a:cubicBezTo>
                  <a:pt x="1323" y="1234"/>
                  <a:pt x="1335" y="1271"/>
                  <a:pt x="1335" y="1271"/>
                </a:cubicBezTo>
                <a:cubicBezTo>
                  <a:pt x="1286" y="1369"/>
                  <a:pt x="1152" y="1302"/>
                  <a:pt x="1061" y="1289"/>
                </a:cubicBezTo>
                <a:cubicBezTo>
                  <a:pt x="1024" y="1277"/>
                  <a:pt x="989" y="1261"/>
                  <a:pt x="951" y="1252"/>
                </a:cubicBezTo>
                <a:cubicBezTo>
                  <a:pt x="906" y="1230"/>
                  <a:pt x="862" y="1228"/>
                  <a:pt x="814" y="1216"/>
                </a:cubicBezTo>
                <a:cubicBezTo>
                  <a:pt x="805" y="1210"/>
                  <a:pt x="797" y="1192"/>
                  <a:pt x="787" y="1197"/>
                </a:cubicBezTo>
                <a:cubicBezTo>
                  <a:pt x="776" y="1203"/>
                  <a:pt x="780" y="1221"/>
                  <a:pt x="778" y="1234"/>
                </a:cubicBezTo>
                <a:cubicBezTo>
                  <a:pt x="762" y="1338"/>
                  <a:pt x="790" y="1301"/>
                  <a:pt x="750" y="1344"/>
                </a:cubicBezTo>
                <a:cubicBezTo>
                  <a:pt x="585" y="1326"/>
                  <a:pt x="476" y="1248"/>
                  <a:pt x="348" y="1152"/>
                </a:cubicBezTo>
                <a:cubicBezTo>
                  <a:pt x="336" y="1113"/>
                  <a:pt x="319" y="1093"/>
                  <a:pt x="311" y="1051"/>
                </a:cubicBezTo>
                <a:cubicBezTo>
                  <a:pt x="314" y="1033"/>
                  <a:pt x="307" y="1009"/>
                  <a:pt x="320" y="996"/>
                </a:cubicBezTo>
                <a:cubicBezTo>
                  <a:pt x="329" y="987"/>
                  <a:pt x="330" y="1020"/>
                  <a:pt x="330" y="1033"/>
                </a:cubicBezTo>
                <a:cubicBezTo>
                  <a:pt x="330" y="1095"/>
                  <a:pt x="324" y="1091"/>
                  <a:pt x="293" y="1133"/>
                </a:cubicBezTo>
                <a:cubicBezTo>
                  <a:pt x="278" y="1132"/>
                  <a:pt x="195" y="1128"/>
                  <a:pt x="165" y="1115"/>
                </a:cubicBezTo>
                <a:cubicBezTo>
                  <a:pt x="87" y="1082"/>
                  <a:pt x="28" y="972"/>
                  <a:pt x="0" y="896"/>
                </a:cubicBezTo>
                <a:cubicBezTo>
                  <a:pt x="3" y="841"/>
                  <a:pt x="2" y="786"/>
                  <a:pt x="10" y="731"/>
                </a:cubicBezTo>
                <a:cubicBezTo>
                  <a:pt x="16" y="689"/>
                  <a:pt x="114" y="660"/>
                  <a:pt x="147" y="649"/>
                </a:cubicBezTo>
                <a:cubicBezTo>
                  <a:pt x="116" y="620"/>
                  <a:pt x="111" y="569"/>
                  <a:pt x="92" y="530"/>
                </a:cubicBezTo>
                <a:cubicBezTo>
                  <a:pt x="105" y="350"/>
                  <a:pt x="59" y="397"/>
                  <a:pt x="256" y="420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962680" y="4351320"/>
            <a:ext cx="2570040" cy="2173320"/>
          </a:xfrm>
          <a:custGeom>
            <a:avLst/>
            <a:gdLst/>
            <a:ahLst/>
            <a:rect l="l" t="t" r="r" b="b"/>
            <a:pathLst>
              <a:path w="1619" h="1369">
                <a:moveTo>
                  <a:pt x="256" y="420"/>
                </a:moveTo>
                <a:cubicBezTo>
                  <a:pt x="266" y="205"/>
                  <a:pt x="213" y="172"/>
                  <a:pt x="394" y="128"/>
                </a:cubicBezTo>
                <a:cubicBezTo>
                  <a:pt x="409" y="131"/>
                  <a:pt x="424" y="139"/>
                  <a:pt x="439" y="137"/>
                </a:cubicBezTo>
                <a:cubicBezTo>
                  <a:pt x="463" y="134"/>
                  <a:pt x="467" y="98"/>
                  <a:pt x="485" y="82"/>
                </a:cubicBezTo>
                <a:cubicBezTo>
                  <a:pt x="501" y="67"/>
                  <a:pt x="522" y="57"/>
                  <a:pt x="540" y="45"/>
                </a:cubicBezTo>
                <a:cubicBezTo>
                  <a:pt x="552" y="37"/>
                  <a:pt x="562" y="24"/>
                  <a:pt x="576" y="18"/>
                </a:cubicBezTo>
                <a:cubicBezTo>
                  <a:pt x="599" y="8"/>
                  <a:pt x="626" y="8"/>
                  <a:pt x="650" y="0"/>
                </a:cubicBezTo>
                <a:cubicBezTo>
                  <a:pt x="680" y="3"/>
                  <a:pt x="712" y="0"/>
                  <a:pt x="741" y="9"/>
                </a:cubicBezTo>
                <a:cubicBezTo>
                  <a:pt x="753" y="13"/>
                  <a:pt x="757" y="29"/>
                  <a:pt x="768" y="36"/>
                </a:cubicBezTo>
                <a:cubicBezTo>
                  <a:pt x="776" y="41"/>
                  <a:pt x="787" y="42"/>
                  <a:pt x="796" y="45"/>
                </a:cubicBezTo>
                <a:cubicBezTo>
                  <a:pt x="850" y="99"/>
                  <a:pt x="830" y="73"/>
                  <a:pt x="860" y="119"/>
                </a:cubicBezTo>
                <a:cubicBezTo>
                  <a:pt x="925" y="78"/>
                  <a:pt x="984" y="33"/>
                  <a:pt x="1061" y="18"/>
                </a:cubicBezTo>
                <a:cubicBezTo>
                  <a:pt x="1091" y="12"/>
                  <a:pt x="1152" y="0"/>
                  <a:pt x="1152" y="0"/>
                </a:cubicBezTo>
                <a:cubicBezTo>
                  <a:pt x="1192" y="9"/>
                  <a:pt x="1234" y="9"/>
                  <a:pt x="1271" y="27"/>
                </a:cubicBezTo>
                <a:cubicBezTo>
                  <a:pt x="1301" y="42"/>
                  <a:pt x="1319" y="71"/>
                  <a:pt x="1354" y="82"/>
                </a:cubicBezTo>
                <a:cubicBezTo>
                  <a:pt x="1404" y="132"/>
                  <a:pt x="1409" y="159"/>
                  <a:pt x="1390" y="237"/>
                </a:cubicBezTo>
                <a:cubicBezTo>
                  <a:pt x="1382" y="271"/>
                  <a:pt x="1336" y="281"/>
                  <a:pt x="1308" y="301"/>
                </a:cubicBezTo>
                <a:cubicBezTo>
                  <a:pt x="1300" y="306"/>
                  <a:pt x="1326" y="295"/>
                  <a:pt x="1335" y="292"/>
                </a:cubicBezTo>
                <a:cubicBezTo>
                  <a:pt x="1393" y="296"/>
                  <a:pt x="1458" y="282"/>
                  <a:pt x="1509" y="311"/>
                </a:cubicBezTo>
                <a:cubicBezTo>
                  <a:pt x="1543" y="330"/>
                  <a:pt x="1582" y="402"/>
                  <a:pt x="1582" y="402"/>
                </a:cubicBezTo>
                <a:cubicBezTo>
                  <a:pt x="1595" y="441"/>
                  <a:pt x="1611" y="471"/>
                  <a:pt x="1619" y="512"/>
                </a:cubicBezTo>
                <a:cubicBezTo>
                  <a:pt x="1616" y="552"/>
                  <a:pt x="1619" y="592"/>
                  <a:pt x="1610" y="631"/>
                </a:cubicBezTo>
                <a:cubicBezTo>
                  <a:pt x="1606" y="646"/>
                  <a:pt x="1591" y="655"/>
                  <a:pt x="1582" y="667"/>
                </a:cubicBezTo>
                <a:cubicBezTo>
                  <a:pt x="1548" y="715"/>
                  <a:pt x="1517" y="723"/>
                  <a:pt x="1463" y="740"/>
                </a:cubicBezTo>
                <a:cubicBezTo>
                  <a:pt x="1499" y="776"/>
                  <a:pt x="1528" y="815"/>
                  <a:pt x="1564" y="850"/>
                </a:cubicBezTo>
                <a:cubicBezTo>
                  <a:pt x="1570" y="862"/>
                  <a:pt x="1577" y="874"/>
                  <a:pt x="1582" y="887"/>
                </a:cubicBezTo>
                <a:cubicBezTo>
                  <a:pt x="1589" y="905"/>
                  <a:pt x="1600" y="941"/>
                  <a:pt x="1600" y="941"/>
                </a:cubicBezTo>
                <a:cubicBezTo>
                  <a:pt x="1591" y="1021"/>
                  <a:pt x="1602" y="1037"/>
                  <a:pt x="1536" y="1069"/>
                </a:cubicBezTo>
                <a:cubicBezTo>
                  <a:pt x="1469" y="1138"/>
                  <a:pt x="1372" y="1102"/>
                  <a:pt x="1280" y="1097"/>
                </a:cubicBezTo>
                <a:cubicBezTo>
                  <a:pt x="1271" y="1094"/>
                  <a:pt x="1255" y="1079"/>
                  <a:pt x="1253" y="1088"/>
                </a:cubicBezTo>
                <a:cubicBezTo>
                  <a:pt x="1249" y="1104"/>
                  <a:pt x="1263" y="1119"/>
                  <a:pt x="1271" y="1133"/>
                </a:cubicBezTo>
                <a:cubicBezTo>
                  <a:pt x="1321" y="1221"/>
                  <a:pt x="1281" y="1115"/>
                  <a:pt x="1317" y="1216"/>
                </a:cubicBezTo>
                <a:cubicBezTo>
                  <a:pt x="1323" y="1234"/>
                  <a:pt x="1335" y="1271"/>
                  <a:pt x="1335" y="1271"/>
                </a:cubicBezTo>
                <a:cubicBezTo>
                  <a:pt x="1286" y="1369"/>
                  <a:pt x="1152" y="1302"/>
                  <a:pt x="1061" y="1289"/>
                </a:cubicBezTo>
                <a:cubicBezTo>
                  <a:pt x="1024" y="1277"/>
                  <a:pt x="989" y="1261"/>
                  <a:pt x="951" y="1252"/>
                </a:cubicBezTo>
                <a:cubicBezTo>
                  <a:pt x="906" y="1230"/>
                  <a:pt x="862" y="1228"/>
                  <a:pt x="814" y="1216"/>
                </a:cubicBezTo>
                <a:cubicBezTo>
                  <a:pt x="805" y="1210"/>
                  <a:pt x="797" y="1192"/>
                  <a:pt x="787" y="1197"/>
                </a:cubicBezTo>
                <a:cubicBezTo>
                  <a:pt x="776" y="1203"/>
                  <a:pt x="780" y="1221"/>
                  <a:pt x="778" y="1234"/>
                </a:cubicBezTo>
                <a:cubicBezTo>
                  <a:pt x="762" y="1338"/>
                  <a:pt x="790" y="1301"/>
                  <a:pt x="750" y="1344"/>
                </a:cubicBezTo>
                <a:cubicBezTo>
                  <a:pt x="585" y="1326"/>
                  <a:pt x="476" y="1248"/>
                  <a:pt x="348" y="1152"/>
                </a:cubicBezTo>
                <a:cubicBezTo>
                  <a:pt x="336" y="1113"/>
                  <a:pt x="319" y="1093"/>
                  <a:pt x="311" y="1051"/>
                </a:cubicBezTo>
                <a:cubicBezTo>
                  <a:pt x="314" y="1033"/>
                  <a:pt x="307" y="1009"/>
                  <a:pt x="320" y="996"/>
                </a:cubicBezTo>
                <a:cubicBezTo>
                  <a:pt x="329" y="987"/>
                  <a:pt x="330" y="1020"/>
                  <a:pt x="330" y="1033"/>
                </a:cubicBezTo>
                <a:cubicBezTo>
                  <a:pt x="330" y="1095"/>
                  <a:pt x="324" y="1091"/>
                  <a:pt x="293" y="1133"/>
                </a:cubicBezTo>
                <a:cubicBezTo>
                  <a:pt x="278" y="1132"/>
                  <a:pt x="195" y="1128"/>
                  <a:pt x="165" y="1115"/>
                </a:cubicBezTo>
                <a:cubicBezTo>
                  <a:pt x="87" y="1082"/>
                  <a:pt x="28" y="972"/>
                  <a:pt x="0" y="896"/>
                </a:cubicBezTo>
                <a:cubicBezTo>
                  <a:pt x="3" y="841"/>
                  <a:pt x="2" y="786"/>
                  <a:pt x="10" y="731"/>
                </a:cubicBezTo>
                <a:cubicBezTo>
                  <a:pt x="16" y="689"/>
                  <a:pt x="114" y="660"/>
                  <a:pt x="147" y="649"/>
                </a:cubicBezTo>
                <a:cubicBezTo>
                  <a:pt x="116" y="620"/>
                  <a:pt x="111" y="569"/>
                  <a:pt x="92" y="530"/>
                </a:cubicBezTo>
                <a:cubicBezTo>
                  <a:pt x="105" y="350"/>
                  <a:pt x="59" y="397"/>
                  <a:pt x="256" y="420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1595520" y="5705640"/>
            <a:ext cx="815760" cy="315720"/>
            <a:chOff x="1595520" y="5705640"/>
            <a:chExt cx="815760" cy="315720"/>
          </a:xfrm>
        </p:grpSpPr>
        <p:sp>
          <p:nvSpPr>
            <p:cNvPr id="152" name=""/>
            <p:cNvSpPr/>
            <p:nvPr/>
          </p:nvSpPr>
          <p:spPr>
            <a:xfrm>
              <a:off x="1595520" y="5705640"/>
              <a:ext cx="815760" cy="315720"/>
            </a:xfrm>
            <a:prstGeom prst="rect">
              <a:avLst/>
            </a:prstGeom>
            <a:solidFill>
              <a:srgbClr val="a4fa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POINT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595520" y="5705640"/>
              <a:ext cx="81576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595520" y="6021360"/>
              <a:ext cx="81576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595520" y="5705640"/>
              <a:ext cx="0" cy="31572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411280" y="5705640"/>
              <a:ext cx="0" cy="31572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1249200" y="5013360"/>
            <a:ext cx="1882800" cy="320760"/>
            <a:chOff x="1249200" y="5013360"/>
            <a:chExt cx="1882800" cy="320760"/>
          </a:xfrm>
        </p:grpSpPr>
        <p:sp>
          <p:nvSpPr>
            <p:cNvPr id="158" name=""/>
            <p:cNvSpPr/>
            <p:nvPr/>
          </p:nvSpPr>
          <p:spPr>
            <a:xfrm>
              <a:off x="2582640" y="5013360"/>
              <a:ext cx="549360" cy="320760"/>
            </a:xfrm>
            <a:prstGeom prst="rect">
              <a:avLst/>
            </a:prstGeom>
            <a:solidFill>
              <a:srgbClr val="edbf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EOF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249280" y="5013360"/>
              <a:ext cx="333360" cy="32076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915920" y="5013360"/>
              <a:ext cx="333360" cy="32076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582560" y="5013360"/>
              <a:ext cx="333360" cy="32076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249200" y="5013360"/>
              <a:ext cx="333360" cy="32076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249200" y="5013360"/>
              <a:ext cx="18828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249200" y="5334120"/>
              <a:ext cx="18828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249200" y="5013360"/>
              <a:ext cx="0" cy="32076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582560" y="5013360"/>
              <a:ext cx="0" cy="32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915920" y="5013360"/>
              <a:ext cx="0" cy="32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249280" y="5013360"/>
              <a:ext cx="0" cy="32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582640" y="5013360"/>
              <a:ext cx="0" cy="32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132000" y="5013360"/>
              <a:ext cx="0" cy="32076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3492360" y="5084640"/>
            <a:ext cx="2303640" cy="720720"/>
          </a:xfrm>
          <a:prstGeom prst="rightArrow">
            <a:avLst>
              <a:gd name="adj1" fmla="val 50000"/>
              <a:gd name="adj2" fmla="val 7990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OINTER = fopen(“FILE”, “r”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6851520" y="5705640"/>
            <a:ext cx="816120" cy="315720"/>
            <a:chOff x="6851520" y="5705640"/>
            <a:chExt cx="816120" cy="315720"/>
          </a:xfrm>
        </p:grpSpPr>
        <p:sp>
          <p:nvSpPr>
            <p:cNvPr id="173" name=""/>
            <p:cNvSpPr/>
            <p:nvPr/>
          </p:nvSpPr>
          <p:spPr>
            <a:xfrm>
              <a:off x="6851520" y="5705640"/>
              <a:ext cx="816120" cy="315720"/>
            </a:xfrm>
            <a:prstGeom prst="rect">
              <a:avLst/>
            </a:prstGeom>
            <a:solidFill>
              <a:srgbClr val="a4fa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POINT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851520" y="5705640"/>
              <a:ext cx="81612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851520" y="6021360"/>
              <a:ext cx="81612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851520" y="5705640"/>
              <a:ext cx="0" cy="31572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7667640" y="5705640"/>
              <a:ext cx="0" cy="31572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505560" y="5013360"/>
            <a:ext cx="1882800" cy="320760"/>
            <a:chOff x="6505560" y="5013360"/>
            <a:chExt cx="1882800" cy="320760"/>
          </a:xfrm>
        </p:grpSpPr>
        <p:sp>
          <p:nvSpPr>
            <p:cNvPr id="179" name=""/>
            <p:cNvSpPr/>
            <p:nvPr/>
          </p:nvSpPr>
          <p:spPr>
            <a:xfrm>
              <a:off x="7839000" y="5013360"/>
              <a:ext cx="549360" cy="320760"/>
            </a:xfrm>
            <a:prstGeom prst="rect">
              <a:avLst/>
            </a:prstGeom>
            <a:solidFill>
              <a:srgbClr val="edbf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EOF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505640" y="5013360"/>
              <a:ext cx="333360" cy="32076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7172280" y="5013360"/>
              <a:ext cx="333360" cy="32076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838920" y="5013360"/>
              <a:ext cx="333360" cy="32076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505560" y="5013360"/>
              <a:ext cx="333360" cy="32076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505560" y="5013360"/>
              <a:ext cx="18828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505560" y="5334120"/>
              <a:ext cx="18828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505560" y="5013360"/>
              <a:ext cx="0" cy="32076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838920" y="5013360"/>
              <a:ext cx="0" cy="32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72280" y="5013360"/>
              <a:ext cx="0" cy="32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505640" y="5013360"/>
              <a:ext cx="0" cy="32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839000" y="5013360"/>
              <a:ext cx="0" cy="32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388360" y="5013360"/>
              <a:ext cx="0" cy="32076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"/>
          <p:cNvSpPr/>
          <p:nvPr/>
        </p:nvSpPr>
        <p:spPr>
          <a:xfrm flipH="1" flipV="1">
            <a:off x="6659640" y="5229360"/>
            <a:ext cx="504720" cy="50472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e as a Data Type (cont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54200" y="1531800"/>
            <a:ext cx="2570040" cy="2173320"/>
          </a:xfrm>
          <a:custGeom>
            <a:avLst/>
            <a:gdLst/>
            <a:ahLst/>
            <a:rect l="l" t="t" r="r" b="b"/>
            <a:pathLst>
              <a:path w="1619" h="1369">
                <a:moveTo>
                  <a:pt x="256" y="420"/>
                </a:moveTo>
                <a:cubicBezTo>
                  <a:pt x="266" y="205"/>
                  <a:pt x="213" y="172"/>
                  <a:pt x="394" y="128"/>
                </a:cubicBezTo>
                <a:cubicBezTo>
                  <a:pt x="409" y="131"/>
                  <a:pt x="424" y="139"/>
                  <a:pt x="439" y="137"/>
                </a:cubicBezTo>
                <a:cubicBezTo>
                  <a:pt x="463" y="134"/>
                  <a:pt x="467" y="98"/>
                  <a:pt x="485" y="82"/>
                </a:cubicBezTo>
                <a:cubicBezTo>
                  <a:pt x="501" y="67"/>
                  <a:pt x="522" y="57"/>
                  <a:pt x="540" y="45"/>
                </a:cubicBezTo>
                <a:cubicBezTo>
                  <a:pt x="552" y="37"/>
                  <a:pt x="562" y="24"/>
                  <a:pt x="576" y="18"/>
                </a:cubicBezTo>
                <a:cubicBezTo>
                  <a:pt x="599" y="8"/>
                  <a:pt x="626" y="8"/>
                  <a:pt x="650" y="0"/>
                </a:cubicBezTo>
                <a:cubicBezTo>
                  <a:pt x="680" y="3"/>
                  <a:pt x="712" y="0"/>
                  <a:pt x="741" y="9"/>
                </a:cubicBezTo>
                <a:cubicBezTo>
                  <a:pt x="753" y="13"/>
                  <a:pt x="757" y="29"/>
                  <a:pt x="768" y="36"/>
                </a:cubicBezTo>
                <a:cubicBezTo>
                  <a:pt x="776" y="41"/>
                  <a:pt x="787" y="42"/>
                  <a:pt x="796" y="45"/>
                </a:cubicBezTo>
                <a:cubicBezTo>
                  <a:pt x="850" y="99"/>
                  <a:pt x="830" y="73"/>
                  <a:pt x="860" y="119"/>
                </a:cubicBezTo>
                <a:cubicBezTo>
                  <a:pt x="925" y="78"/>
                  <a:pt x="984" y="33"/>
                  <a:pt x="1061" y="18"/>
                </a:cubicBezTo>
                <a:cubicBezTo>
                  <a:pt x="1091" y="12"/>
                  <a:pt x="1152" y="0"/>
                  <a:pt x="1152" y="0"/>
                </a:cubicBezTo>
                <a:cubicBezTo>
                  <a:pt x="1192" y="9"/>
                  <a:pt x="1234" y="9"/>
                  <a:pt x="1271" y="27"/>
                </a:cubicBezTo>
                <a:cubicBezTo>
                  <a:pt x="1301" y="42"/>
                  <a:pt x="1319" y="71"/>
                  <a:pt x="1354" y="82"/>
                </a:cubicBezTo>
                <a:cubicBezTo>
                  <a:pt x="1404" y="132"/>
                  <a:pt x="1409" y="159"/>
                  <a:pt x="1390" y="237"/>
                </a:cubicBezTo>
                <a:cubicBezTo>
                  <a:pt x="1382" y="271"/>
                  <a:pt x="1336" y="281"/>
                  <a:pt x="1308" y="301"/>
                </a:cubicBezTo>
                <a:cubicBezTo>
                  <a:pt x="1300" y="306"/>
                  <a:pt x="1326" y="295"/>
                  <a:pt x="1335" y="292"/>
                </a:cubicBezTo>
                <a:cubicBezTo>
                  <a:pt x="1393" y="296"/>
                  <a:pt x="1458" y="282"/>
                  <a:pt x="1509" y="311"/>
                </a:cubicBezTo>
                <a:cubicBezTo>
                  <a:pt x="1543" y="330"/>
                  <a:pt x="1582" y="402"/>
                  <a:pt x="1582" y="402"/>
                </a:cubicBezTo>
                <a:cubicBezTo>
                  <a:pt x="1595" y="441"/>
                  <a:pt x="1611" y="471"/>
                  <a:pt x="1619" y="512"/>
                </a:cubicBezTo>
                <a:cubicBezTo>
                  <a:pt x="1616" y="552"/>
                  <a:pt x="1619" y="592"/>
                  <a:pt x="1610" y="631"/>
                </a:cubicBezTo>
                <a:cubicBezTo>
                  <a:pt x="1606" y="646"/>
                  <a:pt x="1591" y="655"/>
                  <a:pt x="1582" y="667"/>
                </a:cubicBezTo>
                <a:cubicBezTo>
                  <a:pt x="1548" y="715"/>
                  <a:pt x="1517" y="723"/>
                  <a:pt x="1463" y="740"/>
                </a:cubicBezTo>
                <a:cubicBezTo>
                  <a:pt x="1499" y="776"/>
                  <a:pt x="1528" y="815"/>
                  <a:pt x="1564" y="850"/>
                </a:cubicBezTo>
                <a:cubicBezTo>
                  <a:pt x="1570" y="862"/>
                  <a:pt x="1577" y="874"/>
                  <a:pt x="1582" y="887"/>
                </a:cubicBezTo>
                <a:cubicBezTo>
                  <a:pt x="1589" y="905"/>
                  <a:pt x="1600" y="941"/>
                  <a:pt x="1600" y="941"/>
                </a:cubicBezTo>
                <a:cubicBezTo>
                  <a:pt x="1591" y="1021"/>
                  <a:pt x="1602" y="1037"/>
                  <a:pt x="1536" y="1069"/>
                </a:cubicBezTo>
                <a:cubicBezTo>
                  <a:pt x="1469" y="1138"/>
                  <a:pt x="1372" y="1102"/>
                  <a:pt x="1280" y="1097"/>
                </a:cubicBezTo>
                <a:cubicBezTo>
                  <a:pt x="1271" y="1094"/>
                  <a:pt x="1255" y="1079"/>
                  <a:pt x="1253" y="1088"/>
                </a:cubicBezTo>
                <a:cubicBezTo>
                  <a:pt x="1249" y="1104"/>
                  <a:pt x="1263" y="1119"/>
                  <a:pt x="1271" y="1133"/>
                </a:cubicBezTo>
                <a:cubicBezTo>
                  <a:pt x="1321" y="1221"/>
                  <a:pt x="1281" y="1115"/>
                  <a:pt x="1317" y="1216"/>
                </a:cubicBezTo>
                <a:cubicBezTo>
                  <a:pt x="1323" y="1234"/>
                  <a:pt x="1335" y="1271"/>
                  <a:pt x="1335" y="1271"/>
                </a:cubicBezTo>
                <a:cubicBezTo>
                  <a:pt x="1286" y="1369"/>
                  <a:pt x="1152" y="1302"/>
                  <a:pt x="1061" y="1289"/>
                </a:cubicBezTo>
                <a:cubicBezTo>
                  <a:pt x="1024" y="1277"/>
                  <a:pt x="989" y="1261"/>
                  <a:pt x="951" y="1252"/>
                </a:cubicBezTo>
                <a:cubicBezTo>
                  <a:pt x="906" y="1230"/>
                  <a:pt x="862" y="1228"/>
                  <a:pt x="814" y="1216"/>
                </a:cubicBezTo>
                <a:cubicBezTo>
                  <a:pt x="805" y="1210"/>
                  <a:pt x="797" y="1192"/>
                  <a:pt x="787" y="1197"/>
                </a:cubicBezTo>
                <a:cubicBezTo>
                  <a:pt x="776" y="1203"/>
                  <a:pt x="780" y="1221"/>
                  <a:pt x="778" y="1234"/>
                </a:cubicBezTo>
                <a:cubicBezTo>
                  <a:pt x="762" y="1338"/>
                  <a:pt x="790" y="1301"/>
                  <a:pt x="750" y="1344"/>
                </a:cubicBezTo>
                <a:cubicBezTo>
                  <a:pt x="585" y="1326"/>
                  <a:pt x="476" y="1248"/>
                  <a:pt x="348" y="1152"/>
                </a:cubicBezTo>
                <a:cubicBezTo>
                  <a:pt x="336" y="1113"/>
                  <a:pt x="319" y="1093"/>
                  <a:pt x="311" y="1051"/>
                </a:cubicBezTo>
                <a:cubicBezTo>
                  <a:pt x="314" y="1033"/>
                  <a:pt x="307" y="1009"/>
                  <a:pt x="320" y="996"/>
                </a:cubicBezTo>
                <a:cubicBezTo>
                  <a:pt x="329" y="987"/>
                  <a:pt x="330" y="1020"/>
                  <a:pt x="330" y="1033"/>
                </a:cubicBezTo>
                <a:cubicBezTo>
                  <a:pt x="330" y="1095"/>
                  <a:pt x="324" y="1091"/>
                  <a:pt x="293" y="1133"/>
                </a:cubicBezTo>
                <a:cubicBezTo>
                  <a:pt x="278" y="1132"/>
                  <a:pt x="195" y="1128"/>
                  <a:pt x="165" y="1115"/>
                </a:cubicBezTo>
                <a:cubicBezTo>
                  <a:pt x="87" y="1082"/>
                  <a:pt x="28" y="972"/>
                  <a:pt x="0" y="896"/>
                </a:cubicBezTo>
                <a:cubicBezTo>
                  <a:pt x="3" y="841"/>
                  <a:pt x="2" y="786"/>
                  <a:pt x="10" y="731"/>
                </a:cubicBezTo>
                <a:cubicBezTo>
                  <a:pt x="16" y="689"/>
                  <a:pt x="114" y="660"/>
                  <a:pt x="147" y="649"/>
                </a:cubicBezTo>
                <a:cubicBezTo>
                  <a:pt x="116" y="620"/>
                  <a:pt x="111" y="569"/>
                  <a:pt x="92" y="530"/>
                </a:cubicBezTo>
                <a:cubicBezTo>
                  <a:pt x="105" y="350"/>
                  <a:pt x="59" y="397"/>
                  <a:pt x="256" y="420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962680" y="1542960"/>
            <a:ext cx="2570040" cy="2173320"/>
          </a:xfrm>
          <a:custGeom>
            <a:avLst/>
            <a:gdLst/>
            <a:ahLst/>
            <a:rect l="l" t="t" r="r" b="b"/>
            <a:pathLst>
              <a:path w="1619" h="1369">
                <a:moveTo>
                  <a:pt x="256" y="420"/>
                </a:moveTo>
                <a:cubicBezTo>
                  <a:pt x="266" y="205"/>
                  <a:pt x="213" y="172"/>
                  <a:pt x="394" y="128"/>
                </a:cubicBezTo>
                <a:cubicBezTo>
                  <a:pt x="409" y="131"/>
                  <a:pt x="424" y="139"/>
                  <a:pt x="439" y="137"/>
                </a:cubicBezTo>
                <a:cubicBezTo>
                  <a:pt x="463" y="134"/>
                  <a:pt x="467" y="98"/>
                  <a:pt x="485" y="82"/>
                </a:cubicBezTo>
                <a:cubicBezTo>
                  <a:pt x="501" y="67"/>
                  <a:pt x="522" y="57"/>
                  <a:pt x="540" y="45"/>
                </a:cubicBezTo>
                <a:cubicBezTo>
                  <a:pt x="552" y="37"/>
                  <a:pt x="562" y="24"/>
                  <a:pt x="576" y="18"/>
                </a:cubicBezTo>
                <a:cubicBezTo>
                  <a:pt x="599" y="8"/>
                  <a:pt x="626" y="8"/>
                  <a:pt x="650" y="0"/>
                </a:cubicBezTo>
                <a:cubicBezTo>
                  <a:pt x="680" y="3"/>
                  <a:pt x="712" y="0"/>
                  <a:pt x="741" y="9"/>
                </a:cubicBezTo>
                <a:cubicBezTo>
                  <a:pt x="753" y="13"/>
                  <a:pt x="757" y="29"/>
                  <a:pt x="768" y="36"/>
                </a:cubicBezTo>
                <a:cubicBezTo>
                  <a:pt x="776" y="41"/>
                  <a:pt x="787" y="42"/>
                  <a:pt x="796" y="45"/>
                </a:cubicBezTo>
                <a:cubicBezTo>
                  <a:pt x="850" y="99"/>
                  <a:pt x="830" y="73"/>
                  <a:pt x="860" y="119"/>
                </a:cubicBezTo>
                <a:cubicBezTo>
                  <a:pt x="925" y="78"/>
                  <a:pt x="984" y="33"/>
                  <a:pt x="1061" y="18"/>
                </a:cubicBezTo>
                <a:cubicBezTo>
                  <a:pt x="1091" y="12"/>
                  <a:pt x="1152" y="0"/>
                  <a:pt x="1152" y="0"/>
                </a:cubicBezTo>
                <a:cubicBezTo>
                  <a:pt x="1192" y="9"/>
                  <a:pt x="1234" y="9"/>
                  <a:pt x="1271" y="27"/>
                </a:cubicBezTo>
                <a:cubicBezTo>
                  <a:pt x="1301" y="42"/>
                  <a:pt x="1319" y="71"/>
                  <a:pt x="1354" y="82"/>
                </a:cubicBezTo>
                <a:cubicBezTo>
                  <a:pt x="1404" y="132"/>
                  <a:pt x="1409" y="159"/>
                  <a:pt x="1390" y="237"/>
                </a:cubicBezTo>
                <a:cubicBezTo>
                  <a:pt x="1382" y="271"/>
                  <a:pt x="1336" y="281"/>
                  <a:pt x="1308" y="301"/>
                </a:cubicBezTo>
                <a:cubicBezTo>
                  <a:pt x="1300" y="306"/>
                  <a:pt x="1326" y="295"/>
                  <a:pt x="1335" y="292"/>
                </a:cubicBezTo>
                <a:cubicBezTo>
                  <a:pt x="1393" y="296"/>
                  <a:pt x="1458" y="282"/>
                  <a:pt x="1509" y="311"/>
                </a:cubicBezTo>
                <a:cubicBezTo>
                  <a:pt x="1543" y="330"/>
                  <a:pt x="1582" y="402"/>
                  <a:pt x="1582" y="402"/>
                </a:cubicBezTo>
                <a:cubicBezTo>
                  <a:pt x="1595" y="441"/>
                  <a:pt x="1611" y="471"/>
                  <a:pt x="1619" y="512"/>
                </a:cubicBezTo>
                <a:cubicBezTo>
                  <a:pt x="1616" y="552"/>
                  <a:pt x="1619" y="592"/>
                  <a:pt x="1610" y="631"/>
                </a:cubicBezTo>
                <a:cubicBezTo>
                  <a:pt x="1606" y="646"/>
                  <a:pt x="1591" y="655"/>
                  <a:pt x="1582" y="667"/>
                </a:cubicBezTo>
                <a:cubicBezTo>
                  <a:pt x="1548" y="715"/>
                  <a:pt x="1517" y="723"/>
                  <a:pt x="1463" y="740"/>
                </a:cubicBezTo>
                <a:cubicBezTo>
                  <a:pt x="1499" y="776"/>
                  <a:pt x="1528" y="815"/>
                  <a:pt x="1564" y="850"/>
                </a:cubicBezTo>
                <a:cubicBezTo>
                  <a:pt x="1570" y="862"/>
                  <a:pt x="1577" y="874"/>
                  <a:pt x="1582" y="887"/>
                </a:cubicBezTo>
                <a:cubicBezTo>
                  <a:pt x="1589" y="905"/>
                  <a:pt x="1600" y="941"/>
                  <a:pt x="1600" y="941"/>
                </a:cubicBezTo>
                <a:cubicBezTo>
                  <a:pt x="1591" y="1021"/>
                  <a:pt x="1602" y="1037"/>
                  <a:pt x="1536" y="1069"/>
                </a:cubicBezTo>
                <a:cubicBezTo>
                  <a:pt x="1469" y="1138"/>
                  <a:pt x="1372" y="1102"/>
                  <a:pt x="1280" y="1097"/>
                </a:cubicBezTo>
                <a:cubicBezTo>
                  <a:pt x="1271" y="1094"/>
                  <a:pt x="1255" y="1079"/>
                  <a:pt x="1253" y="1088"/>
                </a:cubicBezTo>
                <a:cubicBezTo>
                  <a:pt x="1249" y="1104"/>
                  <a:pt x="1263" y="1119"/>
                  <a:pt x="1271" y="1133"/>
                </a:cubicBezTo>
                <a:cubicBezTo>
                  <a:pt x="1321" y="1221"/>
                  <a:pt x="1281" y="1115"/>
                  <a:pt x="1317" y="1216"/>
                </a:cubicBezTo>
                <a:cubicBezTo>
                  <a:pt x="1323" y="1234"/>
                  <a:pt x="1335" y="1271"/>
                  <a:pt x="1335" y="1271"/>
                </a:cubicBezTo>
                <a:cubicBezTo>
                  <a:pt x="1286" y="1369"/>
                  <a:pt x="1152" y="1302"/>
                  <a:pt x="1061" y="1289"/>
                </a:cubicBezTo>
                <a:cubicBezTo>
                  <a:pt x="1024" y="1277"/>
                  <a:pt x="989" y="1261"/>
                  <a:pt x="951" y="1252"/>
                </a:cubicBezTo>
                <a:cubicBezTo>
                  <a:pt x="906" y="1230"/>
                  <a:pt x="862" y="1228"/>
                  <a:pt x="814" y="1216"/>
                </a:cubicBezTo>
                <a:cubicBezTo>
                  <a:pt x="805" y="1210"/>
                  <a:pt x="797" y="1192"/>
                  <a:pt x="787" y="1197"/>
                </a:cubicBezTo>
                <a:cubicBezTo>
                  <a:pt x="776" y="1203"/>
                  <a:pt x="780" y="1221"/>
                  <a:pt x="778" y="1234"/>
                </a:cubicBezTo>
                <a:cubicBezTo>
                  <a:pt x="762" y="1338"/>
                  <a:pt x="790" y="1301"/>
                  <a:pt x="750" y="1344"/>
                </a:cubicBezTo>
                <a:cubicBezTo>
                  <a:pt x="585" y="1326"/>
                  <a:pt x="476" y="1248"/>
                  <a:pt x="348" y="1152"/>
                </a:cubicBezTo>
                <a:cubicBezTo>
                  <a:pt x="336" y="1113"/>
                  <a:pt x="319" y="1093"/>
                  <a:pt x="311" y="1051"/>
                </a:cubicBezTo>
                <a:cubicBezTo>
                  <a:pt x="314" y="1033"/>
                  <a:pt x="307" y="1009"/>
                  <a:pt x="320" y="996"/>
                </a:cubicBezTo>
                <a:cubicBezTo>
                  <a:pt x="329" y="987"/>
                  <a:pt x="330" y="1020"/>
                  <a:pt x="330" y="1033"/>
                </a:cubicBezTo>
                <a:cubicBezTo>
                  <a:pt x="330" y="1095"/>
                  <a:pt x="324" y="1091"/>
                  <a:pt x="293" y="1133"/>
                </a:cubicBezTo>
                <a:cubicBezTo>
                  <a:pt x="278" y="1132"/>
                  <a:pt x="195" y="1128"/>
                  <a:pt x="165" y="1115"/>
                </a:cubicBezTo>
                <a:cubicBezTo>
                  <a:pt x="87" y="1082"/>
                  <a:pt x="28" y="972"/>
                  <a:pt x="0" y="896"/>
                </a:cubicBezTo>
                <a:cubicBezTo>
                  <a:pt x="3" y="841"/>
                  <a:pt x="2" y="786"/>
                  <a:pt x="10" y="731"/>
                </a:cubicBezTo>
                <a:cubicBezTo>
                  <a:pt x="16" y="689"/>
                  <a:pt x="114" y="660"/>
                  <a:pt x="147" y="649"/>
                </a:cubicBezTo>
                <a:cubicBezTo>
                  <a:pt x="116" y="620"/>
                  <a:pt x="111" y="569"/>
                  <a:pt x="92" y="530"/>
                </a:cubicBezTo>
                <a:cubicBezTo>
                  <a:pt x="105" y="350"/>
                  <a:pt x="59" y="397"/>
                  <a:pt x="256" y="420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1595520" y="2897280"/>
            <a:ext cx="815760" cy="315720"/>
            <a:chOff x="1595520" y="2897280"/>
            <a:chExt cx="815760" cy="315720"/>
          </a:xfrm>
        </p:grpSpPr>
        <p:sp>
          <p:nvSpPr>
            <p:cNvPr id="197" name=""/>
            <p:cNvSpPr/>
            <p:nvPr/>
          </p:nvSpPr>
          <p:spPr>
            <a:xfrm>
              <a:off x="1595520" y="2897280"/>
              <a:ext cx="815760" cy="315720"/>
            </a:xfrm>
            <a:prstGeom prst="rect">
              <a:avLst/>
            </a:prstGeom>
            <a:solidFill>
              <a:srgbClr val="a4fa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POINT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595520" y="2897280"/>
              <a:ext cx="81576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595520" y="3213000"/>
              <a:ext cx="81576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595520" y="2897280"/>
              <a:ext cx="0" cy="31572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411280" y="2897280"/>
              <a:ext cx="0" cy="31572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249200" y="2205000"/>
            <a:ext cx="1882800" cy="320760"/>
            <a:chOff x="1249200" y="2205000"/>
            <a:chExt cx="1882800" cy="320760"/>
          </a:xfrm>
        </p:grpSpPr>
        <p:sp>
          <p:nvSpPr>
            <p:cNvPr id="203" name=""/>
            <p:cNvSpPr/>
            <p:nvPr/>
          </p:nvSpPr>
          <p:spPr>
            <a:xfrm>
              <a:off x="2582640" y="2205000"/>
              <a:ext cx="549360" cy="320760"/>
            </a:xfrm>
            <a:prstGeom prst="rect">
              <a:avLst/>
            </a:prstGeom>
            <a:solidFill>
              <a:srgbClr val="edbf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EOF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249280" y="2205000"/>
              <a:ext cx="333360" cy="32076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915920" y="2205000"/>
              <a:ext cx="333360" cy="32076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582560" y="2205000"/>
              <a:ext cx="333360" cy="32076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249200" y="2205000"/>
              <a:ext cx="333360" cy="32076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249200" y="2205000"/>
              <a:ext cx="18828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249200" y="2525760"/>
              <a:ext cx="18828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249200" y="2205000"/>
              <a:ext cx="0" cy="32076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582560" y="2205000"/>
              <a:ext cx="0" cy="32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915920" y="2205000"/>
              <a:ext cx="0" cy="32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249280" y="2205000"/>
              <a:ext cx="0" cy="32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582640" y="2205000"/>
              <a:ext cx="0" cy="32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132000" y="2205000"/>
              <a:ext cx="0" cy="32076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6" name=""/>
          <p:cNvSpPr/>
          <p:nvPr/>
        </p:nvSpPr>
        <p:spPr>
          <a:xfrm>
            <a:off x="3492360" y="2276640"/>
            <a:ext cx="2303640" cy="720720"/>
          </a:xfrm>
          <a:prstGeom prst="rightArrow">
            <a:avLst>
              <a:gd name="adj1" fmla="val 50000"/>
              <a:gd name="adj2" fmla="val 7990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OINTER = fopen(“FILE”, “w”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6851520" y="2897280"/>
            <a:ext cx="816120" cy="315720"/>
            <a:chOff x="6851520" y="2897280"/>
            <a:chExt cx="816120" cy="315720"/>
          </a:xfrm>
        </p:grpSpPr>
        <p:sp>
          <p:nvSpPr>
            <p:cNvPr id="218" name=""/>
            <p:cNvSpPr/>
            <p:nvPr/>
          </p:nvSpPr>
          <p:spPr>
            <a:xfrm>
              <a:off x="6851520" y="2897280"/>
              <a:ext cx="816120" cy="315720"/>
            </a:xfrm>
            <a:prstGeom prst="rect">
              <a:avLst/>
            </a:prstGeom>
            <a:solidFill>
              <a:srgbClr val="a4fa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POINT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851520" y="2897280"/>
              <a:ext cx="81612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851520" y="3213000"/>
              <a:ext cx="81612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851520" y="2897280"/>
              <a:ext cx="0" cy="31572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67640" y="2897280"/>
              <a:ext cx="0" cy="31572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"/>
          <p:cNvSpPr/>
          <p:nvPr/>
        </p:nvSpPr>
        <p:spPr>
          <a:xfrm>
            <a:off x="755640" y="4124160"/>
            <a:ext cx="2570040" cy="2173320"/>
          </a:xfrm>
          <a:custGeom>
            <a:avLst/>
            <a:gdLst/>
            <a:ahLst/>
            <a:rect l="l" t="t" r="r" b="b"/>
            <a:pathLst>
              <a:path w="1619" h="1369">
                <a:moveTo>
                  <a:pt x="256" y="420"/>
                </a:moveTo>
                <a:cubicBezTo>
                  <a:pt x="266" y="205"/>
                  <a:pt x="213" y="172"/>
                  <a:pt x="394" y="128"/>
                </a:cubicBezTo>
                <a:cubicBezTo>
                  <a:pt x="409" y="131"/>
                  <a:pt x="424" y="139"/>
                  <a:pt x="439" y="137"/>
                </a:cubicBezTo>
                <a:cubicBezTo>
                  <a:pt x="463" y="134"/>
                  <a:pt x="467" y="98"/>
                  <a:pt x="485" y="82"/>
                </a:cubicBezTo>
                <a:cubicBezTo>
                  <a:pt x="501" y="67"/>
                  <a:pt x="522" y="57"/>
                  <a:pt x="540" y="45"/>
                </a:cubicBezTo>
                <a:cubicBezTo>
                  <a:pt x="552" y="37"/>
                  <a:pt x="562" y="24"/>
                  <a:pt x="576" y="18"/>
                </a:cubicBezTo>
                <a:cubicBezTo>
                  <a:pt x="599" y="8"/>
                  <a:pt x="626" y="8"/>
                  <a:pt x="650" y="0"/>
                </a:cubicBezTo>
                <a:cubicBezTo>
                  <a:pt x="680" y="3"/>
                  <a:pt x="712" y="0"/>
                  <a:pt x="741" y="9"/>
                </a:cubicBezTo>
                <a:cubicBezTo>
                  <a:pt x="753" y="13"/>
                  <a:pt x="757" y="29"/>
                  <a:pt x="768" y="36"/>
                </a:cubicBezTo>
                <a:cubicBezTo>
                  <a:pt x="776" y="41"/>
                  <a:pt x="787" y="42"/>
                  <a:pt x="796" y="45"/>
                </a:cubicBezTo>
                <a:cubicBezTo>
                  <a:pt x="850" y="99"/>
                  <a:pt x="830" y="73"/>
                  <a:pt x="860" y="119"/>
                </a:cubicBezTo>
                <a:cubicBezTo>
                  <a:pt x="925" y="78"/>
                  <a:pt x="984" y="33"/>
                  <a:pt x="1061" y="18"/>
                </a:cubicBezTo>
                <a:cubicBezTo>
                  <a:pt x="1091" y="12"/>
                  <a:pt x="1152" y="0"/>
                  <a:pt x="1152" y="0"/>
                </a:cubicBezTo>
                <a:cubicBezTo>
                  <a:pt x="1192" y="9"/>
                  <a:pt x="1234" y="9"/>
                  <a:pt x="1271" y="27"/>
                </a:cubicBezTo>
                <a:cubicBezTo>
                  <a:pt x="1301" y="42"/>
                  <a:pt x="1319" y="71"/>
                  <a:pt x="1354" y="82"/>
                </a:cubicBezTo>
                <a:cubicBezTo>
                  <a:pt x="1404" y="132"/>
                  <a:pt x="1409" y="159"/>
                  <a:pt x="1390" y="237"/>
                </a:cubicBezTo>
                <a:cubicBezTo>
                  <a:pt x="1382" y="271"/>
                  <a:pt x="1336" y="281"/>
                  <a:pt x="1308" y="301"/>
                </a:cubicBezTo>
                <a:cubicBezTo>
                  <a:pt x="1300" y="306"/>
                  <a:pt x="1326" y="295"/>
                  <a:pt x="1335" y="292"/>
                </a:cubicBezTo>
                <a:cubicBezTo>
                  <a:pt x="1393" y="296"/>
                  <a:pt x="1458" y="282"/>
                  <a:pt x="1509" y="311"/>
                </a:cubicBezTo>
                <a:cubicBezTo>
                  <a:pt x="1543" y="330"/>
                  <a:pt x="1582" y="402"/>
                  <a:pt x="1582" y="402"/>
                </a:cubicBezTo>
                <a:cubicBezTo>
                  <a:pt x="1595" y="441"/>
                  <a:pt x="1611" y="471"/>
                  <a:pt x="1619" y="512"/>
                </a:cubicBezTo>
                <a:cubicBezTo>
                  <a:pt x="1616" y="552"/>
                  <a:pt x="1619" y="592"/>
                  <a:pt x="1610" y="631"/>
                </a:cubicBezTo>
                <a:cubicBezTo>
                  <a:pt x="1606" y="646"/>
                  <a:pt x="1591" y="655"/>
                  <a:pt x="1582" y="667"/>
                </a:cubicBezTo>
                <a:cubicBezTo>
                  <a:pt x="1548" y="715"/>
                  <a:pt x="1517" y="723"/>
                  <a:pt x="1463" y="740"/>
                </a:cubicBezTo>
                <a:cubicBezTo>
                  <a:pt x="1499" y="776"/>
                  <a:pt x="1528" y="815"/>
                  <a:pt x="1564" y="850"/>
                </a:cubicBezTo>
                <a:cubicBezTo>
                  <a:pt x="1570" y="862"/>
                  <a:pt x="1577" y="874"/>
                  <a:pt x="1582" y="887"/>
                </a:cubicBezTo>
                <a:cubicBezTo>
                  <a:pt x="1589" y="905"/>
                  <a:pt x="1600" y="941"/>
                  <a:pt x="1600" y="941"/>
                </a:cubicBezTo>
                <a:cubicBezTo>
                  <a:pt x="1591" y="1021"/>
                  <a:pt x="1602" y="1037"/>
                  <a:pt x="1536" y="1069"/>
                </a:cubicBezTo>
                <a:cubicBezTo>
                  <a:pt x="1469" y="1138"/>
                  <a:pt x="1372" y="1102"/>
                  <a:pt x="1280" y="1097"/>
                </a:cubicBezTo>
                <a:cubicBezTo>
                  <a:pt x="1271" y="1094"/>
                  <a:pt x="1255" y="1079"/>
                  <a:pt x="1253" y="1088"/>
                </a:cubicBezTo>
                <a:cubicBezTo>
                  <a:pt x="1249" y="1104"/>
                  <a:pt x="1263" y="1119"/>
                  <a:pt x="1271" y="1133"/>
                </a:cubicBezTo>
                <a:cubicBezTo>
                  <a:pt x="1321" y="1221"/>
                  <a:pt x="1281" y="1115"/>
                  <a:pt x="1317" y="1216"/>
                </a:cubicBezTo>
                <a:cubicBezTo>
                  <a:pt x="1323" y="1234"/>
                  <a:pt x="1335" y="1271"/>
                  <a:pt x="1335" y="1271"/>
                </a:cubicBezTo>
                <a:cubicBezTo>
                  <a:pt x="1286" y="1369"/>
                  <a:pt x="1152" y="1302"/>
                  <a:pt x="1061" y="1289"/>
                </a:cubicBezTo>
                <a:cubicBezTo>
                  <a:pt x="1024" y="1277"/>
                  <a:pt x="989" y="1261"/>
                  <a:pt x="951" y="1252"/>
                </a:cubicBezTo>
                <a:cubicBezTo>
                  <a:pt x="906" y="1230"/>
                  <a:pt x="862" y="1228"/>
                  <a:pt x="814" y="1216"/>
                </a:cubicBezTo>
                <a:cubicBezTo>
                  <a:pt x="805" y="1210"/>
                  <a:pt x="797" y="1192"/>
                  <a:pt x="787" y="1197"/>
                </a:cubicBezTo>
                <a:cubicBezTo>
                  <a:pt x="776" y="1203"/>
                  <a:pt x="780" y="1221"/>
                  <a:pt x="778" y="1234"/>
                </a:cubicBezTo>
                <a:cubicBezTo>
                  <a:pt x="762" y="1338"/>
                  <a:pt x="790" y="1301"/>
                  <a:pt x="750" y="1344"/>
                </a:cubicBezTo>
                <a:cubicBezTo>
                  <a:pt x="585" y="1326"/>
                  <a:pt x="476" y="1248"/>
                  <a:pt x="348" y="1152"/>
                </a:cubicBezTo>
                <a:cubicBezTo>
                  <a:pt x="336" y="1113"/>
                  <a:pt x="319" y="1093"/>
                  <a:pt x="311" y="1051"/>
                </a:cubicBezTo>
                <a:cubicBezTo>
                  <a:pt x="314" y="1033"/>
                  <a:pt x="307" y="1009"/>
                  <a:pt x="320" y="996"/>
                </a:cubicBezTo>
                <a:cubicBezTo>
                  <a:pt x="329" y="987"/>
                  <a:pt x="330" y="1020"/>
                  <a:pt x="330" y="1033"/>
                </a:cubicBezTo>
                <a:cubicBezTo>
                  <a:pt x="330" y="1095"/>
                  <a:pt x="324" y="1091"/>
                  <a:pt x="293" y="1133"/>
                </a:cubicBezTo>
                <a:cubicBezTo>
                  <a:pt x="278" y="1132"/>
                  <a:pt x="195" y="1128"/>
                  <a:pt x="165" y="1115"/>
                </a:cubicBezTo>
                <a:cubicBezTo>
                  <a:pt x="87" y="1082"/>
                  <a:pt x="28" y="972"/>
                  <a:pt x="0" y="896"/>
                </a:cubicBezTo>
                <a:cubicBezTo>
                  <a:pt x="3" y="841"/>
                  <a:pt x="2" y="786"/>
                  <a:pt x="10" y="731"/>
                </a:cubicBezTo>
                <a:cubicBezTo>
                  <a:pt x="16" y="689"/>
                  <a:pt x="114" y="660"/>
                  <a:pt x="147" y="649"/>
                </a:cubicBezTo>
                <a:cubicBezTo>
                  <a:pt x="116" y="620"/>
                  <a:pt x="111" y="569"/>
                  <a:pt x="92" y="530"/>
                </a:cubicBezTo>
                <a:cubicBezTo>
                  <a:pt x="105" y="350"/>
                  <a:pt x="59" y="397"/>
                  <a:pt x="256" y="420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964120" y="4135320"/>
            <a:ext cx="2570400" cy="2173320"/>
          </a:xfrm>
          <a:custGeom>
            <a:avLst/>
            <a:gdLst/>
            <a:ahLst/>
            <a:rect l="l" t="t" r="r" b="b"/>
            <a:pathLst>
              <a:path w="1619" h="1369">
                <a:moveTo>
                  <a:pt x="256" y="420"/>
                </a:moveTo>
                <a:cubicBezTo>
                  <a:pt x="266" y="205"/>
                  <a:pt x="213" y="172"/>
                  <a:pt x="394" y="128"/>
                </a:cubicBezTo>
                <a:cubicBezTo>
                  <a:pt x="409" y="131"/>
                  <a:pt x="424" y="139"/>
                  <a:pt x="439" y="137"/>
                </a:cubicBezTo>
                <a:cubicBezTo>
                  <a:pt x="463" y="134"/>
                  <a:pt x="467" y="98"/>
                  <a:pt x="485" y="82"/>
                </a:cubicBezTo>
                <a:cubicBezTo>
                  <a:pt x="501" y="67"/>
                  <a:pt x="522" y="57"/>
                  <a:pt x="540" y="45"/>
                </a:cubicBezTo>
                <a:cubicBezTo>
                  <a:pt x="552" y="37"/>
                  <a:pt x="562" y="24"/>
                  <a:pt x="576" y="18"/>
                </a:cubicBezTo>
                <a:cubicBezTo>
                  <a:pt x="599" y="8"/>
                  <a:pt x="626" y="8"/>
                  <a:pt x="650" y="0"/>
                </a:cubicBezTo>
                <a:cubicBezTo>
                  <a:pt x="680" y="3"/>
                  <a:pt x="712" y="0"/>
                  <a:pt x="741" y="9"/>
                </a:cubicBezTo>
                <a:cubicBezTo>
                  <a:pt x="753" y="13"/>
                  <a:pt x="757" y="29"/>
                  <a:pt x="768" y="36"/>
                </a:cubicBezTo>
                <a:cubicBezTo>
                  <a:pt x="776" y="41"/>
                  <a:pt x="787" y="42"/>
                  <a:pt x="796" y="45"/>
                </a:cubicBezTo>
                <a:cubicBezTo>
                  <a:pt x="850" y="99"/>
                  <a:pt x="830" y="73"/>
                  <a:pt x="860" y="119"/>
                </a:cubicBezTo>
                <a:cubicBezTo>
                  <a:pt x="925" y="78"/>
                  <a:pt x="984" y="33"/>
                  <a:pt x="1061" y="18"/>
                </a:cubicBezTo>
                <a:cubicBezTo>
                  <a:pt x="1091" y="12"/>
                  <a:pt x="1152" y="0"/>
                  <a:pt x="1152" y="0"/>
                </a:cubicBezTo>
                <a:cubicBezTo>
                  <a:pt x="1192" y="9"/>
                  <a:pt x="1234" y="9"/>
                  <a:pt x="1271" y="27"/>
                </a:cubicBezTo>
                <a:cubicBezTo>
                  <a:pt x="1301" y="42"/>
                  <a:pt x="1319" y="71"/>
                  <a:pt x="1354" y="82"/>
                </a:cubicBezTo>
                <a:cubicBezTo>
                  <a:pt x="1404" y="132"/>
                  <a:pt x="1409" y="159"/>
                  <a:pt x="1390" y="237"/>
                </a:cubicBezTo>
                <a:cubicBezTo>
                  <a:pt x="1382" y="271"/>
                  <a:pt x="1336" y="281"/>
                  <a:pt x="1308" y="301"/>
                </a:cubicBezTo>
                <a:cubicBezTo>
                  <a:pt x="1300" y="306"/>
                  <a:pt x="1326" y="295"/>
                  <a:pt x="1335" y="292"/>
                </a:cubicBezTo>
                <a:cubicBezTo>
                  <a:pt x="1393" y="296"/>
                  <a:pt x="1458" y="282"/>
                  <a:pt x="1509" y="311"/>
                </a:cubicBezTo>
                <a:cubicBezTo>
                  <a:pt x="1543" y="330"/>
                  <a:pt x="1582" y="402"/>
                  <a:pt x="1582" y="402"/>
                </a:cubicBezTo>
                <a:cubicBezTo>
                  <a:pt x="1595" y="441"/>
                  <a:pt x="1611" y="471"/>
                  <a:pt x="1619" y="512"/>
                </a:cubicBezTo>
                <a:cubicBezTo>
                  <a:pt x="1616" y="552"/>
                  <a:pt x="1619" y="592"/>
                  <a:pt x="1610" y="631"/>
                </a:cubicBezTo>
                <a:cubicBezTo>
                  <a:pt x="1606" y="646"/>
                  <a:pt x="1591" y="655"/>
                  <a:pt x="1582" y="667"/>
                </a:cubicBezTo>
                <a:cubicBezTo>
                  <a:pt x="1548" y="715"/>
                  <a:pt x="1517" y="723"/>
                  <a:pt x="1463" y="740"/>
                </a:cubicBezTo>
                <a:cubicBezTo>
                  <a:pt x="1499" y="776"/>
                  <a:pt x="1528" y="815"/>
                  <a:pt x="1564" y="850"/>
                </a:cubicBezTo>
                <a:cubicBezTo>
                  <a:pt x="1570" y="862"/>
                  <a:pt x="1577" y="874"/>
                  <a:pt x="1582" y="887"/>
                </a:cubicBezTo>
                <a:cubicBezTo>
                  <a:pt x="1589" y="905"/>
                  <a:pt x="1600" y="941"/>
                  <a:pt x="1600" y="941"/>
                </a:cubicBezTo>
                <a:cubicBezTo>
                  <a:pt x="1591" y="1021"/>
                  <a:pt x="1602" y="1037"/>
                  <a:pt x="1536" y="1069"/>
                </a:cubicBezTo>
                <a:cubicBezTo>
                  <a:pt x="1469" y="1138"/>
                  <a:pt x="1372" y="1102"/>
                  <a:pt x="1280" y="1097"/>
                </a:cubicBezTo>
                <a:cubicBezTo>
                  <a:pt x="1271" y="1094"/>
                  <a:pt x="1255" y="1079"/>
                  <a:pt x="1253" y="1088"/>
                </a:cubicBezTo>
                <a:cubicBezTo>
                  <a:pt x="1249" y="1104"/>
                  <a:pt x="1263" y="1119"/>
                  <a:pt x="1271" y="1133"/>
                </a:cubicBezTo>
                <a:cubicBezTo>
                  <a:pt x="1321" y="1221"/>
                  <a:pt x="1281" y="1115"/>
                  <a:pt x="1317" y="1216"/>
                </a:cubicBezTo>
                <a:cubicBezTo>
                  <a:pt x="1323" y="1234"/>
                  <a:pt x="1335" y="1271"/>
                  <a:pt x="1335" y="1271"/>
                </a:cubicBezTo>
                <a:cubicBezTo>
                  <a:pt x="1286" y="1369"/>
                  <a:pt x="1152" y="1302"/>
                  <a:pt x="1061" y="1289"/>
                </a:cubicBezTo>
                <a:cubicBezTo>
                  <a:pt x="1024" y="1277"/>
                  <a:pt x="989" y="1261"/>
                  <a:pt x="951" y="1252"/>
                </a:cubicBezTo>
                <a:cubicBezTo>
                  <a:pt x="906" y="1230"/>
                  <a:pt x="862" y="1228"/>
                  <a:pt x="814" y="1216"/>
                </a:cubicBezTo>
                <a:cubicBezTo>
                  <a:pt x="805" y="1210"/>
                  <a:pt x="797" y="1192"/>
                  <a:pt x="787" y="1197"/>
                </a:cubicBezTo>
                <a:cubicBezTo>
                  <a:pt x="776" y="1203"/>
                  <a:pt x="780" y="1221"/>
                  <a:pt x="778" y="1234"/>
                </a:cubicBezTo>
                <a:cubicBezTo>
                  <a:pt x="762" y="1338"/>
                  <a:pt x="790" y="1301"/>
                  <a:pt x="750" y="1344"/>
                </a:cubicBezTo>
                <a:cubicBezTo>
                  <a:pt x="585" y="1326"/>
                  <a:pt x="476" y="1248"/>
                  <a:pt x="348" y="1152"/>
                </a:cubicBezTo>
                <a:cubicBezTo>
                  <a:pt x="336" y="1113"/>
                  <a:pt x="319" y="1093"/>
                  <a:pt x="311" y="1051"/>
                </a:cubicBezTo>
                <a:cubicBezTo>
                  <a:pt x="314" y="1033"/>
                  <a:pt x="307" y="1009"/>
                  <a:pt x="320" y="996"/>
                </a:cubicBezTo>
                <a:cubicBezTo>
                  <a:pt x="329" y="987"/>
                  <a:pt x="330" y="1020"/>
                  <a:pt x="330" y="1033"/>
                </a:cubicBezTo>
                <a:cubicBezTo>
                  <a:pt x="330" y="1095"/>
                  <a:pt x="324" y="1091"/>
                  <a:pt x="293" y="1133"/>
                </a:cubicBezTo>
                <a:cubicBezTo>
                  <a:pt x="278" y="1132"/>
                  <a:pt x="195" y="1128"/>
                  <a:pt x="165" y="1115"/>
                </a:cubicBezTo>
                <a:cubicBezTo>
                  <a:pt x="87" y="1082"/>
                  <a:pt x="28" y="972"/>
                  <a:pt x="0" y="896"/>
                </a:cubicBezTo>
                <a:cubicBezTo>
                  <a:pt x="3" y="841"/>
                  <a:pt x="2" y="786"/>
                  <a:pt x="10" y="731"/>
                </a:cubicBezTo>
                <a:cubicBezTo>
                  <a:pt x="16" y="689"/>
                  <a:pt x="114" y="660"/>
                  <a:pt x="147" y="649"/>
                </a:cubicBezTo>
                <a:cubicBezTo>
                  <a:pt x="116" y="620"/>
                  <a:pt x="111" y="569"/>
                  <a:pt x="92" y="530"/>
                </a:cubicBezTo>
                <a:cubicBezTo>
                  <a:pt x="105" y="350"/>
                  <a:pt x="59" y="397"/>
                  <a:pt x="256" y="420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596960" y="5489640"/>
            <a:ext cx="814320" cy="315720"/>
            <a:chOff x="1596960" y="5489640"/>
            <a:chExt cx="814320" cy="315720"/>
          </a:xfrm>
        </p:grpSpPr>
        <p:sp>
          <p:nvSpPr>
            <p:cNvPr id="226" name=""/>
            <p:cNvSpPr/>
            <p:nvPr/>
          </p:nvSpPr>
          <p:spPr>
            <a:xfrm>
              <a:off x="1596960" y="5489640"/>
              <a:ext cx="814320" cy="315720"/>
            </a:xfrm>
            <a:prstGeom prst="rect">
              <a:avLst/>
            </a:prstGeom>
            <a:solidFill>
              <a:srgbClr val="a4fa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POINT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596960" y="5489640"/>
              <a:ext cx="81432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596960" y="5805360"/>
              <a:ext cx="81432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596960" y="5489640"/>
              <a:ext cx="0" cy="31572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411280" y="5489640"/>
              <a:ext cx="0" cy="31572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251000" y="4797360"/>
            <a:ext cx="1882800" cy="320760"/>
            <a:chOff x="1251000" y="4797360"/>
            <a:chExt cx="1882800" cy="320760"/>
          </a:xfrm>
        </p:grpSpPr>
        <p:sp>
          <p:nvSpPr>
            <p:cNvPr id="232" name=""/>
            <p:cNvSpPr/>
            <p:nvPr/>
          </p:nvSpPr>
          <p:spPr>
            <a:xfrm>
              <a:off x="2584440" y="4797360"/>
              <a:ext cx="549360" cy="320760"/>
            </a:xfrm>
            <a:prstGeom prst="rect">
              <a:avLst/>
            </a:prstGeom>
            <a:solidFill>
              <a:srgbClr val="edbf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EOF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251080" y="4797360"/>
              <a:ext cx="333360" cy="32076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917720" y="4797360"/>
              <a:ext cx="333360" cy="32076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584360" y="4797360"/>
              <a:ext cx="333360" cy="32076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251000" y="4797360"/>
              <a:ext cx="333360" cy="32076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251000" y="4797360"/>
              <a:ext cx="18828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251000" y="5118120"/>
              <a:ext cx="18828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251000" y="4797360"/>
              <a:ext cx="0" cy="32076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584360" y="4797360"/>
              <a:ext cx="0" cy="32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917720" y="4797360"/>
              <a:ext cx="0" cy="32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251080" y="4797360"/>
              <a:ext cx="0" cy="32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584440" y="4797360"/>
              <a:ext cx="0" cy="32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133800" y="4797360"/>
              <a:ext cx="0" cy="32076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5" name=""/>
          <p:cNvSpPr/>
          <p:nvPr/>
        </p:nvSpPr>
        <p:spPr>
          <a:xfrm>
            <a:off x="3494160" y="4869000"/>
            <a:ext cx="2303280" cy="720720"/>
          </a:xfrm>
          <a:prstGeom prst="rightArrow">
            <a:avLst>
              <a:gd name="adj1" fmla="val 50000"/>
              <a:gd name="adj2" fmla="val 7989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OINTER = fopen(“FILE”, “a”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6853320" y="5489640"/>
            <a:ext cx="814320" cy="315720"/>
            <a:chOff x="6853320" y="5489640"/>
            <a:chExt cx="814320" cy="315720"/>
          </a:xfrm>
        </p:grpSpPr>
        <p:sp>
          <p:nvSpPr>
            <p:cNvPr id="247" name=""/>
            <p:cNvSpPr/>
            <p:nvPr/>
          </p:nvSpPr>
          <p:spPr>
            <a:xfrm>
              <a:off x="6853320" y="5489640"/>
              <a:ext cx="814320" cy="315720"/>
            </a:xfrm>
            <a:prstGeom prst="rect">
              <a:avLst/>
            </a:prstGeom>
            <a:solidFill>
              <a:srgbClr val="a4fa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POINT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853320" y="5489640"/>
              <a:ext cx="81432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853320" y="5805360"/>
              <a:ext cx="81432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853320" y="5489640"/>
              <a:ext cx="0" cy="31572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667640" y="5489640"/>
              <a:ext cx="0" cy="31572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2" name=""/>
          <p:cNvGrpSpPr/>
          <p:nvPr/>
        </p:nvGrpSpPr>
        <p:grpSpPr>
          <a:xfrm>
            <a:off x="6507000" y="4797360"/>
            <a:ext cx="1882800" cy="320760"/>
            <a:chOff x="6507000" y="4797360"/>
            <a:chExt cx="1882800" cy="320760"/>
          </a:xfrm>
        </p:grpSpPr>
        <p:sp>
          <p:nvSpPr>
            <p:cNvPr id="253" name=""/>
            <p:cNvSpPr/>
            <p:nvPr/>
          </p:nvSpPr>
          <p:spPr>
            <a:xfrm>
              <a:off x="7840440" y="4797360"/>
              <a:ext cx="549360" cy="320760"/>
            </a:xfrm>
            <a:prstGeom prst="rect">
              <a:avLst/>
            </a:prstGeom>
            <a:solidFill>
              <a:srgbClr val="edbf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EOF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507080" y="4797360"/>
              <a:ext cx="333360" cy="32076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173720" y="4797360"/>
              <a:ext cx="333360" cy="32076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840360" y="4797360"/>
              <a:ext cx="333360" cy="32076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507000" y="4797360"/>
              <a:ext cx="333360" cy="32076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507000" y="4797360"/>
              <a:ext cx="18828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507000" y="5118120"/>
              <a:ext cx="18828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507000" y="4797360"/>
              <a:ext cx="0" cy="32076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840360" y="4797360"/>
              <a:ext cx="0" cy="32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73720" y="4797360"/>
              <a:ext cx="0" cy="32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7507080" y="4797360"/>
              <a:ext cx="0" cy="32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840440" y="4797360"/>
              <a:ext cx="0" cy="32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8389800" y="4797360"/>
              <a:ext cx="0" cy="32076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6" name=""/>
          <p:cNvSpPr/>
          <p:nvPr/>
        </p:nvSpPr>
        <p:spPr>
          <a:xfrm flipH="1" flipV="1">
            <a:off x="6661080" y="5013360"/>
            <a:ext cx="504720" cy="50472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6505560" y="2205000"/>
            <a:ext cx="514440" cy="316080"/>
            <a:chOff x="6505560" y="2205000"/>
            <a:chExt cx="514440" cy="316080"/>
          </a:xfrm>
        </p:grpSpPr>
        <p:sp>
          <p:nvSpPr>
            <p:cNvPr id="268" name=""/>
            <p:cNvSpPr/>
            <p:nvPr/>
          </p:nvSpPr>
          <p:spPr>
            <a:xfrm>
              <a:off x="6505560" y="2205000"/>
              <a:ext cx="514440" cy="316080"/>
            </a:xfrm>
            <a:prstGeom prst="rect">
              <a:avLst/>
            </a:prstGeom>
            <a:solidFill>
              <a:srgbClr val="edbf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EOF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6505560" y="2205000"/>
              <a:ext cx="51444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505560" y="2521080"/>
              <a:ext cx="51444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505560" y="2205000"/>
              <a:ext cx="0" cy="3160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7020000" y="2205000"/>
              <a:ext cx="0" cy="3160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3" name=""/>
          <p:cNvSpPr/>
          <p:nvPr/>
        </p:nvSpPr>
        <p:spPr>
          <a:xfrm flipH="1" flipV="1">
            <a:off x="6659640" y="2421000"/>
            <a:ext cx="504720" cy="50472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e as a Data Type (cont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fclose(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le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close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returns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ff file is closed properly, otherwise it returns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EO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feof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eturns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f file points out at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EO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therwi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755640" y="4124160"/>
            <a:ext cx="2570040" cy="2173320"/>
          </a:xfrm>
          <a:custGeom>
            <a:avLst/>
            <a:gdLst/>
            <a:ahLst/>
            <a:rect l="l" t="t" r="r" b="b"/>
            <a:pathLst>
              <a:path w="1619" h="1369">
                <a:moveTo>
                  <a:pt x="256" y="420"/>
                </a:moveTo>
                <a:cubicBezTo>
                  <a:pt x="266" y="205"/>
                  <a:pt x="213" y="172"/>
                  <a:pt x="394" y="128"/>
                </a:cubicBezTo>
                <a:cubicBezTo>
                  <a:pt x="409" y="131"/>
                  <a:pt x="424" y="139"/>
                  <a:pt x="439" y="137"/>
                </a:cubicBezTo>
                <a:cubicBezTo>
                  <a:pt x="463" y="134"/>
                  <a:pt x="467" y="98"/>
                  <a:pt x="485" y="82"/>
                </a:cubicBezTo>
                <a:cubicBezTo>
                  <a:pt x="501" y="67"/>
                  <a:pt x="522" y="57"/>
                  <a:pt x="540" y="45"/>
                </a:cubicBezTo>
                <a:cubicBezTo>
                  <a:pt x="552" y="37"/>
                  <a:pt x="562" y="24"/>
                  <a:pt x="576" y="18"/>
                </a:cubicBezTo>
                <a:cubicBezTo>
                  <a:pt x="599" y="8"/>
                  <a:pt x="626" y="8"/>
                  <a:pt x="650" y="0"/>
                </a:cubicBezTo>
                <a:cubicBezTo>
                  <a:pt x="680" y="3"/>
                  <a:pt x="712" y="0"/>
                  <a:pt x="741" y="9"/>
                </a:cubicBezTo>
                <a:cubicBezTo>
                  <a:pt x="753" y="13"/>
                  <a:pt x="757" y="29"/>
                  <a:pt x="768" y="36"/>
                </a:cubicBezTo>
                <a:cubicBezTo>
                  <a:pt x="776" y="41"/>
                  <a:pt x="787" y="42"/>
                  <a:pt x="796" y="45"/>
                </a:cubicBezTo>
                <a:cubicBezTo>
                  <a:pt x="850" y="99"/>
                  <a:pt x="830" y="73"/>
                  <a:pt x="860" y="119"/>
                </a:cubicBezTo>
                <a:cubicBezTo>
                  <a:pt x="925" y="78"/>
                  <a:pt x="984" y="33"/>
                  <a:pt x="1061" y="18"/>
                </a:cubicBezTo>
                <a:cubicBezTo>
                  <a:pt x="1091" y="12"/>
                  <a:pt x="1152" y="0"/>
                  <a:pt x="1152" y="0"/>
                </a:cubicBezTo>
                <a:cubicBezTo>
                  <a:pt x="1192" y="9"/>
                  <a:pt x="1234" y="9"/>
                  <a:pt x="1271" y="27"/>
                </a:cubicBezTo>
                <a:cubicBezTo>
                  <a:pt x="1301" y="42"/>
                  <a:pt x="1319" y="71"/>
                  <a:pt x="1354" y="82"/>
                </a:cubicBezTo>
                <a:cubicBezTo>
                  <a:pt x="1404" y="132"/>
                  <a:pt x="1409" y="159"/>
                  <a:pt x="1390" y="237"/>
                </a:cubicBezTo>
                <a:cubicBezTo>
                  <a:pt x="1382" y="271"/>
                  <a:pt x="1336" y="281"/>
                  <a:pt x="1308" y="301"/>
                </a:cubicBezTo>
                <a:cubicBezTo>
                  <a:pt x="1300" y="306"/>
                  <a:pt x="1326" y="295"/>
                  <a:pt x="1335" y="292"/>
                </a:cubicBezTo>
                <a:cubicBezTo>
                  <a:pt x="1393" y="296"/>
                  <a:pt x="1458" y="282"/>
                  <a:pt x="1509" y="311"/>
                </a:cubicBezTo>
                <a:cubicBezTo>
                  <a:pt x="1543" y="330"/>
                  <a:pt x="1582" y="402"/>
                  <a:pt x="1582" y="402"/>
                </a:cubicBezTo>
                <a:cubicBezTo>
                  <a:pt x="1595" y="441"/>
                  <a:pt x="1611" y="471"/>
                  <a:pt x="1619" y="512"/>
                </a:cubicBezTo>
                <a:cubicBezTo>
                  <a:pt x="1616" y="552"/>
                  <a:pt x="1619" y="592"/>
                  <a:pt x="1610" y="631"/>
                </a:cubicBezTo>
                <a:cubicBezTo>
                  <a:pt x="1606" y="646"/>
                  <a:pt x="1591" y="655"/>
                  <a:pt x="1582" y="667"/>
                </a:cubicBezTo>
                <a:cubicBezTo>
                  <a:pt x="1548" y="715"/>
                  <a:pt x="1517" y="723"/>
                  <a:pt x="1463" y="740"/>
                </a:cubicBezTo>
                <a:cubicBezTo>
                  <a:pt x="1499" y="776"/>
                  <a:pt x="1528" y="815"/>
                  <a:pt x="1564" y="850"/>
                </a:cubicBezTo>
                <a:cubicBezTo>
                  <a:pt x="1570" y="862"/>
                  <a:pt x="1577" y="874"/>
                  <a:pt x="1582" y="887"/>
                </a:cubicBezTo>
                <a:cubicBezTo>
                  <a:pt x="1589" y="905"/>
                  <a:pt x="1600" y="941"/>
                  <a:pt x="1600" y="941"/>
                </a:cubicBezTo>
                <a:cubicBezTo>
                  <a:pt x="1591" y="1021"/>
                  <a:pt x="1602" y="1037"/>
                  <a:pt x="1536" y="1069"/>
                </a:cubicBezTo>
                <a:cubicBezTo>
                  <a:pt x="1469" y="1138"/>
                  <a:pt x="1372" y="1102"/>
                  <a:pt x="1280" y="1097"/>
                </a:cubicBezTo>
                <a:cubicBezTo>
                  <a:pt x="1271" y="1094"/>
                  <a:pt x="1255" y="1079"/>
                  <a:pt x="1253" y="1088"/>
                </a:cubicBezTo>
                <a:cubicBezTo>
                  <a:pt x="1249" y="1104"/>
                  <a:pt x="1263" y="1119"/>
                  <a:pt x="1271" y="1133"/>
                </a:cubicBezTo>
                <a:cubicBezTo>
                  <a:pt x="1321" y="1221"/>
                  <a:pt x="1281" y="1115"/>
                  <a:pt x="1317" y="1216"/>
                </a:cubicBezTo>
                <a:cubicBezTo>
                  <a:pt x="1323" y="1234"/>
                  <a:pt x="1335" y="1271"/>
                  <a:pt x="1335" y="1271"/>
                </a:cubicBezTo>
                <a:cubicBezTo>
                  <a:pt x="1286" y="1369"/>
                  <a:pt x="1152" y="1302"/>
                  <a:pt x="1061" y="1289"/>
                </a:cubicBezTo>
                <a:cubicBezTo>
                  <a:pt x="1024" y="1277"/>
                  <a:pt x="989" y="1261"/>
                  <a:pt x="951" y="1252"/>
                </a:cubicBezTo>
                <a:cubicBezTo>
                  <a:pt x="906" y="1230"/>
                  <a:pt x="862" y="1228"/>
                  <a:pt x="814" y="1216"/>
                </a:cubicBezTo>
                <a:cubicBezTo>
                  <a:pt x="805" y="1210"/>
                  <a:pt x="797" y="1192"/>
                  <a:pt x="787" y="1197"/>
                </a:cubicBezTo>
                <a:cubicBezTo>
                  <a:pt x="776" y="1203"/>
                  <a:pt x="780" y="1221"/>
                  <a:pt x="778" y="1234"/>
                </a:cubicBezTo>
                <a:cubicBezTo>
                  <a:pt x="762" y="1338"/>
                  <a:pt x="790" y="1301"/>
                  <a:pt x="750" y="1344"/>
                </a:cubicBezTo>
                <a:cubicBezTo>
                  <a:pt x="585" y="1326"/>
                  <a:pt x="476" y="1248"/>
                  <a:pt x="348" y="1152"/>
                </a:cubicBezTo>
                <a:cubicBezTo>
                  <a:pt x="336" y="1113"/>
                  <a:pt x="319" y="1093"/>
                  <a:pt x="311" y="1051"/>
                </a:cubicBezTo>
                <a:cubicBezTo>
                  <a:pt x="314" y="1033"/>
                  <a:pt x="307" y="1009"/>
                  <a:pt x="320" y="996"/>
                </a:cubicBezTo>
                <a:cubicBezTo>
                  <a:pt x="329" y="987"/>
                  <a:pt x="330" y="1020"/>
                  <a:pt x="330" y="1033"/>
                </a:cubicBezTo>
                <a:cubicBezTo>
                  <a:pt x="330" y="1095"/>
                  <a:pt x="324" y="1091"/>
                  <a:pt x="293" y="1133"/>
                </a:cubicBezTo>
                <a:cubicBezTo>
                  <a:pt x="278" y="1132"/>
                  <a:pt x="195" y="1128"/>
                  <a:pt x="165" y="1115"/>
                </a:cubicBezTo>
                <a:cubicBezTo>
                  <a:pt x="87" y="1082"/>
                  <a:pt x="28" y="972"/>
                  <a:pt x="0" y="896"/>
                </a:cubicBezTo>
                <a:cubicBezTo>
                  <a:pt x="3" y="841"/>
                  <a:pt x="2" y="786"/>
                  <a:pt x="10" y="731"/>
                </a:cubicBezTo>
                <a:cubicBezTo>
                  <a:pt x="16" y="689"/>
                  <a:pt x="114" y="660"/>
                  <a:pt x="147" y="649"/>
                </a:cubicBezTo>
                <a:cubicBezTo>
                  <a:pt x="116" y="620"/>
                  <a:pt x="111" y="569"/>
                  <a:pt x="92" y="530"/>
                </a:cubicBezTo>
                <a:cubicBezTo>
                  <a:pt x="105" y="350"/>
                  <a:pt x="59" y="397"/>
                  <a:pt x="256" y="420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1596960" y="5489640"/>
            <a:ext cx="814320" cy="315720"/>
            <a:chOff x="1596960" y="5489640"/>
            <a:chExt cx="814320" cy="315720"/>
          </a:xfrm>
        </p:grpSpPr>
        <p:sp>
          <p:nvSpPr>
            <p:cNvPr id="278" name=""/>
            <p:cNvSpPr/>
            <p:nvPr/>
          </p:nvSpPr>
          <p:spPr>
            <a:xfrm>
              <a:off x="1596960" y="5489640"/>
              <a:ext cx="814320" cy="315720"/>
            </a:xfrm>
            <a:prstGeom prst="rect">
              <a:avLst/>
            </a:prstGeom>
            <a:solidFill>
              <a:srgbClr val="a4fa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POINT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596960" y="5489640"/>
              <a:ext cx="81432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596960" y="5805360"/>
              <a:ext cx="81432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596960" y="5489640"/>
              <a:ext cx="0" cy="31572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411280" y="5489640"/>
              <a:ext cx="0" cy="31572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3" name=""/>
          <p:cNvGrpSpPr/>
          <p:nvPr/>
        </p:nvGrpSpPr>
        <p:grpSpPr>
          <a:xfrm>
            <a:off x="1251000" y="4797360"/>
            <a:ext cx="1882800" cy="320760"/>
            <a:chOff x="1251000" y="4797360"/>
            <a:chExt cx="1882800" cy="320760"/>
          </a:xfrm>
        </p:grpSpPr>
        <p:sp>
          <p:nvSpPr>
            <p:cNvPr id="284" name=""/>
            <p:cNvSpPr/>
            <p:nvPr/>
          </p:nvSpPr>
          <p:spPr>
            <a:xfrm>
              <a:off x="2584440" y="4797360"/>
              <a:ext cx="549360" cy="320760"/>
            </a:xfrm>
            <a:prstGeom prst="rect">
              <a:avLst/>
            </a:prstGeom>
            <a:solidFill>
              <a:srgbClr val="edbf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EOF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51080" y="4797360"/>
              <a:ext cx="333360" cy="32076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917720" y="4797360"/>
              <a:ext cx="333360" cy="32076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584360" y="4797360"/>
              <a:ext cx="333360" cy="32076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251000" y="4797360"/>
              <a:ext cx="333360" cy="32076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251000" y="4797360"/>
              <a:ext cx="18828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251000" y="5118120"/>
              <a:ext cx="18828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251000" y="4797360"/>
              <a:ext cx="0" cy="32076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584360" y="4797360"/>
              <a:ext cx="0" cy="32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1917720" y="4797360"/>
              <a:ext cx="0" cy="32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251080" y="4797360"/>
              <a:ext cx="0" cy="32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584440" y="4797360"/>
              <a:ext cx="0" cy="32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133800" y="4797360"/>
              <a:ext cx="0" cy="32076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7" name=""/>
          <p:cNvSpPr/>
          <p:nvPr/>
        </p:nvSpPr>
        <p:spPr>
          <a:xfrm>
            <a:off x="3494160" y="4869000"/>
            <a:ext cx="2303280" cy="720720"/>
          </a:xfrm>
          <a:prstGeom prst="rightArrow">
            <a:avLst>
              <a:gd name="adj1" fmla="val 50000"/>
              <a:gd name="adj2" fmla="val 7989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close(POINTE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 flipV="1">
            <a:off x="1979640" y="4941720"/>
            <a:ext cx="71280" cy="64800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5940360" y="4135320"/>
            <a:ext cx="2570400" cy="2173320"/>
          </a:xfrm>
          <a:custGeom>
            <a:avLst/>
            <a:gdLst/>
            <a:ahLst/>
            <a:rect l="l" t="t" r="r" b="b"/>
            <a:pathLst>
              <a:path w="1619" h="1369">
                <a:moveTo>
                  <a:pt x="256" y="420"/>
                </a:moveTo>
                <a:cubicBezTo>
                  <a:pt x="266" y="205"/>
                  <a:pt x="213" y="172"/>
                  <a:pt x="394" y="128"/>
                </a:cubicBezTo>
                <a:cubicBezTo>
                  <a:pt x="409" y="131"/>
                  <a:pt x="424" y="139"/>
                  <a:pt x="439" y="137"/>
                </a:cubicBezTo>
                <a:cubicBezTo>
                  <a:pt x="463" y="134"/>
                  <a:pt x="467" y="98"/>
                  <a:pt x="485" y="82"/>
                </a:cubicBezTo>
                <a:cubicBezTo>
                  <a:pt x="501" y="67"/>
                  <a:pt x="522" y="57"/>
                  <a:pt x="540" y="45"/>
                </a:cubicBezTo>
                <a:cubicBezTo>
                  <a:pt x="552" y="37"/>
                  <a:pt x="562" y="24"/>
                  <a:pt x="576" y="18"/>
                </a:cubicBezTo>
                <a:cubicBezTo>
                  <a:pt x="599" y="8"/>
                  <a:pt x="626" y="8"/>
                  <a:pt x="650" y="0"/>
                </a:cubicBezTo>
                <a:cubicBezTo>
                  <a:pt x="680" y="3"/>
                  <a:pt x="712" y="0"/>
                  <a:pt x="741" y="9"/>
                </a:cubicBezTo>
                <a:cubicBezTo>
                  <a:pt x="753" y="13"/>
                  <a:pt x="757" y="29"/>
                  <a:pt x="768" y="36"/>
                </a:cubicBezTo>
                <a:cubicBezTo>
                  <a:pt x="776" y="41"/>
                  <a:pt x="787" y="42"/>
                  <a:pt x="796" y="45"/>
                </a:cubicBezTo>
                <a:cubicBezTo>
                  <a:pt x="850" y="99"/>
                  <a:pt x="830" y="73"/>
                  <a:pt x="860" y="119"/>
                </a:cubicBezTo>
                <a:cubicBezTo>
                  <a:pt x="925" y="78"/>
                  <a:pt x="984" y="33"/>
                  <a:pt x="1061" y="18"/>
                </a:cubicBezTo>
                <a:cubicBezTo>
                  <a:pt x="1091" y="12"/>
                  <a:pt x="1152" y="0"/>
                  <a:pt x="1152" y="0"/>
                </a:cubicBezTo>
                <a:cubicBezTo>
                  <a:pt x="1192" y="9"/>
                  <a:pt x="1234" y="9"/>
                  <a:pt x="1271" y="27"/>
                </a:cubicBezTo>
                <a:cubicBezTo>
                  <a:pt x="1301" y="42"/>
                  <a:pt x="1319" y="71"/>
                  <a:pt x="1354" y="82"/>
                </a:cubicBezTo>
                <a:cubicBezTo>
                  <a:pt x="1404" y="132"/>
                  <a:pt x="1409" y="159"/>
                  <a:pt x="1390" y="237"/>
                </a:cubicBezTo>
                <a:cubicBezTo>
                  <a:pt x="1382" y="271"/>
                  <a:pt x="1336" y="281"/>
                  <a:pt x="1308" y="301"/>
                </a:cubicBezTo>
                <a:cubicBezTo>
                  <a:pt x="1300" y="306"/>
                  <a:pt x="1326" y="295"/>
                  <a:pt x="1335" y="292"/>
                </a:cubicBezTo>
                <a:cubicBezTo>
                  <a:pt x="1393" y="296"/>
                  <a:pt x="1458" y="282"/>
                  <a:pt x="1509" y="311"/>
                </a:cubicBezTo>
                <a:cubicBezTo>
                  <a:pt x="1543" y="330"/>
                  <a:pt x="1582" y="402"/>
                  <a:pt x="1582" y="402"/>
                </a:cubicBezTo>
                <a:cubicBezTo>
                  <a:pt x="1595" y="441"/>
                  <a:pt x="1611" y="471"/>
                  <a:pt x="1619" y="512"/>
                </a:cubicBezTo>
                <a:cubicBezTo>
                  <a:pt x="1616" y="552"/>
                  <a:pt x="1619" y="592"/>
                  <a:pt x="1610" y="631"/>
                </a:cubicBezTo>
                <a:cubicBezTo>
                  <a:pt x="1606" y="646"/>
                  <a:pt x="1591" y="655"/>
                  <a:pt x="1582" y="667"/>
                </a:cubicBezTo>
                <a:cubicBezTo>
                  <a:pt x="1548" y="715"/>
                  <a:pt x="1517" y="723"/>
                  <a:pt x="1463" y="740"/>
                </a:cubicBezTo>
                <a:cubicBezTo>
                  <a:pt x="1499" y="776"/>
                  <a:pt x="1528" y="815"/>
                  <a:pt x="1564" y="850"/>
                </a:cubicBezTo>
                <a:cubicBezTo>
                  <a:pt x="1570" y="862"/>
                  <a:pt x="1577" y="874"/>
                  <a:pt x="1582" y="887"/>
                </a:cubicBezTo>
                <a:cubicBezTo>
                  <a:pt x="1589" y="905"/>
                  <a:pt x="1600" y="941"/>
                  <a:pt x="1600" y="941"/>
                </a:cubicBezTo>
                <a:cubicBezTo>
                  <a:pt x="1591" y="1021"/>
                  <a:pt x="1602" y="1037"/>
                  <a:pt x="1536" y="1069"/>
                </a:cubicBezTo>
                <a:cubicBezTo>
                  <a:pt x="1469" y="1138"/>
                  <a:pt x="1372" y="1102"/>
                  <a:pt x="1280" y="1097"/>
                </a:cubicBezTo>
                <a:cubicBezTo>
                  <a:pt x="1271" y="1094"/>
                  <a:pt x="1255" y="1079"/>
                  <a:pt x="1253" y="1088"/>
                </a:cubicBezTo>
                <a:cubicBezTo>
                  <a:pt x="1249" y="1104"/>
                  <a:pt x="1263" y="1119"/>
                  <a:pt x="1271" y="1133"/>
                </a:cubicBezTo>
                <a:cubicBezTo>
                  <a:pt x="1321" y="1221"/>
                  <a:pt x="1281" y="1115"/>
                  <a:pt x="1317" y="1216"/>
                </a:cubicBezTo>
                <a:cubicBezTo>
                  <a:pt x="1323" y="1234"/>
                  <a:pt x="1335" y="1271"/>
                  <a:pt x="1335" y="1271"/>
                </a:cubicBezTo>
                <a:cubicBezTo>
                  <a:pt x="1286" y="1369"/>
                  <a:pt x="1152" y="1302"/>
                  <a:pt x="1061" y="1289"/>
                </a:cubicBezTo>
                <a:cubicBezTo>
                  <a:pt x="1024" y="1277"/>
                  <a:pt x="989" y="1261"/>
                  <a:pt x="951" y="1252"/>
                </a:cubicBezTo>
                <a:cubicBezTo>
                  <a:pt x="906" y="1230"/>
                  <a:pt x="862" y="1228"/>
                  <a:pt x="814" y="1216"/>
                </a:cubicBezTo>
                <a:cubicBezTo>
                  <a:pt x="805" y="1210"/>
                  <a:pt x="797" y="1192"/>
                  <a:pt x="787" y="1197"/>
                </a:cubicBezTo>
                <a:cubicBezTo>
                  <a:pt x="776" y="1203"/>
                  <a:pt x="780" y="1221"/>
                  <a:pt x="778" y="1234"/>
                </a:cubicBezTo>
                <a:cubicBezTo>
                  <a:pt x="762" y="1338"/>
                  <a:pt x="790" y="1301"/>
                  <a:pt x="750" y="1344"/>
                </a:cubicBezTo>
                <a:cubicBezTo>
                  <a:pt x="585" y="1326"/>
                  <a:pt x="476" y="1248"/>
                  <a:pt x="348" y="1152"/>
                </a:cubicBezTo>
                <a:cubicBezTo>
                  <a:pt x="336" y="1113"/>
                  <a:pt x="319" y="1093"/>
                  <a:pt x="311" y="1051"/>
                </a:cubicBezTo>
                <a:cubicBezTo>
                  <a:pt x="314" y="1033"/>
                  <a:pt x="307" y="1009"/>
                  <a:pt x="320" y="996"/>
                </a:cubicBezTo>
                <a:cubicBezTo>
                  <a:pt x="329" y="987"/>
                  <a:pt x="330" y="1020"/>
                  <a:pt x="330" y="1033"/>
                </a:cubicBezTo>
                <a:cubicBezTo>
                  <a:pt x="330" y="1095"/>
                  <a:pt x="324" y="1091"/>
                  <a:pt x="293" y="1133"/>
                </a:cubicBezTo>
                <a:cubicBezTo>
                  <a:pt x="278" y="1132"/>
                  <a:pt x="195" y="1128"/>
                  <a:pt x="165" y="1115"/>
                </a:cubicBezTo>
                <a:cubicBezTo>
                  <a:pt x="87" y="1082"/>
                  <a:pt x="28" y="972"/>
                  <a:pt x="0" y="896"/>
                </a:cubicBezTo>
                <a:cubicBezTo>
                  <a:pt x="3" y="841"/>
                  <a:pt x="2" y="786"/>
                  <a:pt x="10" y="731"/>
                </a:cubicBezTo>
                <a:cubicBezTo>
                  <a:pt x="16" y="689"/>
                  <a:pt x="114" y="660"/>
                  <a:pt x="147" y="649"/>
                </a:cubicBezTo>
                <a:cubicBezTo>
                  <a:pt x="116" y="620"/>
                  <a:pt x="111" y="569"/>
                  <a:pt x="92" y="530"/>
                </a:cubicBezTo>
                <a:cubicBezTo>
                  <a:pt x="105" y="350"/>
                  <a:pt x="59" y="397"/>
                  <a:pt x="256" y="420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0" name=""/>
          <p:cNvGrpSpPr/>
          <p:nvPr/>
        </p:nvGrpSpPr>
        <p:grpSpPr>
          <a:xfrm>
            <a:off x="6875640" y="5500800"/>
            <a:ext cx="814320" cy="315720"/>
            <a:chOff x="6875640" y="5500800"/>
            <a:chExt cx="814320" cy="315720"/>
          </a:xfrm>
        </p:grpSpPr>
        <p:sp>
          <p:nvSpPr>
            <p:cNvPr id="301" name=""/>
            <p:cNvSpPr/>
            <p:nvPr/>
          </p:nvSpPr>
          <p:spPr>
            <a:xfrm>
              <a:off x="6875640" y="5500800"/>
              <a:ext cx="814320" cy="315720"/>
            </a:xfrm>
            <a:prstGeom prst="rect">
              <a:avLst/>
            </a:prstGeom>
            <a:solidFill>
              <a:srgbClr val="a4fa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POINT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875640" y="5500800"/>
              <a:ext cx="81432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875640" y="5816520"/>
              <a:ext cx="81432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875640" y="5500800"/>
              <a:ext cx="0" cy="31572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7689960" y="5500800"/>
              <a:ext cx="0" cy="31572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6529320" y="4808520"/>
            <a:ext cx="1882800" cy="320760"/>
            <a:chOff x="6529320" y="4808520"/>
            <a:chExt cx="1882800" cy="320760"/>
          </a:xfrm>
        </p:grpSpPr>
        <p:sp>
          <p:nvSpPr>
            <p:cNvPr id="307" name=""/>
            <p:cNvSpPr/>
            <p:nvPr/>
          </p:nvSpPr>
          <p:spPr>
            <a:xfrm>
              <a:off x="7862760" y="4808520"/>
              <a:ext cx="549360" cy="320760"/>
            </a:xfrm>
            <a:prstGeom prst="rect">
              <a:avLst/>
            </a:prstGeom>
            <a:solidFill>
              <a:srgbClr val="edbf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EOF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529400" y="4808520"/>
              <a:ext cx="333360" cy="32076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196040" y="4808520"/>
              <a:ext cx="333360" cy="32076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862680" y="4808520"/>
              <a:ext cx="333360" cy="32076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529320" y="4808520"/>
              <a:ext cx="333360" cy="32076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529320" y="4808520"/>
              <a:ext cx="18828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529320" y="5129280"/>
              <a:ext cx="18828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529320" y="4808520"/>
              <a:ext cx="0" cy="32076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862680" y="4808520"/>
              <a:ext cx="0" cy="32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196040" y="4808520"/>
              <a:ext cx="0" cy="32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529400" y="4808520"/>
              <a:ext cx="0" cy="32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7862760" y="4808520"/>
              <a:ext cx="0" cy="32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8412120" y="4808520"/>
              <a:ext cx="0" cy="32076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Control in C: Recursion via Fun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030560" y="4430880"/>
            <a:ext cx="2667240" cy="16761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 flipH="1">
            <a:off x="6516000" y="5294160"/>
            <a:ext cx="142920" cy="360360"/>
          </a:xfrm>
          <a:prstGeom prst="uturnArrow">
            <a:avLst/>
          </a:prstGeom>
          <a:solidFill>
            <a:srgbClr val="33cc33">
              <a:alpha val="3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227640" y="5078520"/>
            <a:ext cx="217440" cy="431640"/>
          </a:xfrm>
          <a:prstGeom prst="uturnArrow">
            <a:avLst/>
          </a:prstGeom>
          <a:solidFill>
            <a:srgbClr val="33cc33">
              <a:alpha val="3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940360" y="4933800"/>
            <a:ext cx="287280" cy="432000"/>
          </a:xfrm>
          <a:prstGeom prst="uturnArrow">
            <a:avLst/>
          </a:prstGeom>
          <a:solidFill>
            <a:srgbClr val="33cc33">
              <a:alpha val="3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5579280" y="4646520"/>
            <a:ext cx="360360" cy="576360"/>
          </a:xfrm>
          <a:prstGeom prst="uturnArrow">
            <a:avLst/>
          </a:prstGeom>
          <a:solidFill>
            <a:srgbClr val="33cc33">
              <a:alpha val="3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76720" y="4359240"/>
            <a:ext cx="503280" cy="647640"/>
          </a:xfrm>
          <a:prstGeom prst="uturnArrow">
            <a:avLst/>
          </a:prstGeom>
          <a:solidFill>
            <a:srgbClr val="33cc33">
              <a:alpha val="3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4355280" y="3927600"/>
            <a:ext cx="647640" cy="863640"/>
          </a:xfrm>
          <a:prstGeom prst="uturnArrow">
            <a:avLst/>
          </a:prstGeom>
          <a:solidFill>
            <a:srgbClr val="33cc33">
              <a:alpha val="3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491640" y="3370320"/>
            <a:ext cx="792360" cy="1081080"/>
          </a:xfrm>
          <a:prstGeom prst="uturnArrow">
            <a:avLst/>
          </a:prstGeom>
          <a:solidFill>
            <a:srgbClr val="33cc33">
              <a:alpha val="3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341440" y="3297240"/>
            <a:ext cx="1887480" cy="34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0" spc="-1" strike="noStrike">
                <a:solidFill>
                  <a:srgbClr val="009999"/>
                </a:solidFill>
                <a:latin typeface="Arial"/>
                <a:ea typeface="굴림"/>
              </a:rPr>
              <a:t>?</a:t>
            </a:r>
            <a:endParaRPr b="0" lang="en-US" sz="2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e as a Data Type (cont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putc(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charater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,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pointer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getc(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pointer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 outputs and inputs single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charact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/from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l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ile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fprintf(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pointer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,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…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fscanf(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pointer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,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…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) –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puts and inputs single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rmatted dat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/from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They have side effect due to which files are called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tream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 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755640" y="4124160"/>
            <a:ext cx="2570040" cy="2173320"/>
          </a:xfrm>
          <a:custGeom>
            <a:avLst/>
            <a:gdLst/>
            <a:ahLst/>
            <a:rect l="l" t="t" r="r" b="b"/>
            <a:pathLst>
              <a:path w="1619" h="1369">
                <a:moveTo>
                  <a:pt x="256" y="420"/>
                </a:moveTo>
                <a:cubicBezTo>
                  <a:pt x="266" y="205"/>
                  <a:pt x="213" y="172"/>
                  <a:pt x="394" y="128"/>
                </a:cubicBezTo>
                <a:cubicBezTo>
                  <a:pt x="409" y="131"/>
                  <a:pt x="424" y="139"/>
                  <a:pt x="439" y="137"/>
                </a:cubicBezTo>
                <a:cubicBezTo>
                  <a:pt x="463" y="134"/>
                  <a:pt x="467" y="98"/>
                  <a:pt x="485" y="82"/>
                </a:cubicBezTo>
                <a:cubicBezTo>
                  <a:pt x="501" y="67"/>
                  <a:pt x="522" y="57"/>
                  <a:pt x="540" y="45"/>
                </a:cubicBezTo>
                <a:cubicBezTo>
                  <a:pt x="552" y="37"/>
                  <a:pt x="562" y="24"/>
                  <a:pt x="576" y="18"/>
                </a:cubicBezTo>
                <a:cubicBezTo>
                  <a:pt x="599" y="8"/>
                  <a:pt x="626" y="8"/>
                  <a:pt x="650" y="0"/>
                </a:cubicBezTo>
                <a:cubicBezTo>
                  <a:pt x="680" y="3"/>
                  <a:pt x="712" y="0"/>
                  <a:pt x="741" y="9"/>
                </a:cubicBezTo>
                <a:cubicBezTo>
                  <a:pt x="753" y="13"/>
                  <a:pt x="757" y="29"/>
                  <a:pt x="768" y="36"/>
                </a:cubicBezTo>
                <a:cubicBezTo>
                  <a:pt x="776" y="41"/>
                  <a:pt x="787" y="42"/>
                  <a:pt x="796" y="45"/>
                </a:cubicBezTo>
                <a:cubicBezTo>
                  <a:pt x="850" y="99"/>
                  <a:pt x="830" y="73"/>
                  <a:pt x="860" y="119"/>
                </a:cubicBezTo>
                <a:cubicBezTo>
                  <a:pt x="925" y="78"/>
                  <a:pt x="984" y="33"/>
                  <a:pt x="1061" y="18"/>
                </a:cubicBezTo>
                <a:cubicBezTo>
                  <a:pt x="1091" y="12"/>
                  <a:pt x="1152" y="0"/>
                  <a:pt x="1152" y="0"/>
                </a:cubicBezTo>
                <a:cubicBezTo>
                  <a:pt x="1192" y="9"/>
                  <a:pt x="1234" y="9"/>
                  <a:pt x="1271" y="27"/>
                </a:cubicBezTo>
                <a:cubicBezTo>
                  <a:pt x="1301" y="42"/>
                  <a:pt x="1319" y="71"/>
                  <a:pt x="1354" y="82"/>
                </a:cubicBezTo>
                <a:cubicBezTo>
                  <a:pt x="1404" y="132"/>
                  <a:pt x="1409" y="159"/>
                  <a:pt x="1390" y="237"/>
                </a:cubicBezTo>
                <a:cubicBezTo>
                  <a:pt x="1382" y="271"/>
                  <a:pt x="1336" y="281"/>
                  <a:pt x="1308" y="301"/>
                </a:cubicBezTo>
                <a:cubicBezTo>
                  <a:pt x="1300" y="306"/>
                  <a:pt x="1326" y="295"/>
                  <a:pt x="1335" y="292"/>
                </a:cubicBezTo>
                <a:cubicBezTo>
                  <a:pt x="1393" y="296"/>
                  <a:pt x="1458" y="282"/>
                  <a:pt x="1509" y="311"/>
                </a:cubicBezTo>
                <a:cubicBezTo>
                  <a:pt x="1543" y="330"/>
                  <a:pt x="1582" y="402"/>
                  <a:pt x="1582" y="402"/>
                </a:cubicBezTo>
                <a:cubicBezTo>
                  <a:pt x="1595" y="441"/>
                  <a:pt x="1611" y="471"/>
                  <a:pt x="1619" y="512"/>
                </a:cubicBezTo>
                <a:cubicBezTo>
                  <a:pt x="1616" y="552"/>
                  <a:pt x="1619" y="592"/>
                  <a:pt x="1610" y="631"/>
                </a:cubicBezTo>
                <a:cubicBezTo>
                  <a:pt x="1606" y="646"/>
                  <a:pt x="1591" y="655"/>
                  <a:pt x="1582" y="667"/>
                </a:cubicBezTo>
                <a:cubicBezTo>
                  <a:pt x="1548" y="715"/>
                  <a:pt x="1517" y="723"/>
                  <a:pt x="1463" y="740"/>
                </a:cubicBezTo>
                <a:cubicBezTo>
                  <a:pt x="1499" y="776"/>
                  <a:pt x="1528" y="815"/>
                  <a:pt x="1564" y="850"/>
                </a:cubicBezTo>
                <a:cubicBezTo>
                  <a:pt x="1570" y="862"/>
                  <a:pt x="1577" y="874"/>
                  <a:pt x="1582" y="887"/>
                </a:cubicBezTo>
                <a:cubicBezTo>
                  <a:pt x="1589" y="905"/>
                  <a:pt x="1600" y="941"/>
                  <a:pt x="1600" y="941"/>
                </a:cubicBezTo>
                <a:cubicBezTo>
                  <a:pt x="1591" y="1021"/>
                  <a:pt x="1602" y="1037"/>
                  <a:pt x="1536" y="1069"/>
                </a:cubicBezTo>
                <a:cubicBezTo>
                  <a:pt x="1469" y="1138"/>
                  <a:pt x="1372" y="1102"/>
                  <a:pt x="1280" y="1097"/>
                </a:cubicBezTo>
                <a:cubicBezTo>
                  <a:pt x="1271" y="1094"/>
                  <a:pt x="1255" y="1079"/>
                  <a:pt x="1253" y="1088"/>
                </a:cubicBezTo>
                <a:cubicBezTo>
                  <a:pt x="1249" y="1104"/>
                  <a:pt x="1263" y="1119"/>
                  <a:pt x="1271" y="1133"/>
                </a:cubicBezTo>
                <a:cubicBezTo>
                  <a:pt x="1321" y="1221"/>
                  <a:pt x="1281" y="1115"/>
                  <a:pt x="1317" y="1216"/>
                </a:cubicBezTo>
                <a:cubicBezTo>
                  <a:pt x="1323" y="1234"/>
                  <a:pt x="1335" y="1271"/>
                  <a:pt x="1335" y="1271"/>
                </a:cubicBezTo>
                <a:cubicBezTo>
                  <a:pt x="1286" y="1369"/>
                  <a:pt x="1152" y="1302"/>
                  <a:pt x="1061" y="1289"/>
                </a:cubicBezTo>
                <a:cubicBezTo>
                  <a:pt x="1024" y="1277"/>
                  <a:pt x="989" y="1261"/>
                  <a:pt x="951" y="1252"/>
                </a:cubicBezTo>
                <a:cubicBezTo>
                  <a:pt x="906" y="1230"/>
                  <a:pt x="862" y="1228"/>
                  <a:pt x="814" y="1216"/>
                </a:cubicBezTo>
                <a:cubicBezTo>
                  <a:pt x="805" y="1210"/>
                  <a:pt x="797" y="1192"/>
                  <a:pt x="787" y="1197"/>
                </a:cubicBezTo>
                <a:cubicBezTo>
                  <a:pt x="776" y="1203"/>
                  <a:pt x="780" y="1221"/>
                  <a:pt x="778" y="1234"/>
                </a:cubicBezTo>
                <a:cubicBezTo>
                  <a:pt x="762" y="1338"/>
                  <a:pt x="790" y="1301"/>
                  <a:pt x="750" y="1344"/>
                </a:cubicBezTo>
                <a:cubicBezTo>
                  <a:pt x="585" y="1326"/>
                  <a:pt x="476" y="1248"/>
                  <a:pt x="348" y="1152"/>
                </a:cubicBezTo>
                <a:cubicBezTo>
                  <a:pt x="336" y="1113"/>
                  <a:pt x="319" y="1093"/>
                  <a:pt x="311" y="1051"/>
                </a:cubicBezTo>
                <a:cubicBezTo>
                  <a:pt x="314" y="1033"/>
                  <a:pt x="307" y="1009"/>
                  <a:pt x="320" y="996"/>
                </a:cubicBezTo>
                <a:cubicBezTo>
                  <a:pt x="329" y="987"/>
                  <a:pt x="330" y="1020"/>
                  <a:pt x="330" y="1033"/>
                </a:cubicBezTo>
                <a:cubicBezTo>
                  <a:pt x="330" y="1095"/>
                  <a:pt x="324" y="1091"/>
                  <a:pt x="293" y="1133"/>
                </a:cubicBezTo>
                <a:cubicBezTo>
                  <a:pt x="278" y="1132"/>
                  <a:pt x="195" y="1128"/>
                  <a:pt x="165" y="1115"/>
                </a:cubicBezTo>
                <a:cubicBezTo>
                  <a:pt x="87" y="1082"/>
                  <a:pt x="28" y="972"/>
                  <a:pt x="0" y="896"/>
                </a:cubicBezTo>
                <a:cubicBezTo>
                  <a:pt x="3" y="841"/>
                  <a:pt x="2" y="786"/>
                  <a:pt x="10" y="731"/>
                </a:cubicBezTo>
                <a:cubicBezTo>
                  <a:pt x="16" y="689"/>
                  <a:pt x="114" y="660"/>
                  <a:pt x="147" y="649"/>
                </a:cubicBezTo>
                <a:cubicBezTo>
                  <a:pt x="116" y="620"/>
                  <a:pt x="111" y="569"/>
                  <a:pt x="92" y="530"/>
                </a:cubicBezTo>
                <a:cubicBezTo>
                  <a:pt x="105" y="350"/>
                  <a:pt x="59" y="397"/>
                  <a:pt x="256" y="420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"/>
          <p:cNvGrpSpPr/>
          <p:nvPr/>
        </p:nvGrpSpPr>
        <p:grpSpPr>
          <a:xfrm>
            <a:off x="1596960" y="5489640"/>
            <a:ext cx="814320" cy="315720"/>
            <a:chOff x="1596960" y="5489640"/>
            <a:chExt cx="814320" cy="315720"/>
          </a:xfrm>
        </p:grpSpPr>
        <p:sp>
          <p:nvSpPr>
            <p:cNvPr id="324" name=""/>
            <p:cNvSpPr/>
            <p:nvPr/>
          </p:nvSpPr>
          <p:spPr>
            <a:xfrm>
              <a:off x="1596960" y="5489640"/>
              <a:ext cx="814320" cy="315720"/>
            </a:xfrm>
            <a:prstGeom prst="rect">
              <a:avLst/>
            </a:prstGeom>
            <a:solidFill>
              <a:srgbClr val="a4fa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POINT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596960" y="5489640"/>
              <a:ext cx="81432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596960" y="5805360"/>
              <a:ext cx="81432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596960" y="5489640"/>
              <a:ext cx="0" cy="31572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411280" y="5489640"/>
              <a:ext cx="0" cy="31572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9" name=""/>
          <p:cNvSpPr/>
          <p:nvPr/>
        </p:nvSpPr>
        <p:spPr>
          <a:xfrm>
            <a:off x="3494160" y="4869000"/>
            <a:ext cx="2303280" cy="720720"/>
          </a:xfrm>
          <a:prstGeom prst="rightArrow">
            <a:avLst>
              <a:gd name="adj1" fmla="val 50000"/>
              <a:gd name="adj2" fmla="val 7989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utc(‘E’ , POINTE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940360" y="4135320"/>
            <a:ext cx="2570400" cy="2173320"/>
          </a:xfrm>
          <a:custGeom>
            <a:avLst/>
            <a:gdLst/>
            <a:ahLst/>
            <a:rect l="l" t="t" r="r" b="b"/>
            <a:pathLst>
              <a:path w="1619" h="1369">
                <a:moveTo>
                  <a:pt x="256" y="420"/>
                </a:moveTo>
                <a:cubicBezTo>
                  <a:pt x="266" y="205"/>
                  <a:pt x="213" y="172"/>
                  <a:pt x="394" y="128"/>
                </a:cubicBezTo>
                <a:cubicBezTo>
                  <a:pt x="409" y="131"/>
                  <a:pt x="424" y="139"/>
                  <a:pt x="439" y="137"/>
                </a:cubicBezTo>
                <a:cubicBezTo>
                  <a:pt x="463" y="134"/>
                  <a:pt x="467" y="98"/>
                  <a:pt x="485" y="82"/>
                </a:cubicBezTo>
                <a:cubicBezTo>
                  <a:pt x="501" y="67"/>
                  <a:pt x="522" y="57"/>
                  <a:pt x="540" y="45"/>
                </a:cubicBezTo>
                <a:cubicBezTo>
                  <a:pt x="552" y="37"/>
                  <a:pt x="562" y="24"/>
                  <a:pt x="576" y="18"/>
                </a:cubicBezTo>
                <a:cubicBezTo>
                  <a:pt x="599" y="8"/>
                  <a:pt x="626" y="8"/>
                  <a:pt x="650" y="0"/>
                </a:cubicBezTo>
                <a:cubicBezTo>
                  <a:pt x="680" y="3"/>
                  <a:pt x="712" y="0"/>
                  <a:pt x="741" y="9"/>
                </a:cubicBezTo>
                <a:cubicBezTo>
                  <a:pt x="753" y="13"/>
                  <a:pt x="757" y="29"/>
                  <a:pt x="768" y="36"/>
                </a:cubicBezTo>
                <a:cubicBezTo>
                  <a:pt x="776" y="41"/>
                  <a:pt x="787" y="42"/>
                  <a:pt x="796" y="45"/>
                </a:cubicBezTo>
                <a:cubicBezTo>
                  <a:pt x="850" y="99"/>
                  <a:pt x="830" y="73"/>
                  <a:pt x="860" y="119"/>
                </a:cubicBezTo>
                <a:cubicBezTo>
                  <a:pt x="925" y="78"/>
                  <a:pt x="984" y="33"/>
                  <a:pt x="1061" y="18"/>
                </a:cubicBezTo>
                <a:cubicBezTo>
                  <a:pt x="1091" y="12"/>
                  <a:pt x="1152" y="0"/>
                  <a:pt x="1152" y="0"/>
                </a:cubicBezTo>
                <a:cubicBezTo>
                  <a:pt x="1192" y="9"/>
                  <a:pt x="1234" y="9"/>
                  <a:pt x="1271" y="27"/>
                </a:cubicBezTo>
                <a:cubicBezTo>
                  <a:pt x="1301" y="42"/>
                  <a:pt x="1319" y="71"/>
                  <a:pt x="1354" y="82"/>
                </a:cubicBezTo>
                <a:cubicBezTo>
                  <a:pt x="1404" y="132"/>
                  <a:pt x="1409" y="159"/>
                  <a:pt x="1390" y="237"/>
                </a:cubicBezTo>
                <a:cubicBezTo>
                  <a:pt x="1382" y="271"/>
                  <a:pt x="1336" y="281"/>
                  <a:pt x="1308" y="301"/>
                </a:cubicBezTo>
                <a:cubicBezTo>
                  <a:pt x="1300" y="306"/>
                  <a:pt x="1326" y="295"/>
                  <a:pt x="1335" y="292"/>
                </a:cubicBezTo>
                <a:cubicBezTo>
                  <a:pt x="1393" y="296"/>
                  <a:pt x="1458" y="282"/>
                  <a:pt x="1509" y="311"/>
                </a:cubicBezTo>
                <a:cubicBezTo>
                  <a:pt x="1543" y="330"/>
                  <a:pt x="1582" y="402"/>
                  <a:pt x="1582" y="402"/>
                </a:cubicBezTo>
                <a:cubicBezTo>
                  <a:pt x="1595" y="441"/>
                  <a:pt x="1611" y="471"/>
                  <a:pt x="1619" y="512"/>
                </a:cubicBezTo>
                <a:cubicBezTo>
                  <a:pt x="1616" y="552"/>
                  <a:pt x="1619" y="592"/>
                  <a:pt x="1610" y="631"/>
                </a:cubicBezTo>
                <a:cubicBezTo>
                  <a:pt x="1606" y="646"/>
                  <a:pt x="1591" y="655"/>
                  <a:pt x="1582" y="667"/>
                </a:cubicBezTo>
                <a:cubicBezTo>
                  <a:pt x="1548" y="715"/>
                  <a:pt x="1517" y="723"/>
                  <a:pt x="1463" y="740"/>
                </a:cubicBezTo>
                <a:cubicBezTo>
                  <a:pt x="1499" y="776"/>
                  <a:pt x="1528" y="815"/>
                  <a:pt x="1564" y="850"/>
                </a:cubicBezTo>
                <a:cubicBezTo>
                  <a:pt x="1570" y="862"/>
                  <a:pt x="1577" y="874"/>
                  <a:pt x="1582" y="887"/>
                </a:cubicBezTo>
                <a:cubicBezTo>
                  <a:pt x="1589" y="905"/>
                  <a:pt x="1600" y="941"/>
                  <a:pt x="1600" y="941"/>
                </a:cubicBezTo>
                <a:cubicBezTo>
                  <a:pt x="1591" y="1021"/>
                  <a:pt x="1602" y="1037"/>
                  <a:pt x="1536" y="1069"/>
                </a:cubicBezTo>
                <a:cubicBezTo>
                  <a:pt x="1469" y="1138"/>
                  <a:pt x="1372" y="1102"/>
                  <a:pt x="1280" y="1097"/>
                </a:cubicBezTo>
                <a:cubicBezTo>
                  <a:pt x="1271" y="1094"/>
                  <a:pt x="1255" y="1079"/>
                  <a:pt x="1253" y="1088"/>
                </a:cubicBezTo>
                <a:cubicBezTo>
                  <a:pt x="1249" y="1104"/>
                  <a:pt x="1263" y="1119"/>
                  <a:pt x="1271" y="1133"/>
                </a:cubicBezTo>
                <a:cubicBezTo>
                  <a:pt x="1321" y="1221"/>
                  <a:pt x="1281" y="1115"/>
                  <a:pt x="1317" y="1216"/>
                </a:cubicBezTo>
                <a:cubicBezTo>
                  <a:pt x="1323" y="1234"/>
                  <a:pt x="1335" y="1271"/>
                  <a:pt x="1335" y="1271"/>
                </a:cubicBezTo>
                <a:cubicBezTo>
                  <a:pt x="1286" y="1369"/>
                  <a:pt x="1152" y="1302"/>
                  <a:pt x="1061" y="1289"/>
                </a:cubicBezTo>
                <a:cubicBezTo>
                  <a:pt x="1024" y="1277"/>
                  <a:pt x="989" y="1261"/>
                  <a:pt x="951" y="1252"/>
                </a:cubicBezTo>
                <a:cubicBezTo>
                  <a:pt x="906" y="1230"/>
                  <a:pt x="862" y="1228"/>
                  <a:pt x="814" y="1216"/>
                </a:cubicBezTo>
                <a:cubicBezTo>
                  <a:pt x="805" y="1210"/>
                  <a:pt x="797" y="1192"/>
                  <a:pt x="787" y="1197"/>
                </a:cubicBezTo>
                <a:cubicBezTo>
                  <a:pt x="776" y="1203"/>
                  <a:pt x="780" y="1221"/>
                  <a:pt x="778" y="1234"/>
                </a:cubicBezTo>
                <a:cubicBezTo>
                  <a:pt x="762" y="1338"/>
                  <a:pt x="790" y="1301"/>
                  <a:pt x="750" y="1344"/>
                </a:cubicBezTo>
                <a:cubicBezTo>
                  <a:pt x="585" y="1326"/>
                  <a:pt x="476" y="1248"/>
                  <a:pt x="348" y="1152"/>
                </a:cubicBezTo>
                <a:cubicBezTo>
                  <a:pt x="336" y="1113"/>
                  <a:pt x="319" y="1093"/>
                  <a:pt x="311" y="1051"/>
                </a:cubicBezTo>
                <a:cubicBezTo>
                  <a:pt x="314" y="1033"/>
                  <a:pt x="307" y="1009"/>
                  <a:pt x="320" y="996"/>
                </a:cubicBezTo>
                <a:cubicBezTo>
                  <a:pt x="329" y="987"/>
                  <a:pt x="330" y="1020"/>
                  <a:pt x="330" y="1033"/>
                </a:cubicBezTo>
                <a:cubicBezTo>
                  <a:pt x="330" y="1095"/>
                  <a:pt x="324" y="1091"/>
                  <a:pt x="293" y="1133"/>
                </a:cubicBezTo>
                <a:cubicBezTo>
                  <a:pt x="278" y="1132"/>
                  <a:pt x="195" y="1128"/>
                  <a:pt x="165" y="1115"/>
                </a:cubicBezTo>
                <a:cubicBezTo>
                  <a:pt x="87" y="1082"/>
                  <a:pt x="28" y="972"/>
                  <a:pt x="0" y="896"/>
                </a:cubicBezTo>
                <a:cubicBezTo>
                  <a:pt x="3" y="841"/>
                  <a:pt x="2" y="786"/>
                  <a:pt x="10" y="731"/>
                </a:cubicBezTo>
                <a:cubicBezTo>
                  <a:pt x="16" y="689"/>
                  <a:pt x="114" y="660"/>
                  <a:pt x="147" y="649"/>
                </a:cubicBezTo>
                <a:cubicBezTo>
                  <a:pt x="116" y="620"/>
                  <a:pt x="111" y="569"/>
                  <a:pt x="92" y="530"/>
                </a:cubicBezTo>
                <a:cubicBezTo>
                  <a:pt x="105" y="350"/>
                  <a:pt x="59" y="397"/>
                  <a:pt x="256" y="420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1" name=""/>
          <p:cNvGrpSpPr/>
          <p:nvPr/>
        </p:nvGrpSpPr>
        <p:grpSpPr>
          <a:xfrm>
            <a:off x="6875640" y="5500800"/>
            <a:ext cx="814320" cy="315720"/>
            <a:chOff x="6875640" y="5500800"/>
            <a:chExt cx="814320" cy="315720"/>
          </a:xfrm>
        </p:grpSpPr>
        <p:sp>
          <p:nvSpPr>
            <p:cNvPr id="332" name=""/>
            <p:cNvSpPr/>
            <p:nvPr/>
          </p:nvSpPr>
          <p:spPr>
            <a:xfrm>
              <a:off x="6875640" y="5500800"/>
              <a:ext cx="814320" cy="315720"/>
            </a:xfrm>
            <a:prstGeom prst="rect">
              <a:avLst/>
            </a:prstGeom>
            <a:solidFill>
              <a:srgbClr val="a4fa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POINT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875640" y="5500800"/>
              <a:ext cx="81432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875640" y="5816520"/>
              <a:ext cx="81432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6875640" y="5500800"/>
              <a:ext cx="0" cy="31572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7689960" y="5500800"/>
              <a:ext cx="0" cy="31572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7" name=""/>
          <p:cNvGrpSpPr/>
          <p:nvPr/>
        </p:nvGrpSpPr>
        <p:grpSpPr>
          <a:xfrm>
            <a:off x="6529320" y="4808520"/>
            <a:ext cx="1882800" cy="320760"/>
            <a:chOff x="6529320" y="4808520"/>
            <a:chExt cx="1882800" cy="320760"/>
          </a:xfrm>
        </p:grpSpPr>
        <p:sp>
          <p:nvSpPr>
            <p:cNvPr id="338" name=""/>
            <p:cNvSpPr/>
            <p:nvPr/>
          </p:nvSpPr>
          <p:spPr>
            <a:xfrm>
              <a:off x="7862760" y="4808520"/>
              <a:ext cx="549360" cy="320760"/>
            </a:xfrm>
            <a:prstGeom prst="rect">
              <a:avLst/>
            </a:prstGeom>
            <a:solidFill>
              <a:srgbClr val="edbf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EOF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529400" y="4808520"/>
              <a:ext cx="333360" cy="32076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196040" y="4808520"/>
              <a:ext cx="333360" cy="32076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6862680" y="4808520"/>
              <a:ext cx="333360" cy="32076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529320" y="4808520"/>
              <a:ext cx="333360" cy="32076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529320" y="4808520"/>
              <a:ext cx="18828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529320" y="5129280"/>
              <a:ext cx="18828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6529320" y="4808520"/>
              <a:ext cx="0" cy="32076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862680" y="4808520"/>
              <a:ext cx="0" cy="32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96040" y="4808520"/>
              <a:ext cx="0" cy="32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529400" y="4808520"/>
              <a:ext cx="0" cy="32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862760" y="4808520"/>
              <a:ext cx="0" cy="32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8412120" y="4808520"/>
              <a:ext cx="0" cy="32076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1" name=""/>
          <p:cNvSpPr/>
          <p:nvPr/>
        </p:nvSpPr>
        <p:spPr>
          <a:xfrm flipV="1">
            <a:off x="7236000" y="5013000"/>
            <a:ext cx="792000" cy="57636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2" name=""/>
          <p:cNvGrpSpPr/>
          <p:nvPr/>
        </p:nvGrpSpPr>
        <p:grpSpPr>
          <a:xfrm>
            <a:off x="1258920" y="4797360"/>
            <a:ext cx="1512720" cy="320760"/>
            <a:chOff x="1258920" y="4797360"/>
            <a:chExt cx="1512720" cy="320760"/>
          </a:xfrm>
        </p:grpSpPr>
        <p:sp>
          <p:nvSpPr>
            <p:cNvPr id="353" name=""/>
            <p:cNvSpPr/>
            <p:nvPr/>
          </p:nvSpPr>
          <p:spPr>
            <a:xfrm>
              <a:off x="2292480" y="4797360"/>
              <a:ext cx="479160" cy="320760"/>
            </a:xfrm>
            <a:prstGeom prst="rect">
              <a:avLst/>
            </a:prstGeom>
            <a:solidFill>
              <a:srgbClr val="edbf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OF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947960" y="4797360"/>
              <a:ext cx="344520" cy="32076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603440" y="4797360"/>
              <a:ext cx="344520" cy="32076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258920" y="4797360"/>
              <a:ext cx="344520" cy="32076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258920" y="4797360"/>
              <a:ext cx="151272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258920" y="5118120"/>
              <a:ext cx="151272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258920" y="4797360"/>
              <a:ext cx="0" cy="32076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603440" y="4797360"/>
              <a:ext cx="0" cy="32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947960" y="4797360"/>
              <a:ext cx="0" cy="32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2292480" y="4797360"/>
              <a:ext cx="0" cy="32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771640" y="4797360"/>
              <a:ext cx="0" cy="32076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4" name=""/>
          <p:cNvSpPr/>
          <p:nvPr/>
        </p:nvSpPr>
        <p:spPr>
          <a:xfrm flipV="1">
            <a:off x="1979640" y="5013000"/>
            <a:ext cx="504720" cy="57636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A program that Outputs It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blem: Write a program that outputs its own text to displa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lution: name the following file “outputitself.c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#include &lt;stdio.h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void main(voi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int ch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FILE * i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in=fopen(“outputitself.c", "r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while (!feof(in)) {ch=getc(in); putchar(ch);}; fclose(in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oluntary Homework (Problem for 5 points *****): Write a program that outputs its own text, but does not work with any file (except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stdou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emory Allocation and Relea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Classes of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ck and Heap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1" name=""/>
          <p:cNvGrpSpPr/>
          <p:nvPr/>
        </p:nvGrpSpPr>
        <p:grpSpPr>
          <a:xfrm>
            <a:off x="4648320" y="1600200"/>
            <a:ext cx="4038480" cy="2185920"/>
            <a:chOff x="4648320" y="1600200"/>
            <a:chExt cx="4038480" cy="2185920"/>
          </a:xfrm>
        </p:grpSpPr>
        <p:sp>
          <p:nvSpPr>
            <p:cNvPr id="372" name=""/>
            <p:cNvSpPr/>
            <p:nvPr/>
          </p:nvSpPr>
          <p:spPr>
            <a:xfrm>
              <a:off x="7878600" y="3240000"/>
              <a:ext cx="80820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7070760" y="3240000"/>
              <a:ext cx="80784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9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264360" y="3240000"/>
              <a:ext cx="80640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8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5456160" y="3240000"/>
              <a:ext cx="80820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7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648320" y="3240000"/>
              <a:ext cx="80784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7878600" y="2693880"/>
              <a:ext cx="80820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070760" y="2693880"/>
              <a:ext cx="80784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264360" y="2693880"/>
              <a:ext cx="80640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5456160" y="2693880"/>
              <a:ext cx="80820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648320" y="2693880"/>
              <a:ext cx="80784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7878600" y="2146320"/>
              <a:ext cx="808200" cy="5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7070760" y="2146320"/>
              <a:ext cx="807840" cy="5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264360" y="2146320"/>
              <a:ext cx="806400" cy="5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456160" y="2146320"/>
              <a:ext cx="808200" cy="5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648320" y="2146320"/>
              <a:ext cx="807840" cy="5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7878600" y="1600200"/>
              <a:ext cx="80820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7070760" y="1600200"/>
              <a:ext cx="807840" cy="546120"/>
            </a:xfrm>
            <a:prstGeom prst="rect">
              <a:avLst/>
            </a:prstGeom>
            <a:solidFill>
              <a:srgbClr val="edbf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6264360" y="1600200"/>
              <a:ext cx="806400" cy="546120"/>
            </a:xfrm>
            <a:prstGeom prst="rect">
              <a:avLst/>
            </a:prstGeom>
            <a:solidFill>
              <a:srgbClr val="edbf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56160" y="1600200"/>
              <a:ext cx="808200" cy="546120"/>
            </a:xfrm>
            <a:prstGeom prst="rect">
              <a:avLst/>
            </a:prstGeom>
            <a:solidFill>
              <a:srgbClr val="edbf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648320" y="1600200"/>
              <a:ext cx="807840" cy="546120"/>
            </a:xfrm>
            <a:prstGeom prst="rect">
              <a:avLst/>
            </a:prstGeom>
            <a:solidFill>
              <a:srgbClr val="edbf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4648320" y="1600200"/>
              <a:ext cx="40384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648320" y="2146320"/>
              <a:ext cx="4038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648320" y="2693880"/>
              <a:ext cx="4038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4648320" y="3240000"/>
              <a:ext cx="4038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4648320" y="3786120"/>
              <a:ext cx="40384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648320" y="1600200"/>
              <a:ext cx="0" cy="218592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5456160" y="1600200"/>
              <a:ext cx="0" cy="218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264360" y="1600200"/>
              <a:ext cx="0" cy="218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070760" y="1600200"/>
              <a:ext cx="0" cy="218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878600" y="1600200"/>
              <a:ext cx="0" cy="218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8686800" y="1600200"/>
              <a:ext cx="0" cy="218592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3" name=""/>
          <p:cNvGrpSpPr/>
          <p:nvPr/>
        </p:nvGrpSpPr>
        <p:grpSpPr>
          <a:xfrm>
            <a:off x="4648320" y="3938760"/>
            <a:ext cx="4038480" cy="2187360"/>
            <a:chOff x="4648320" y="3938760"/>
            <a:chExt cx="4038480" cy="2187360"/>
          </a:xfrm>
        </p:grpSpPr>
        <p:sp>
          <p:nvSpPr>
            <p:cNvPr id="404" name=""/>
            <p:cNvSpPr/>
            <p:nvPr/>
          </p:nvSpPr>
          <p:spPr>
            <a:xfrm>
              <a:off x="7878600" y="5580000"/>
              <a:ext cx="808200" cy="546120"/>
            </a:xfrm>
            <a:prstGeom prst="rect">
              <a:avLst/>
            </a:prstGeom>
            <a:solidFill>
              <a:srgbClr val="edbf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070760" y="5580000"/>
              <a:ext cx="80784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9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264360" y="5580000"/>
              <a:ext cx="80640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8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456160" y="5580000"/>
              <a:ext cx="80820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7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4648320" y="5580000"/>
              <a:ext cx="80784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6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7878600" y="5032440"/>
              <a:ext cx="808200" cy="5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7070760" y="5032440"/>
              <a:ext cx="807840" cy="5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264360" y="5032440"/>
              <a:ext cx="806400" cy="547560"/>
            </a:xfrm>
            <a:prstGeom prst="rect">
              <a:avLst/>
            </a:prstGeom>
            <a:solidFill>
              <a:srgbClr val="edbf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456160" y="5032440"/>
              <a:ext cx="808200" cy="5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4648320" y="5032440"/>
              <a:ext cx="807840" cy="5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7878600" y="4486320"/>
              <a:ext cx="80820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7070760" y="4486320"/>
              <a:ext cx="80784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6264360" y="4486320"/>
              <a:ext cx="80640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5456160" y="4486320"/>
              <a:ext cx="80820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648320" y="4486320"/>
              <a:ext cx="807840" cy="546120"/>
            </a:xfrm>
            <a:prstGeom prst="rect">
              <a:avLst/>
            </a:prstGeom>
            <a:solidFill>
              <a:srgbClr val="edbf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7878600" y="3938760"/>
              <a:ext cx="808200" cy="547560"/>
            </a:xfrm>
            <a:prstGeom prst="rect">
              <a:avLst/>
            </a:prstGeom>
            <a:solidFill>
              <a:srgbClr val="edbf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7070760" y="3938760"/>
              <a:ext cx="807840" cy="5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6264360" y="3938760"/>
              <a:ext cx="806400" cy="5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5456160" y="3938760"/>
              <a:ext cx="808200" cy="5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4648320" y="3938760"/>
              <a:ext cx="807840" cy="5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648320" y="3938760"/>
              <a:ext cx="40384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648320" y="4486320"/>
              <a:ext cx="4038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4648320" y="5032440"/>
              <a:ext cx="4038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4648320" y="5580000"/>
              <a:ext cx="4038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4648320" y="6126120"/>
              <a:ext cx="40384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4648320" y="3938760"/>
              <a:ext cx="0" cy="218736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5456160" y="3938760"/>
              <a:ext cx="0" cy="2187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6264360" y="3938760"/>
              <a:ext cx="0" cy="2187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7070760" y="3938760"/>
              <a:ext cx="0" cy="2187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878600" y="3938760"/>
              <a:ext cx="0" cy="2187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8686800" y="3938760"/>
              <a:ext cx="0" cy="218736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Classes of memory (cont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ck and Heap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Int *x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7" name=""/>
          <p:cNvGrpSpPr/>
          <p:nvPr/>
        </p:nvGrpSpPr>
        <p:grpSpPr>
          <a:xfrm>
            <a:off x="4648320" y="1600200"/>
            <a:ext cx="4038480" cy="2187720"/>
            <a:chOff x="4648320" y="1600200"/>
            <a:chExt cx="4038480" cy="2187720"/>
          </a:xfrm>
        </p:grpSpPr>
        <p:sp>
          <p:nvSpPr>
            <p:cNvPr id="438" name=""/>
            <p:cNvSpPr/>
            <p:nvPr/>
          </p:nvSpPr>
          <p:spPr>
            <a:xfrm>
              <a:off x="7878600" y="3241800"/>
              <a:ext cx="80820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7070760" y="3241800"/>
              <a:ext cx="80784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9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6264360" y="3241800"/>
              <a:ext cx="80640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8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5456160" y="3241800"/>
              <a:ext cx="80820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7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4648320" y="3241800"/>
              <a:ext cx="80784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7878600" y="2695680"/>
              <a:ext cx="80820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070760" y="2695680"/>
              <a:ext cx="80784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6264360" y="2695680"/>
              <a:ext cx="80640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5456160" y="2695680"/>
              <a:ext cx="80820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648320" y="2695680"/>
              <a:ext cx="80784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7878600" y="2147760"/>
              <a:ext cx="80820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070760" y="2147760"/>
              <a:ext cx="80784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264360" y="2147760"/>
              <a:ext cx="80640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456160" y="2147760"/>
              <a:ext cx="80820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4648320" y="2147760"/>
              <a:ext cx="80784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878600" y="1600200"/>
              <a:ext cx="808200" cy="547560"/>
            </a:xfrm>
            <a:prstGeom prst="rect">
              <a:avLst/>
            </a:prstGeom>
            <a:solidFill>
              <a:srgbClr val="a4fa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 reserved for a pointer  x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070760" y="1600200"/>
              <a:ext cx="807840" cy="547560"/>
            </a:xfrm>
            <a:prstGeom prst="rect">
              <a:avLst/>
            </a:prstGeom>
            <a:solidFill>
              <a:srgbClr val="edbf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264360" y="1600200"/>
              <a:ext cx="806400" cy="547560"/>
            </a:xfrm>
            <a:prstGeom prst="rect">
              <a:avLst/>
            </a:prstGeom>
            <a:solidFill>
              <a:srgbClr val="edbf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5456160" y="1600200"/>
              <a:ext cx="808200" cy="547560"/>
            </a:xfrm>
            <a:prstGeom prst="rect">
              <a:avLst/>
            </a:prstGeom>
            <a:solidFill>
              <a:srgbClr val="edbf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4648320" y="1600200"/>
              <a:ext cx="807840" cy="547560"/>
            </a:xfrm>
            <a:prstGeom prst="rect">
              <a:avLst/>
            </a:prstGeom>
            <a:solidFill>
              <a:srgbClr val="edbf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648320" y="1600200"/>
              <a:ext cx="40384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4648320" y="2147760"/>
              <a:ext cx="4038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4648320" y="2695680"/>
              <a:ext cx="4038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4648320" y="3241800"/>
              <a:ext cx="4038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4648320" y="3787920"/>
              <a:ext cx="40384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4648320" y="1600200"/>
              <a:ext cx="0" cy="218772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5456160" y="1600200"/>
              <a:ext cx="0" cy="2187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264360" y="1600200"/>
              <a:ext cx="0" cy="2187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7070760" y="1600200"/>
              <a:ext cx="0" cy="2187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7878600" y="1600200"/>
              <a:ext cx="0" cy="2187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686800" y="1600200"/>
              <a:ext cx="0" cy="218772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9" name=""/>
          <p:cNvGrpSpPr/>
          <p:nvPr/>
        </p:nvGrpSpPr>
        <p:grpSpPr>
          <a:xfrm>
            <a:off x="4648320" y="3938760"/>
            <a:ext cx="4038480" cy="2187360"/>
            <a:chOff x="4648320" y="3938760"/>
            <a:chExt cx="4038480" cy="2187360"/>
          </a:xfrm>
        </p:grpSpPr>
        <p:sp>
          <p:nvSpPr>
            <p:cNvPr id="470" name=""/>
            <p:cNvSpPr/>
            <p:nvPr/>
          </p:nvSpPr>
          <p:spPr>
            <a:xfrm>
              <a:off x="7878600" y="5580000"/>
              <a:ext cx="808200" cy="546120"/>
            </a:xfrm>
            <a:prstGeom prst="rect">
              <a:avLst/>
            </a:prstGeom>
            <a:solidFill>
              <a:srgbClr val="edbf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7070760" y="5580000"/>
              <a:ext cx="80784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9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6264360" y="5580000"/>
              <a:ext cx="80640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8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5456160" y="5580000"/>
              <a:ext cx="80820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7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648320" y="5580000"/>
              <a:ext cx="80784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6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7878600" y="5032440"/>
              <a:ext cx="808200" cy="5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7070760" y="5032440"/>
              <a:ext cx="807840" cy="5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6264360" y="5032440"/>
              <a:ext cx="806400" cy="547560"/>
            </a:xfrm>
            <a:prstGeom prst="rect">
              <a:avLst/>
            </a:prstGeom>
            <a:solidFill>
              <a:srgbClr val="edbf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56160" y="5032440"/>
              <a:ext cx="808200" cy="5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4648320" y="5032440"/>
              <a:ext cx="807840" cy="5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7878600" y="4486320"/>
              <a:ext cx="80820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7070760" y="4486320"/>
              <a:ext cx="80784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6264360" y="4486320"/>
              <a:ext cx="80640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5456160" y="4486320"/>
              <a:ext cx="80820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4648320" y="4486320"/>
              <a:ext cx="807840" cy="546120"/>
            </a:xfrm>
            <a:prstGeom prst="rect">
              <a:avLst/>
            </a:prstGeom>
            <a:solidFill>
              <a:srgbClr val="edbf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7878600" y="3938760"/>
              <a:ext cx="808200" cy="547560"/>
            </a:xfrm>
            <a:prstGeom prst="rect">
              <a:avLst/>
            </a:prstGeom>
            <a:solidFill>
              <a:srgbClr val="edbf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7070760" y="3938760"/>
              <a:ext cx="807840" cy="5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6264360" y="3938760"/>
              <a:ext cx="806400" cy="5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456160" y="3938760"/>
              <a:ext cx="808200" cy="5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648320" y="3938760"/>
              <a:ext cx="807840" cy="5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648320" y="3938760"/>
              <a:ext cx="40384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4648320" y="4486320"/>
              <a:ext cx="4038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4648320" y="5032440"/>
              <a:ext cx="4038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4648320" y="5580000"/>
              <a:ext cx="4038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648320" y="6126120"/>
              <a:ext cx="40384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4648320" y="3938760"/>
              <a:ext cx="0" cy="218736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5456160" y="3938760"/>
              <a:ext cx="0" cy="2187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264360" y="3938760"/>
              <a:ext cx="0" cy="2187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7070760" y="3938760"/>
              <a:ext cx="0" cy="2187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7878600" y="3938760"/>
              <a:ext cx="0" cy="2187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8686800" y="3938760"/>
              <a:ext cx="0" cy="218736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Classes of memory (cont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ck and Heap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Int *x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malloc(sizeof(int)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3" name=""/>
          <p:cNvGrpSpPr/>
          <p:nvPr/>
        </p:nvGrpSpPr>
        <p:grpSpPr>
          <a:xfrm>
            <a:off x="4648320" y="1600200"/>
            <a:ext cx="4038480" cy="2187720"/>
            <a:chOff x="4648320" y="1600200"/>
            <a:chExt cx="4038480" cy="2187720"/>
          </a:xfrm>
        </p:grpSpPr>
        <p:sp>
          <p:nvSpPr>
            <p:cNvPr id="504" name=""/>
            <p:cNvSpPr/>
            <p:nvPr/>
          </p:nvSpPr>
          <p:spPr>
            <a:xfrm>
              <a:off x="7878600" y="3241800"/>
              <a:ext cx="80820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7070760" y="3241800"/>
              <a:ext cx="80784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9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6264360" y="3241800"/>
              <a:ext cx="80640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8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5456160" y="3241800"/>
              <a:ext cx="80820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7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4648320" y="3241800"/>
              <a:ext cx="80784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7878600" y="2695680"/>
              <a:ext cx="80820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7070760" y="2695680"/>
              <a:ext cx="80784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6264360" y="2695680"/>
              <a:ext cx="80640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5456160" y="2695680"/>
              <a:ext cx="80820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4648320" y="2695680"/>
              <a:ext cx="80784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7878600" y="2147760"/>
              <a:ext cx="80820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7070760" y="2147760"/>
              <a:ext cx="80784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6264360" y="2147760"/>
              <a:ext cx="80640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5456160" y="2147760"/>
              <a:ext cx="80820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648320" y="2147760"/>
              <a:ext cx="80784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7878600" y="1600200"/>
              <a:ext cx="808200" cy="547560"/>
            </a:xfrm>
            <a:prstGeom prst="rect">
              <a:avLst/>
            </a:prstGeom>
            <a:solidFill>
              <a:srgbClr val="a4fa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 reserved for a pointer  x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7070760" y="1600200"/>
              <a:ext cx="807840" cy="547560"/>
            </a:xfrm>
            <a:prstGeom prst="rect">
              <a:avLst/>
            </a:prstGeom>
            <a:solidFill>
              <a:srgbClr val="edbf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6264360" y="1600200"/>
              <a:ext cx="806400" cy="547560"/>
            </a:xfrm>
            <a:prstGeom prst="rect">
              <a:avLst/>
            </a:prstGeom>
            <a:solidFill>
              <a:srgbClr val="edbf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5456160" y="1600200"/>
              <a:ext cx="808200" cy="547560"/>
            </a:xfrm>
            <a:prstGeom prst="rect">
              <a:avLst/>
            </a:prstGeom>
            <a:solidFill>
              <a:srgbClr val="edbf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4648320" y="1600200"/>
              <a:ext cx="807840" cy="547560"/>
            </a:xfrm>
            <a:prstGeom prst="rect">
              <a:avLst/>
            </a:prstGeom>
            <a:solidFill>
              <a:srgbClr val="edbf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4648320" y="1600200"/>
              <a:ext cx="40384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4648320" y="2147760"/>
              <a:ext cx="4038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4648320" y="2695680"/>
              <a:ext cx="4038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4648320" y="3241800"/>
              <a:ext cx="4038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4648320" y="3787920"/>
              <a:ext cx="40384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648320" y="1600200"/>
              <a:ext cx="0" cy="218772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5456160" y="1600200"/>
              <a:ext cx="0" cy="2187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6264360" y="1600200"/>
              <a:ext cx="0" cy="2187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7070760" y="1600200"/>
              <a:ext cx="0" cy="2187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7878600" y="1600200"/>
              <a:ext cx="0" cy="2187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8686800" y="1600200"/>
              <a:ext cx="0" cy="218772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5" name=""/>
          <p:cNvGrpSpPr/>
          <p:nvPr/>
        </p:nvGrpSpPr>
        <p:grpSpPr>
          <a:xfrm>
            <a:off x="4648320" y="3938760"/>
            <a:ext cx="4038480" cy="2189160"/>
            <a:chOff x="4648320" y="3938760"/>
            <a:chExt cx="4038480" cy="2189160"/>
          </a:xfrm>
        </p:grpSpPr>
        <p:sp>
          <p:nvSpPr>
            <p:cNvPr id="536" name=""/>
            <p:cNvSpPr/>
            <p:nvPr/>
          </p:nvSpPr>
          <p:spPr>
            <a:xfrm>
              <a:off x="7878600" y="5580000"/>
              <a:ext cx="808200" cy="547920"/>
            </a:xfrm>
            <a:prstGeom prst="rect">
              <a:avLst/>
            </a:prstGeom>
            <a:solidFill>
              <a:srgbClr val="edbf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7070760" y="5580000"/>
              <a:ext cx="80784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9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6264360" y="5580000"/>
              <a:ext cx="80640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8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456160" y="5580000"/>
              <a:ext cx="808200" cy="547920"/>
            </a:xfrm>
            <a:prstGeom prst="rect">
              <a:avLst/>
            </a:prstGeom>
            <a:solidFill>
              <a:srgbClr val="a4fa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7 allocated for integer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4648320" y="5580000"/>
              <a:ext cx="80784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6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7878600" y="5032440"/>
              <a:ext cx="808200" cy="5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7070760" y="5032440"/>
              <a:ext cx="807840" cy="5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264360" y="5032440"/>
              <a:ext cx="806400" cy="547560"/>
            </a:xfrm>
            <a:prstGeom prst="rect">
              <a:avLst/>
            </a:prstGeom>
            <a:solidFill>
              <a:srgbClr val="edbf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5456160" y="5032440"/>
              <a:ext cx="808200" cy="5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4648320" y="5032440"/>
              <a:ext cx="807840" cy="5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7878600" y="4486320"/>
              <a:ext cx="80820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7070760" y="4486320"/>
              <a:ext cx="80784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6264360" y="4486320"/>
              <a:ext cx="80640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5456160" y="4486320"/>
              <a:ext cx="80820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48320" y="4486320"/>
              <a:ext cx="807840" cy="546120"/>
            </a:xfrm>
            <a:prstGeom prst="rect">
              <a:avLst/>
            </a:prstGeom>
            <a:solidFill>
              <a:srgbClr val="edbf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7878600" y="3938760"/>
              <a:ext cx="808200" cy="547560"/>
            </a:xfrm>
            <a:prstGeom prst="rect">
              <a:avLst/>
            </a:prstGeom>
            <a:solidFill>
              <a:srgbClr val="edbf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7070760" y="3938760"/>
              <a:ext cx="807840" cy="5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6264360" y="3938760"/>
              <a:ext cx="806400" cy="5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5456160" y="3938760"/>
              <a:ext cx="808200" cy="5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648320" y="3938760"/>
              <a:ext cx="807840" cy="5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4648320" y="3938760"/>
              <a:ext cx="40384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4648320" y="4486320"/>
              <a:ext cx="4038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4648320" y="5032440"/>
              <a:ext cx="4038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648320" y="5580000"/>
              <a:ext cx="4038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648320" y="6127920"/>
              <a:ext cx="40384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4648320" y="3938760"/>
              <a:ext cx="0" cy="218916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456160" y="3938760"/>
              <a:ext cx="0" cy="2189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6264360" y="3938760"/>
              <a:ext cx="0" cy="2189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070760" y="3938760"/>
              <a:ext cx="0" cy="2189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878600" y="3938760"/>
              <a:ext cx="0" cy="2189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8686800" y="3938760"/>
              <a:ext cx="0" cy="218916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Classes of memory (cont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ck and Heap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Int *x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x = malloc(sizeof(int)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9" name=""/>
          <p:cNvGrpSpPr/>
          <p:nvPr/>
        </p:nvGrpSpPr>
        <p:grpSpPr>
          <a:xfrm>
            <a:off x="4648320" y="1600200"/>
            <a:ext cx="4038480" cy="2187720"/>
            <a:chOff x="4648320" y="1600200"/>
            <a:chExt cx="4038480" cy="2187720"/>
          </a:xfrm>
        </p:grpSpPr>
        <p:sp>
          <p:nvSpPr>
            <p:cNvPr id="570" name=""/>
            <p:cNvSpPr/>
            <p:nvPr/>
          </p:nvSpPr>
          <p:spPr>
            <a:xfrm>
              <a:off x="7878600" y="3241800"/>
              <a:ext cx="80820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7070760" y="3241800"/>
              <a:ext cx="80784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9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6264360" y="3241800"/>
              <a:ext cx="80640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8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5456160" y="3241800"/>
              <a:ext cx="80820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7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4648320" y="3241800"/>
              <a:ext cx="80784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7878600" y="2695680"/>
              <a:ext cx="80820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7070760" y="2695680"/>
              <a:ext cx="80784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6264360" y="2695680"/>
              <a:ext cx="80640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5456160" y="2695680"/>
              <a:ext cx="80820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4648320" y="2695680"/>
              <a:ext cx="80784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7878600" y="2147760"/>
              <a:ext cx="80820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7070760" y="2147760"/>
              <a:ext cx="80784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6264360" y="2147760"/>
              <a:ext cx="80640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456160" y="2147760"/>
              <a:ext cx="80820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4648320" y="2147760"/>
              <a:ext cx="80784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7878600" y="1600200"/>
              <a:ext cx="808200" cy="547560"/>
            </a:xfrm>
            <a:prstGeom prst="rect">
              <a:avLst/>
            </a:prstGeom>
            <a:solidFill>
              <a:srgbClr val="a4fa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 pointer  x to address 37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7070760" y="1600200"/>
              <a:ext cx="807840" cy="547560"/>
            </a:xfrm>
            <a:prstGeom prst="rect">
              <a:avLst/>
            </a:prstGeom>
            <a:solidFill>
              <a:srgbClr val="edbf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6264360" y="1600200"/>
              <a:ext cx="806400" cy="547560"/>
            </a:xfrm>
            <a:prstGeom prst="rect">
              <a:avLst/>
            </a:prstGeom>
            <a:solidFill>
              <a:srgbClr val="edbf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5456160" y="1600200"/>
              <a:ext cx="808200" cy="547560"/>
            </a:xfrm>
            <a:prstGeom prst="rect">
              <a:avLst/>
            </a:prstGeom>
            <a:solidFill>
              <a:srgbClr val="edbf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648320" y="1600200"/>
              <a:ext cx="807840" cy="547560"/>
            </a:xfrm>
            <a:prstGeom prst="rect">
              <a:avLst/>
            </a:prstGeom>
            <a:solidFill>
              <a:srgbClr val="edbf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648320" y="1600200"/>
              <a:ext cx="40384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648320" y="2147760"/>
              <a:ext cx="4038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648320" y="2695680"/>
              <a:ext cx="4038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648320" y="3241800"/>
              <a:ext cx="4038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4648320" y="3787920"/>
              <a:ext cx="40384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4648320" y="1600200"/>
              <a:ext cx="0" cy="218772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5456160" y="1600200"/>
              <a:ext cx="0" cy="2187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264360" y="1600200"/>
              <a:ext cx="0" cy="2187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70760" y="1600200"/>
              <a:ext cx="0" cy="2187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7878600" y="1600200"/>
              <a:ext cx="0" cy="2187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8686800" y="1600200"/>
              <a:ext cx="0" cy="218772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1" name=""/>
          <p:cNvGrpSpPr/>
          <p:nvPr/>
        </p:nvGrpSpPr>
        <p:grpSpPr>
          <a:xfrm>
            <a:off x="4648320" y="3938760"/>
            <a:ext cx="4038480" cy="2189160"/>
            <a:chOff x="4648320" y="3938760"/>
            <a:chExt cx="4038480" cy="2189160"/>
          </a:xfrm>
        </p:grpSpPr>
        <p:sp>
          <p:nvSpPr>
            <p:cNvPr id="602" name=""/>
            <p:cNvSpPr/>
            <p:nvPr/>
          </p:nvSpPr>
          <p:spPr>
            <a:xfrm>
              <a:off x="7878600" y="5580000"/>
              <a:ext cx="808200" cy="547920"/>
            </a:xfrm>
            <a:prstGeom prst="rect">
              <a:avLst/>
            </a:prstGeom>
            <a:solidFill>
              <a:srgbClr val="edbf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7070760" y="5580000"/>
              <a:ext cx="80784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9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264360" y="5580000"/>
              <a:ext cx="80640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8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456160" y="5580000"/>
              <a:ext cx="808200" cy="547920"/>
            </a:xfrm>
            <a:prstGeom prst="rect">
              <a:avLst/>
            </a:prstGeom>
            <a:solidFill>
              <a:srgbClr val="a4fa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7 allocated for integer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4648320" y="5580000"/>
              <a:ext cx="80784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6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878600" y="5032440"/>
              <a:ext cx="808200" cy="5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070760" y="5032440"/>
              <a:ext cx="807840" cy="5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6264360" y="5032440"/>
              <a:ext cx="806400" cy="547560"/>
            </a:xfrm>
            <a:prstGeom prst="rect">
              <a:avLst/>
            </a:prstGeom>
            <a:solidFill>
              <a:srgbClr val="edbf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5456160" y="5032440"/>
              <a:ext cx="808200" cy="5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4648320" y="5032440"/>
              <a:ext cx="807840" cy="5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7878600" y="4486320"/>
              <a:ext cx="80820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070760" y="4486320"/>
              <a:ext cx="80784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6264360" y="4486320"/>
              <a:ext cx="80640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5456160" y="4486320"/>
              <a:ext cx="80820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4648320" y="4486320"/>
              <a:ext cx="807840" cy="546120"/>
            </a:xfrm>
            <a:prstGeom prst="rect">
              <a:avLst/>
            </a:prstGeom>
            <a:solidFill>
              <a:srgbClr val="edbf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7878600" y="3938760"/>
              <a:ext cx="808200" cy="547560"/>
            </a:xfrm>
            <a:prstGeom prst="rect">
              <a:avLst/>
            </a:prstGeom>
            <a:solidFill>
              <a:srgbClr val="edbf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7070760" y="3938760"/>
              <a:ext cx="807840" cy="5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6264360" y="3938760"/>
              <a:ext cx="806400" cy="5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456160" y="3938760"/>
              <a:ext cx="808200" cy="5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4648320" y="3938760"/>
              <a:ext cx="807840" cy="5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4648320" y="3938760"/>
              <a:ext cx="40384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4648320" y="4486320"/>
              <a:ext cx="4038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4648320" y="5032440"/>
              <a:ext cx="4038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4648320" y="5580000"/>
              <a:ext cx="4038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4648320" y="6127920"/>
              <a:ext cx="40384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4648320" y="3938760"/>
              <a:ext cx="0" cy="218916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5456160" y="3938760"/>
              <a:ext cx="0" cy="2189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6264360" y="3938760"/>
              <a:ext cx="0" cy="2189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7070760" y="3938760"/>
              <a:ext cx="0" cy="2189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7878600" y="3938760"/>
              <a:ext cx="0" cy="2189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8686800" y="3938760"/>
              <a:ext cx="0" cy="218916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Classes of memory (cont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ck and Heap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Int *x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x = malloc(sizeof(int)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*x = 2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5" name=""/>
          <p:cNvGrpSpPr/>
          <p:nvPr/>
        </p:nvGrpSpPr>
        <p:grpSpPr>
          <a:xfrm>
            <a:off x="4648320" y="1600200"/>
            <a:ext cx="4038480" cy="2187720"/>
            <a:chOff x="4648320" y="1600200"/>
            <a:chExt cx="4038480" cy="2187720"/>
          </a:xfrm>
        </p:grpSpPr>
        <p:sp>
          <p:nvSpPr>
            <p:cNvPr id="636" name=""/>
            <p:cNvSpPr/>
            <p:nvPr/>
          </p:nvSpPr>
          <p:spPr>
            <a:xfrm>
              <a:off x="7878600" y="3241800"/>
              <a:ext cx="80820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7070760" y="3241800"/>
              <a:ext cx="80784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9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6264360" y="3241800"/>
              <a:ext cx="80640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8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5456160" y="3241800"/>
              <a:ext cx="80820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7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4648320" y="3241800"/>
              <a:ext cx="80784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7878600" y="2695680"/>
              <a:ext cx="80820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7070760" y="2695680"/>
              <a:ext cx="80784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6264360" y="2695680"/>
              <a:ext cx="80640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5456160" y="2695680"/>
              <a:ext cx="80820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4648320" y="2695680"/>
              <a:ext cx="80784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7878600" y="2147760"/>
              <a:ext cx="80820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070760" y="2147760"/>
              <a:ext cx="80784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6264360" y="2147760"/>
              <a:ext cx="80640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5456160" y="2147760"/>
              <a:ext cx="80820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4648320" y="2147760"/>
              <a:ext cx="80784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7878600" y="1600200"/>
              <a:ext cx="808200" cy="547560"/>
            </a:xfrm>
            <a:prstGeom prst="rect">
              <a:avLst/>
            </a:prstGeom>
            <a:solidFill>
              <a:srgbClr val="a4fa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 pointer  x to address 37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7070760" y="1600200"/>
              <a:ext cx="807840" cy="547560"/>
            </a:xfrm>
            <a:prstGeom prst="rect">
              <a:avLst/>
            </a:prstGeom>
            <a:solidFill>
              <a:srgbClr val="edbf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6264360" y="1600200"/>
              <a:ext cx="806400" cy="547560"/>
            </a:xfrm>
            <a:prstGeom prst="rect">
              <a:avLst/>
            </a:prstGeom>
            <a:solidFill>
              <a:srgbClr val="edbf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5456160" y="1600200"/>
              <a:ext cx="808200" cy="547560"/>
            </a:xfrm>
            <a:prstGeom prst="rect">
              <a:avLst/>
            </a:prstGeom>
            <a:solidFill>
              <a:srgbClr val="edbf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4648320" y="1600200"/>
              <a:ext cx="807840" cy="547560"/>
            </a:xfrm>
            <a:prstGeom prst="rect">
              <a:avLst/>
            </a:prstGeom>
            <a:solidFill>
              <a:srgbClr val="edbf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4648320" y="1600200"/>
              <a:ext cx="40384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4648320" y="2147760"/>
              <a:ext cx="4038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4648320" y="2695680"/>
              <a:ext cx="4038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4648320" y="3241800"/>
              <a:ext cx="4038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4648320" y="3787920"/>
              <a:ext cx="40384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648320" y="1600200"/>
              <a:ext cx="0" cy="218772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5456160" y="1600200"/>
              <a:ext cx="0" cy="2187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6264360" y="1600200"/>
              <a:ext cx="0" cy="2187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7070760" y="1600200"/>
              <a:ext cx="0" cy="2187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7878600" y="1600200"/>
              <a:ext cx="0" cy="2187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8686800" y="1600200"/>
              <a:ext cx="0" cy="218772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7" name=""/>
          <p:cNvGrpSpPr/>
          <p:nvPr/>
        </p:nvGrpSpPr>
        <p:grpSpPr>
          <a:xfrm>
            <a:off x="4648320" y="3938760"/>
            <a:ext cx="4038480" cy="2187360"/>
            <a:chOff x="4648320" y="3938760"/>
            <a:chExt cx="4038480" cy="2187360"/>
          </a:xfrm>
        </p:grpSpPr>
        <p:sp>
          <p:nvSpPr>
            <p:cNvPr id="668" name=""/>
            <p:cNvSpPr/>
            <p:nvPr/>
          </p:nvSpPr>
          <p:spPr>
            <a:xfrm>
              <a:off x="7878600" y="5580000"/>
              <a:ext cx="808200" cy="546120"/>
            </a:xfrm>
            <a:prstGeom prst="rect">
              <a:avLst/>
            </a:prstGeom>
            <a:solidFill>
              <a:srgbClr val="edbf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7070760" y="5580000"/>
              <a:ext cx="80784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9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6264360" y="5580000"/>
              <a:ext cx="80640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8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5456160" y="5580000"/>
              <a:ext cx="808200" cy="546120"/>
            </a:xfrm>
            <a:prstGeom prst="rect">
              <a:avLst/>
            </a:prstGeom>
            <a:solidFill>
              <a:srgbClr val="a4fa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7 integer value 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4648320" y="5580000"/>
              <a:ext cx="80784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6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878600" y="5032440"/>
              <a:ext cx="808200" cy="5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070760" y="5032440"/>
              <a:ext cx="807840" cy="5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6264360" y="5032440"/>
              <a:ext cx="806400" cy="547560"/>
            </a:xfrm>
            <a:prstGeom prst="rect">
              <a:avLst/>
            </a:prstGeom>
            <a:solidFill>
              <a:srgbClr val="edbf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5456160" y="5032440"/>
              <a:ext cx="808200" cy="5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4648320" y="5032440"/>
              <a:ext cx="807840" cy="5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7878600" y="4486320"/>
              <a:ext cx="80820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7070760" y="4486320"/>
              <a:ext cx="80784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6264360" y="4486320"/>
              <a:ext cx="80640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5456160" y="4486320"/>
              <a:ext cx="80820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4648320" y="4486320"/>
              <a:ext cx="807840" cy="546120"/>
            </a:xfrm>
            <a:prstGeom prst="rect">
              <a:avLst/>
            </a:prstGeom>
            <a:solidFill>
              <a:srgbClr val="edbf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878600" y="3938760"/>
              <a:ext cx="808200" cy="547560"/>
            </a:xfrm>
            <a:prstGeom prst="rect">
              <a:avLst/>
            </a:prstGeom>
            <a:solidFill>
              <a:srgbClr val="edbf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070760" y="3938760"/>
              <a:ext cx="807840" cy="5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264360" y="3938760"/>
              <a:ext cx="806400" cy="5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5456160" y="3938760"/>
              <a:ext cx="808200" cy="5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4648320" y="3938760"/>
              <a:ext cx="807840" cy="5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4648320" y="3938760"/>
              <a:ext cx="40384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4648320" y="4486320"/>
              <a:ext cx="4038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4648320" y="5032440"/>
              <a:ext cx="4038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4648320" y="5580000"/>
              <a:ext cx="4038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4648320" y="6126120"/>
              <a:ext cx="40384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4648320" y="3938760"/>
              <a:ext cx="0" cy="218736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5456160" y="3938760"/>
              <a:ext cx="0" cy="2187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6264360" y="3938760"/>
              <a:ext cx="0" cy="2187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7070760" y="3938760"/>
              <a:ext cx="0" cy="2187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7878600" y="3938760"/>
              <a:ext cx="0" cy="2187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8686800" y="3938760"/>
              <a:ext cx="0" cy="218736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Classes of memory (cont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ck and Heap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Int *x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x = malloc(sizeof(int)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*x = 2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free(x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1" name=""/>
          <p:cNvGrpSpPr/>
          <p:nvPr/>
        </p:nvGrpSpPr>
        <p:grpSpPr>
          <a:xfrm>
            <a:off x="4648320" y="1600200"/>
            <a:ext cx="4038480" cy="2187720"/>
            <a:chOff x="4648320" y="1600200"/>
            <a:chExt cx="4038480" cy="2187720"/>
          </a:xfrm>
        </p:grpSpPr>
        <p:sp>
          <p:nvSpPr>
            <p:cNvPr id="702" name=""/>
            <p:cNvSpPr/>
            <p:nvPr/>
          </p:nvSpPr>
          <p:spPr>
            <a:xfrm>
              <a:off x="7878600" y="3241800"/>
              <a:ext cx="80820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7070760" y="3241800"/>
              <a:ext cx="80784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9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6264360" y="3241800"/>
              <a:ext cx="80640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8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5456160" y="3241800"/>
              <a:ext cx="80820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7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648320" y="3241800"/>
              <a:ext cx="80784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7878600" y="2695680"/>
              <a:ext cx="80820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7070760" y="2695680"/>
              <a:ext cx="80784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6264360" y="2695680"/>
              <a:ext cx="80640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5456160" y="2695680"/>
              <a:ext cx="80820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4648320" y="2695680"/>
              <a:ext cx="80784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7878600" y="2147760"/>
              <a:ext cx="80820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7070760" y="2147760"/>
              <a:ext cx="80784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6264360" y="2147760"/>
              <a:ext cx="80640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456160" y="2147760"/>
              <a:ext cx="80820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4648320" y="2147760"/>
              <a:ext cx="80784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7878600" y="1600200"/>
              <a:ext cx="808200" cy="547560"/>
            </a:xfrm>
            <a:prstGeom prst="rect">
              <a:avLst/>
            </a:prstGeom>
            <a:solidFill>
              <a:srgbClr val="a4fa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 pointer  x to address 37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7070760" y="1600200"/>
              <a:ext cx="807840" cy="547560"/>
            </a:xfrm>
            <a:prstGeom prst="rect">
              <a:avLst/>
            </a:prstGeom>
            <a:solidFill>
              <a:srgbClr val="edbf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6264360" y="1600200"/>
              <a:ext cx="806400" cy="547560"/>
            </a:xfrm>
            <a:prstGeom prst="rect">
              <a:avLst/>
            </a:prstGeom>
            <a:solidFill>
              <a:srgbClr val="edbf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56160" y="1600200"/>
              <a:ext cx="808200" cy="547560"/>
            </a:xfrm>
            <a:prstGeom prst="rect">
              <a:avLst/>
            </a:prstGeom>
            <a:solidFill>
              <a:srgbClr val="edbf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4648320" y="1600200"/>
              <a:ext cx="807840" cy="547560"/>
            </a:xfrm>
            <a:prstGeom prst="rect">
              <a:avLst/>
            </a:prstGeom>
            <a:solidFill>
              <a:srgbClr val="edbf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4648320" y="1600200"/>
              <a:ext cx="40384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4648320" y="2147760"/>
              <a:ext cx="4038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4648320" y="2695680"/>
              <a:ext cx="4038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4648320" y="3241800"/>
              <a:ext cx="4038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4648320" y="3787920"/>
              <a:ext cx="40384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4648320" y="1600200"/>
              <a:ext cx="0" cy="218772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5456160" y="1600200"/>
              <a:ext cx="0" cy="2187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6264360" y="1600200"/>
              <a:ext cx="0" cy="2187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7070760" y="1600200"/>
              <a:ext cx="0" cy="2187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7878600" y="1600200"/>
              <a:ext cx="0" cy="2187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8686800" y="1600200"/>
              <a:ext cx="0" cy="218772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3" name=""/>
          <p:cNvGrpSpPr/>
          <p:nvPr/>
        </p:nvGrpSpPr>
        <p:grpSpPr>
          <a:xfrm>
            <a:off x="4648320" y="3938760"/>
            <a:ext cx="4038480" cy="2187360"/>
            <a:chOff x="4648320" y="3938760"/>
            <a:chExt cx="4038480" cy="2187360"/>
          </a:xfrm>
        </p:grpSpPr>
        <p:sp>
          <p:nvSpPr>
            <p:cNvPr id="734" name=""/>
            <p:cNvSpPr/>
            <p:nvPr/>
          </p:nvSpPr>
          <p:spPr>
            <a:xfrm>
              <a:off x="7878600" y="5580000"/>
              <a:ext cx="808200" cy="546120"/>
            </a:xfrm>
            <a:prstGeom prst="rect">
              <a:avLst/>
            </a:prstGeom>
            <a:solidFill>
              <a:srgbClr val="edbf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7070760" y="5580000"/>
              <a:ext cx="80784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9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6264360" y="5580000"/>
              <a:ext cx="80640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8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5456160" y="5580000"/>
              <a:ext cx="808200" cy="54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7 ??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4648320" y="5580000"/>
              <a:ext cx="80784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6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7878600" y="5032440"/>
              <a:ext cx="808200" cy="5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7070760" y="5032440"/>
              <a:ext cx="807840" cy="5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6264360" y="5032440"/>
              <a:ext cx="806400" cy="547560"/>
            </a:xfrm>
            <a:prstGeom prst="rect">
              <a:avLst/>
            </a:prstGeom>
            <a:solidFill>
              <a:srgbClr val="edbf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456160" y="5032440"/>
              <a:ext cx="808200" cy="5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4648320" y="5032440"/>
              <a:ext cx="807840" cy="5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7878600" y="4486320"/>
              <a:ext cx="80820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7070760" y="4486320"/>
              <a:ext cx="80784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6264360" y="4486320"/>
              <a:ext cx="80640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456160" y="4486320"/>
              <a:ext cx="80820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4648320" y="4486320"/>
              <a:ext cx="807840" cy="546120"/>
            </a:xfrm>
            <a:prstGeom prst="rect">
              <a:avLst/>
            </a:prstGeom>
            <a:solidFill>
              <a:srgbClr val="edbf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7878600" y="3938760"/>
              <a:ext cx="808200" cy="547560"/>
            </a:xfrm>
            <a:prstGeom prst="rect">
              <a:avLst/>
            </a:prstGeom>
            <a:solidFill>
              <a:srgbClr val="edbf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7070760" y="3938760"/>
              <a:ext cx="807840" cy="5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6264360" y="3938760"/>
              <a:ext cx="806400" cy="5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5456160" y="3938760"/>
              <a:ext cx="808200" cy="5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4648320" y="3938760"/>
              <a:ext cx="807840" cy="5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4648320" y="3938760"/>
              <a:ext cx="40384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4648320" y="4486320"/>
              <a:ext cx="4038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4648320" y="5032440"/>
              <a:ext cx="4038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4648320" y="5580000"/>
              <a:ext cx="4038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4648320" y="6126120"/>
              <a:ext cx="40384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4648320" y="3938760"/>
              <a:ext cx="0" cy="218736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5456160" y="3938760"/>
              <a:ext cx="0" cy="2187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264360" y="3938760"/>
              <a:ext cx="0" cy="2187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7070760" y="3938760"/>
              <a:ext cx="0" cy="2187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7878600" y="3938760"/>
              <a:ext cx="0" cy="2187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8686800" y="3938760"/>
              <a:ext cx="0" cy="218736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Classes of memory (cont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ck and Heap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Int *x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x = malloc(sizeof(int)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*x = 2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free(x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"/>
          <p:cNvGrpSpPr/>
          <p:nvPr/>
        </p:nvGrpSpPr>
        <p:grpSpPr>
          <a:xfrm>
            <a:off x="4648320" y="1600200"/>
            <a:ext cx="4038480" cy="2185920"/>
            <a:chOff x="4648320" y="1600200"/>
            <a:chExt cx="4038480" cy="2185920"/>
          </a:xfrm>
        </p:grpSpPr>
        <p:sp>
          <p:nvSpPr>
            <p:cNvPr id="768" name=""/>
            <p:cNvSpPr/>
            <p:nvPr/>
          </p:nvSpPr>
          <p:spPr>
            <a:xfrm>
              <a:off x="7878600" y="3240000"/>
              <a:ext cx="80820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7070760" y="3240000"/>
              <a:ext cx="80784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9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6264360" y="3240000"/>
              <a:ext cx="80640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8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5456160" y="3240000"/>
              <a:ext cx="80820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7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4648320" y="3240000"/>
              <a:ext cx="80784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7878600" y="2693880"/>
              <a:ext cx="80820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7070760" y="2693880"/>
              <a:ext cx="80784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6264360" y="2693880"/>
              <a:ext cx="80640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5456160" y="2693880"/>
              <a:ext cx="80820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4648320" y="2693880"/>
              <a:ext cx="80784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7878600" y="2146320"/>
              <a:ext cx="808200" cy="5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7070760" y="2146320"/>
              <a:ext cx="807840" cy="5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6264360" y="2146320"/>
              <a:ext cx="806400" cy="5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5456160" y="2146320"/>
              <a:ext cx="808200" cy="5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4648320" y="2146320"/>
              <a:ext cx="807840" cy="5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7878600" y="1600200"/>
              <a:ext cx="808200" cy="54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7070760" y="1600200"/>
              <a:ext cx="807840" cy="546120"/>
            </a:xfrm>
            <a:prstGeom prst="rect">
              <a:avLst/>
            </a:prstGeom>
            <a:solidFill>
              <a:srgbClr val="edbf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6264360" y="1600200"/>
              <a:ext cx="806400" cy="546120"/>
            </a:xfrm>
            <a:prstGeom prst="rect">
              <a:avLst/>
            </a:prstGeom>
            <a:solidFill>
              <a:srgbClr val="edbf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5456160" y="1600200"/>
              <a:ext cx="808200" cy="546120"/>
            </a:xfrm>
            <a:prstGeom prst="rect">
              <a:avLst/>
            </a:prstGeom>
            <a:solidFill>
              <a:srgbClr val="edbf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4648320" y="1600200"/>
              <a:ext cx="807840" cy="546120"/>
            </a:xfrm>
            <a:prstGeom prst="rect">
              <a:avLst/>
            </a:prstGeom>
            <a:solidFill>
              <a:srgbClr val="edbf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648320" y="1600200"/>
              <a:ext cx="40384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4648320" y="2146320"/>
              <a:ext cx="4038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4648320" y="2693880"/>
              <a:ext cx="4038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648320" y="3240000"/>
              <a:ext cx="4038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648320" y="3786120"/>
              <a:ext cx="40384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648320" y="1600200"/>
              <a:ext cx="0" cy="218592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5456160" y="1600200"/>
              <a:ext cx="0" cy="218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6264360" y="1600200"/>
              <a:ext cx="0" cy="218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7070760" y="1600200"/>
              <a:ext cx="0" cy="218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878600" y="1600200"/>
              <a:ext cx="0" cy="218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8686800" y="1600200"/>
              <a:ext cx="0" cy="218592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9" name=""/>
          <p:cNvGrpSpPr/>
          <p:nvPr/>
        </p:nvGrpSpPr>
        <p:grpSpPr>
          <a:xfrm>
            <a:off x="4648320" y="3938760"/>
            <a:ext cx="4038480" cy="2187360"/>
            <a:chOff x="4648320" y="3938760"/>
            <a:chExt cx="4038480" cy="2187360"/>
          </a:xfrm>
        </p:grpSpPr>
        <p:sp>
          <p:nvSpPr>
            <p:cNvPr id="800" name=""/>
            <p:cNvSpPr/>
            <p:nvPr/>
          </p:nvSpPr>
          <p:spPr>
            <a:xfrm>
              <a:off x="7878600" y="5580000"/>
              <a:ext cx="808200" cy="546120"/>
            </a:xfrm>
            <a:prstGeom prst="rect">
              <a:avLst/>
            </a:prstGeom>
            <a:solidFill>
              <a:srgbClr val="edbf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7070760" y="5580000"/>
              <a:ext cx="80784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9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6264360" y="5580000"/>
              <a:ext cx="80640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8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5456160" y="5580000"/>
              <a:ext cx="808200" cy="54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7 ??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648320" y="5580000"/>
              <a:ext cx="80784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6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7878600" y="5032440"/>
              <a:ext cx="808200" cy="5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7070760" y="5032440"/>
              <a:ext cx="807840" cy="5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6264360" y="5032440"/>
              <a:ext cx="806400" cy="547560"/>
            </a:xfrm>
            <a:prstGeom prst="rect">
              <a:avLst/>
            </a:prstGeom>
            <a:solidFill>
              <a:srgbClr val="edbf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5456160" y="5032440"/>
              <a:ext cx="808200" cy="5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48320" y="5032440"/>
              <a:ext cx="807840" cy="5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7878600" y="4486320"/>
              <a:ext cx="80820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7070760" y="4486320"/>
              <a:ext cx="80784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6264360" y="4486320"/>
              <a:ext cx="80640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5456160" y="4486320"/>
              <a:ext cx="80820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48320" y="4486320"/>
              <a:ext cx="807840" cy="546120"/>
            </a:xfrm>
            <a:prstGeom prst="rect">
              <a:avLst/>
            </a:prstGeom>
            <a:solidFill>
              <a:srgbClr val="edbf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878600" y="3938760"/>
              <a:ext cx="808200" cy="547560"/>
            </a:xfrm>
            <a:prstGeom prst="rect">
              <a:avLst/>
            </a:prstGeom>
            <a:solidFill>
              <a:srgbClr val="edbf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7070760" y="3938760"/>
              <a:ext cx="807840" cy="5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6264360" y="3938760"/>
              <a:ext cx="806400" cy="5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5456160" y="3938760"/>
              <a:ext cx="808200" cy="5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648320" y="3938760"/>
              <a:ext cx="807840" cy="5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648320" y="3938760"/>
              <a:ext cx="40384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4648320" y="4486320"/>
              <a:ext cx="4038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648320" y="5032440"/>
              <a:ext cx="4038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648320" y="5580000"/>
              <a:ext cx="4038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4648320" y="6126120"/>
              <a:ext cx="40384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4648320" y="3938760"/>
              <a:ext cx="0" cy="218736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456160" y="3938760"/>
              <a:ext cx="0" cy="2187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264360" y="3938760"/>
              <a:ext cx="0" cy="2187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7070760" y="3938760"/>
              <a:ext cx="0" cy="2187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7878600" y="3938760"/>
              <a:ext cx="0" cy="2187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8686800" y="3938760"/>
              <a:ext cx="0" cy="218736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Functions and Libraries in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Functions are the primary units of modularity in C. There are predefined and user-defined functions. Predefined functions have been created previously and packed in the standard (ANSI) C libra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The most important predefined functions are standard input/output, mathematical, character, and etc. functions. Later we will discuss some standard input/output functions on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 Leak in the He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{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int *x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x = malloc(sizeof(int)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*x = 2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/* free(x); *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3" name=""/>
          <p:cNvGrpSpPr/>
          <p:nvPr/>
        </p:nvGrpSpPr>
        <p:grpSpPr>
          <a:xfrm>
            <a:off x="4648320" y="1600200"/>
            <a:ext cx="4038480" cy="2185920"/>
            <a:chOff x="4648320" y="1600200"/>
            <a:chExt cx="4038480" cy="2185920"/>
          </a:xfrm>
        </p:grpSpPr>
        <p:sp>
          <p:nvSpPr>
            <p:cNvPr id="834" name=""/>
            <p:cNvSpPr/>
            <p:nvPr/>
          </p:nvSpPr>
          <p:spPr>
            <a:xfrm>
              <a:off x="7878600" y="3240000"/>
              <a:ext cx="80820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7070760" y="3240000"/>
              <a:ext cx="80784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9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6264360" y="3240000"/>
              <a:ext cx="80640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8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56160" y="3240000"/>
              <a:ext cx="80820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7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4648320" y="3240000"/>
              <a:ext cx="80784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7878600" y="2693880"/>
              <a:ext cx="80820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7070760" y="2693880"/>
              <a:ext cx="80784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6264360" y="2693880"/>
              <a:ext cx="80640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456160" y="2693880"/>
              <a:ext cx="80820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4648320" y="2693880"/>
              <a:ext cx="80784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7878600" y="2146320"/>
              <a:ext cx="808200" cy="5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7070760" y="2146320"/>
              <a:ext cx="807840" cy="5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6264360" y="2146320"/>
              <a:ext cx="806400" cy="5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456160" y="2146320"/>
              <a:ext cx="808200" cy="5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4648320" y="2146320"/>
              <a:ext cx="807840" cy="5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7878600" y="1600200"/>
              <a:ext cx="808200" cy="54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7070760" y="1600200"/>
              <a:ext cx="807840" cy="546120"/>
            </a:xfrm>
            <a:prstGeom prst="rect">
              <a:avLst/>
            </a:prstGeom>
            <a:solidFill>
              <a:srgbClr val="edbf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6264360" y="1600200"/>
              <a:ext cx="806400" cy="546120"/>
            </a:xfrm>
            <a:prstGeom prst="rect">
              <a:avLst/>
            </a:prstGeom>
            <a:solidFill>
              <a:srgbClr val="edbf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456160" y="1600200"/>
              <a:ext cx="808200" cy="546120"/>
            </a:xfrm>
            <a:prstGeom prst="rect">
              <a:avLst/>
            </a:prstGeom>
            <a:solidFill>
              <a:srgbClr val="edbf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4648320" y="1600200"/>
              <a:ext cx="807840" cy="546120"/>
            </a:xfrm>
            <a:prstGeom prst="rect">
              <a:avLst/>
            </a:prstGeom>
            <a:solidFill>
              <a:srgbClr val="edbf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4648320" y="1600200"/>
              <a:ext cx="40384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4648320" y="2146320"/>
              <a:ext cx="4038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648320" y="2693880"/>
              <a:ext cx="4038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4648320" y="3240000"/>
              <a:ext cx="4038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4648320" y="3786120"/>
              <a:ext cx="40384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4648320" y="1600200"/>
              <a:ext cx="0" cy="218592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456160" y="1600200"/>
              <a:ext cx="0" cy="218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264360" y="1600200"/>
              <a:ext cx="0" cy="218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070760" y="1600200"/>
              <a:ext cx="0" cy="218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878600" y="1600200"/>
              <a:ext cx="0" cy="218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8686800" y="1600200"/>
              <a:ext cx="0" cy="218592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5" name=""/>
          <p:cNvGrpSpPr/>
          <p:nvPr/>
        </p:nvGrpSpPr>
        <p:grpSpPr>
          <a:xfrm>
            <a:off x="4648320" y="3938760"/>
            <a:ext cx="4038480" cy="2187360"/>
            <a:chOff x="4648320" y="3938760"/>
            <a:chExt cx="4038480" cy="2187360"/>
          </a:xfrm>
        </p:grpSpPr>
        <p:sp>
          <p:nvSpPr>
            <p:cNvPr id="866" name=""/>
            <p:cNvSpPr/>
            <p:nvPr/>
          </p:nvSpPr>
          <p:spPr>
            <a:xfrm>
              <a:off x="7878600" y="5580000"/>
              <a:ext cx="808200" cy="546120"/>
            </a:xfrm>
            <a:prstGeom prst="rect">
              <a:avLst/>
            </a:prstGeom>
            <a:solidFill>
              <a:srgbClr val="edbf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070760" y="5580000"/>
              <a:ext cx="80784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9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264360" y="5580000"/>
              <a:ext cx="80640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8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5456160" y="5580000"/>
              <a:ext cx="808200" cy="5461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7 integer value 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4648320" y="5580000"/>
              <a:ext cx="80784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6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7878600" y="5032440"/>
              <a:ext cx="808200" cy="5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7070760" y="5032440"/>
              <a:ext cx="807840" cy="5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6264360" y="5032440"/>
              <a:ext cx="806400" cy="547560"/>
            </a:xfrm>
            <a:prstGeom prst="rect">
              <a:avLst/>
            </a:prstGeom>
            <a:solidFill>
              <a:srgbClr val="edbf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456160" y="5032440"/>
              <a:ext cx="808200" cy="5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4648320" y="5032440"/>
              <a:ext cx="807840" cy="5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878600" y="4486320"/>
              <a:ext cx="80820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0760" y="4486320"/>
              <a:ext cx="80784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6264360" y="4486320"/>
              <a:ext cx="80640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5456160" y="4486320"/>
              <a:ext cx="80820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4648320" y="4486320"/>
              <a:ext cx="807840" cy="546120"/>
            </a:xfrm>
            <a:prstGeom prst="rect">
              <a:avLst/>
            </a:prstGeom>
            <a:solidFill>
              <a:srgbClr val="edbf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878600" y="3938760"/>
              <a:ext cx="808200" cy="547560"/>
            </a:xfrm>
            <a:prstGeom prst="rect">
              <a:avLst/>
            </a:prstGeom>
            <a:solidFill>
              <a:srgbClr val="edbf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070760" y="3938760"/>
              <a:ext cx="807840" cy="5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6264360" y="3938760"/>
              <a:ext cx="806400" cy="5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5456160" y="3938760"/>
              <a:ext cx="808200" cy="5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648320" y="3938760"/>
              <a:ext cx="807840" cy="5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4648320" y="3938760"/>
              <a:ext cx="40384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4648320" y="4486320"/>
              <a:ext cx="4038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648320" y="5032440"/>
              <a:ext cx="4038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4648320" y="5580000"/>
              <a:ext cx="4038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4648320" y="6126120"/>
              <a:ext cx="40384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4648320" y="3938760"/>
              <a:ext cx="0" cy="218736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5456160" y="3938760"/>
              <a:ext cx="0" cy="2187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6264360" y="3938760"/>
              <a:ext cx="0" cy="2187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7070760" y="3938760"/>
              <a:ext cx="0" cy="2187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7878600" y="3938760"/>
              <a:ext cx="0" cy="2187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8686800" y="3938760"/>
              <a:ext cx="0" cy="218736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p and Alias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int *x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{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x = malloc(sizeof(int)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*x = 2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free(x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9" name=""/>
          <p:cNvGrpSpPr/>
          <p:nvPr/>
        </p:nvGrpSpPr>
        <p:grpSpPr>
          <a:xfrm>
            <a:off x="4648320" y="1600200"/>
            <a:ext cx="4038480" cy="2187720"/>
            <a:chOff x="4648320" y="1600200"/>
            <a:chExt cx="4038480" cy="2187720"/>
          </a:xfrm>
        </p:grpSpPr>
        <p:sp>
          <p:nvSpPr>
            <p:cNvPr id="900" name=""/>
            <p:cNvSpPr/>
            <p:nvPr/>
          </p:nvSpPr>
          <p:spPr>
            <a:xfrm>
              <a:off x="7878600" y="3241800"/>
              <a:ext cx="80820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7070760" y="3241800"/>
              <a:ext cx="80784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9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6264360" y="3241800"/>
              <a:ext cx="80640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8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5456160" y="3241800"/>
              <a:ext cx="80820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7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4648320" y="3241800"/>
              <a:ext cx="80784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7878600" y="2695680"/>
              <a:ext cx="80820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7070760" y="2695680"/>
              <a:ext cx="80784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6264360" y="2695680"/>
              <a:ext cx="80640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5456160" y="2695680"/>
              <a:ext cx="80820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4648320" y="2695680"/>
              <a:ext cx="80784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7878600" y="2147760"/>
              <a:ext cx="80820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7070760" y="2147760"/>
              <a:ext cx="80784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6264360" y="2147760"/>
              <a:ext cx="80640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5456160" y="2147760"/>
              <a:ext cx="80820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4648320" y="2147760"/>
              <a:ext cx="80784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7878600" y="1600200"/>
              <a:ext cx="808200" cy="5475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 pointer  x to address 37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7070760" y="1600200"/>
              <a:ext cx="807840" cy="547560"/>
            </a:xfrm>
            <a:prstGeom prst="rect">
              <a:avLst/>
            </a:prstGeom>
            <a:solidFill>
              <a:srgbClr val="edbf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6264360" y="1600200"/>
              <a:ext cx="806400" cy="547560"/>
            </a:xfrm>
            <a:prstGeom prst="rect">
              <a:avLst/>
            </a:prstGeom>
            <a:solidFill>
              <a:srgbClr val="edbf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5456160" y="1600200"/>
              <a:ext cx="808200" cy="547560"/>
            </a:xfrm>
            <a:prstGeom prst="rect">
              <a:avLst/>
            </a:prstGeom>
            <a:solidFill>
              <a:srgbClr val="edbf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4648320" y="1600200"/>
              <a:ext cx="807840" cy="547560"/>
            </a:xfrm>
            <a:prstGeom prst="rect">
              <a:avLst/>
            </a:prstGeom>
            <a:solidFill>
              <a:srgbClr val="edbf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4648320" y="1600200"/>
              <a:ext cx="40384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4648320" y="2147760"/>
              <a:ext cx="4038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4648320" y="2695680"/>
              <a:ext cx="4038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4648320" y="3241800"/>
              <a:ext cx="4038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4648320" y="3787920"/>
              <a:ext cx="40384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4648320" y="1600200"/>
              <a:ext cx="0" cy="218772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5456160" y="1600200"/>
              <a:ext cx="0" cy="2187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6264360" y="1600200"/>
              <a:ext cx="0" cy="2187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7070760" y="1600200"/>
              <a:ext cx="0" cy="2187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7878600" y="1600200"/>
              <a:ext cx="0" cy="2187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8686800" y="1600200"/>
              <a:ext cx="0" cy="218772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1" name=""/>
          <p:cNvGrpSpPr/>
          <p:nvPr/>
        </p:nvGrpSpPr>
        <p:grpSpPr>
          <a:xfrm>
            <a:off x="4648320" y="3938760"/>
            <a:ext cx="4038480" cy="2187360"/>
            <a:chOff x="4648320" y="3938760"/>
            <a:chExt cx="4038480" cy="2187360"/>
          </a:xfrm>
        </p:grpSpPr>
        <p:sp>
          <p:nvSpPr>
            <p:cNvPr id="932" name=""/>
            <p:cNvSpPr/>
            <p:nvPr/>
          </p:nvSpPr>
          <p:spPr>
            <a:xfrm>
              <a:off x="7878600" y="5580000"/>
              <a:ext cx="808200" cy="546120"/>
            </a:xfrm>
            <a:prstGeom prst="rect">
              <a:avLst/>
            </a:prstGeom>
            <a:solidFill>
              <a:srgbClr val="edbf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7070760" y="5580000"/>
              <a:ext cx="80784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9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6264360" y="5580000"/>
              <a:ext cx="80640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8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5456160" y="5580000"/>
              <a:ext cx="808200" cy="54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7 ??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4648320" y="5580000"/>
              <a:ext cx="80784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6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7878600" y="5032440"/>
              <a:ext cx="808200" cy="5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7070760" y="5032440"/>
              <a:ext cx="807840" cy="5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6264360" y="5032440"/>
              <a:ext cx="806400" cy="547560"/>
            </a:xfrm>
            <a:prstGeom prst="rect">
              <a:avLst/>
            </a:prstGeom>
            <a:solidFill>
              <a:srgbClr val="edbf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5456160" y="5032440"/>
              <a:ext cx="808200" cy="5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4648320" y="5032440"/>
              <a:ext cx="807840" cy="5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7878600" y="4486320"/>
              <a:ext cx="80820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7070760" y="4486320"/>
              <a:ext cx="80784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6264360" y="4486320"/>
              <a:ext cx="80640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5456160" y="4486320"/>
              <a:ext cx="80820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4648320" y="4486320"/>
              <a:ext cx="807840" cy="546120"/>
            </a:xfrm>
            <a:prstGeom prst="rect">
              <a:avLst/>
            </a:prstGeom>
            <a:solidFill>
              <a:srgbClr val="edbf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7878600" y="3938760"/>
              <a:ext cx="808200" cy="547560"/>
            </a:xfrm>
            <a:prstGeom prst="rect">
              <a:avLst/>
            </a:prstGeom>
            <a:solidFill>
              <a:srgbClr val="edbf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7070760" y="3938760"/>
              <a:ext cx="807840" cy="5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6264360" y="3938760"/>
              <a:ext cx="806400" cy="5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5456160" y="3938760"/>
              <a:ext cx="808200" cy="5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4648320" y="3938760"/>
              <a:ext cx="807840" cy="5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4648320" y="3938760"/>
              <a:ext cx="40384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4648320" y="4486320"/>
              <a:ext cx="4038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4648320" y="5032440"/>
              <a:ext cx="4038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4648320" y="5580000"/>
              <a:ext cx="4038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4648320" y="6126120"/>
              <a:ext cx="40384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4648320" y="3938760"/>
              <a:ext cx="0" cy="218736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5456160" y="3938760"/>
              <a:ext cx="0" cy="2187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6264360" y="3938760"/>
              <a:ext cx="0" cy="2187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7070760" y="3938760"/>
              <a:ext cx="0" cy="2187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7878600" y="3938760"/>
              <a:ext cx="0" cy="2187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8686800" y="3938760"/>
              <a:ext cx="0" cy="218736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e Ex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#include &lt;stdio.h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#include &lt;malloc.h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void main(voi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{int *p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p=malloc(sizeof(int)); printf("%d \n", p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p=malloc(sizeof(int)); printf("%d \n", p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p=malloc(sizeof(int)); printf("%d \n", p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free(p); printf("%d \n", p);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ursion in Data Ty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#include &lt;stdio.h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#include &lt;malloc.h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void main(voi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{typedef struct {char symbol; struct foch * next;} foch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foch * endpoin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char ch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endpoint= NULL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ch=getchar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endpoint = malloc(sizeof(foch)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endpoint-&gt;symbol = ch; endpoint-&gt;next = NULL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printf("%c\n", endpoint-&gt;symbol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Beyond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6202440" cy="19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  <a:ea typeface="굴림"/>
              </a:rPr>
              <a:t>In 1983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ea typeface="굴림"/>
                <a:hlinkClick r:id="rId1"/>
              </a:rPr>
              <a:t>Dennis M. Ritchie 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  <a:ea typeface="굴림"/>
              </a:rPr>
              <a:t>became a laureate of th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  <a:ea typeface="굴림"/>
              </a:rPr>
              <a:t>ACM Turing Award “for their development of generi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  <a:ea typeface="굴림"/>
              </a:rPr>
              <a:t>operating systems theory and specifically for th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  <a:ea typeface="굴림"/>
              </a:rPr>
              <a:t>implementation of the UNIX operating system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9" name="" descr=""/>
          <p:cNvPicPr/>
          <p:nvPr/>
        </p:nvPicPr>
        <p:blipFill>
          <a:blip r:embed="rId2"/>
          <a:stretch/>
        </p:blipFill>
        <p:spPr>
          <a:xfrm>
            <a:off x="6867360" y="1628640"/>
            <a:ext cx="148752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  <a:ea typeface="굴림"/>
              </a:rPr>
              <a:t>unction Definitions and Ca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Every function 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  <a:ea typeface="굴림"/>
              </a:rPr>
              <a:t>must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 to be defined before it is used. (Standard functions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are defined in the standard libraries that come with every ANSI compiler.) Syntax of user-defined functions  is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9999"/>
                </a:solidFill>
                <a:latin typeface="Arial"/>
              </a:rPr>
              <a:t>return_type  function_name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NZ" sz="20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NZ" sz="2000" spc="-1" strike="noStrike">
                <a:solidFill>
                  <a:srgbClr val="009999"/>
                </a:solidFill>
                <a:latin typeface="Arial"/>
              </a:rPr>
              <a:t>typed_parameters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NZ" sz="2000" spc="-1" strike="noStrike">
                <a:solidFill>
                  <a:srgbClr val="333399"/>
                </a:solidFill>
                <a:latin typeface="Arial"/>
              </a:rPr>
              <a:t>)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NZ" sz="2000" spc="-1" strike="noStrike">
                <a:solidFill>
                  <a:srgbClr val="333399"/>
                </a:solidFill>
                <a:latin typeface="Arial"/>
              </a:rPr>
              <a:t>{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NZ" sz="2000" spc="-1" strike="noStrike">
                <a:solidFill>
                  <a:srgbClr val="009999"/>
                </a:solidFill>
                <a:latin typeface="Arial"/>
              </a:rPr>
              <a:t>statement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NZ" sz="2000" spc="-1" strike="noStrike">
                <a:solidFill>
                  <a:srgbClr val="333399"/>
                </a:solidFill>
                <a:latin typeface="Arial"/>
              </a:rPr>
              <a:t>} 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Functions can be used in expressions as function cal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9999"/>
                </a:solidFill>
                <a:latin typeface="Arial"/>
              </a:rPr>
              <a:t>function_name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NZ" sz="2000" spc="-1" strike="noStrike">
                <a:solidFill>
                  <a:srgbClr val="333399"/>
                </a:solidFill>
                <a:latin typeface="Arial"/>
              </a:rPr>
              <a:t>( </a:t>
            </a:r>
            <a:r>
              <a:rPr b="0" lang="en-NZ" sz="2000" spc="-1" strike="noStrike">
                <a:solidFill>
                  <a:srgbClr val="009999"/>
                </a:solidFill>
                <a:latin typeface="Arial"/>
              </a:rPr>
              <a:t>actual_parameters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NZ" sz="2000" spc="-1" strike="noStrike">
                <a:solidFill>
                  <a:srgbClr val="333399"/>
                </a:solidFill>
                <a:latin typeface="Arial"/>
              </a:rPr>
              <a:t>)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  <a:ea typeface="굴림"/>
              </a:rPr>
              <a:t>where 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types of “</a:t>
            </a:r>
            <a:r>
              <a:rPr b="0" lang="en-NZ" sz="2000" spc="-1" strike="noStrike">
                <a:solidFill>
                  <a:srgbClr val="009999"/>
                </a:solidFill>
                <a:latin typeface="Arial"/>
              </a:rPr>
              <a:t>acnual_parameters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” must match types of </a:t>
            </a:r>
            <a:r>
              <a:rPr b="0" lang="en-NZ" sz="2000" spc="-1" strike="noStrike">
                <a:solidFill>
                  <a:srgbClr val="009999"/>
                </a:solidFill>
                <a:latin typeface="Arial"/>
              </a:rPr>
              <a:t>typed_parameters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  <a:ea typeface="굴림"/>
              </a:rPr>
              <a:t>unction Definitions and Calls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 (cont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NZ" sz="2000" spc="-1" strike="noStrike">
                <a:solidFill>
                  <a:srgbClr val="009999"/>
                </a:solidFill>
                <a:latin typeface="Arial"/>
              </a:rPr>
              <a:t>return_type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 in the function definition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  <a:ea typeface="굴림"/>
              </a:rPr>
              <a:t> c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an be either a type, or a key word </a:t>
            </a:r>
            <a:r>
              <a:rPr b="0" lang="en-NZ" sz="2000" spc="-1" strike="noStrike">
                <a:solidFill>
                  <a:srgbClr val="333399"/>
                </a:solidFill>
                <a:latin typeface="Arial"/>
              </a:rPr>
              <a:t>void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. In the former case the </a:t>
            </a:r>
            <a:r>
              <a:rPr b="0" lang="en-NZ" sz="2000" spc="-1" strike="noStrike">
                <a:solidFill>
                  <a:srgbClr val="009999"/>
                </a:solidFill>
                <a:latin typeface="Arial"/>
              </a:rPr>
              <a:t>statement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 should contain 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  <a:ea typeface="굴림"/>
              </a:rPr>
              <a:t>operat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333399"/>
                </a:solidFill>
                <a:latin typeface="Arial"/>
              </a:rPr>
              <a:t>return </a:t>
            </a:r>
            <a:r>
              <a:rPr b="0" lang="en-NZ" sz="2000" spc="-1" strike="noStrike">
                <a:solidFill>
                  <a:srgbClr val="009999"/>
                </a:solidFill>
                <a:latin typeface="Arial"/>
              </a:rPr>
              <a:t>expression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000" spc="-1" strike="noStrike">
                <a:solidFill>
                  <a:srgbClr val="333399"/>
                </a:solidFill>
                <a:latin typeface="Arial"/>
              </a:rPr>
              <a:t>;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where the </a:t>
            </a:r>
            <a:r>
              <a:rPr b="0" lang="en-NZ" sz="2000" spc="-1" strike="noStrike">
                <a:solidFill>
                  <a:srgbClr val="009999"/>
                </a:solidFill>
                <a:latin typeface="Arial"/>
              </a:rPr>
              <a:t>expression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 has the same type as the </a:t>
            </a:r>
            <a:r>
              <a:rPr b="0" lang="en-NZ" sz="2000" spc="-1" strike="noStrike">
                <a:solidFill>
                  <a:srgbClr val="009999"/>
                </a:solidFill>
                <a:latin typeface="Arial"/>
              </a:rPr>
              <a:t>return_type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NZ" sz="2000" spc="-1" strike="noStrike">
                <a:solidFill>
                  <a:srgbClr val="009999"/>
                </a:solidFill>
                <a:latin typeface="Arial"/>
              </a:rPr>
              <a:t>typed_parameters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 is a key word  </a:t>
            </a:r>
            <a:r>
              <a:rPr b="0" lang="en-NZ" sz="2000" spc="-1" strike="noStrike">
                <a:solidFill>
                  <a:srgbClr val="333399"/>
                </a:solidFill>
                <a:latin typeface="Arial"/>
              </a:rPr>
              <a:t>void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 or a list of typed identifiers (formal parameter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457200" y="3938760"/>
          <a:ext cx="8229240" cy="2187000"/>
        </p:xfrm>
        <a:graphic>
          <a:graphicData uri="http://schemas.openxmlformats.org/drawingml/2006/table">
            <a:tbl>
              <a:tblPr/>
              <a:tblGrid>
                <a:gridCol w="3099600"/>
                <a:gridCol w="5129640"/>
              </a:tblGrid>
              <a:tr h="50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function defini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function ca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굴림"/>
                        </a:rPr>
                        <a:t>double cube (double x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굴림"/>
                        </a:rPr>
                        <a:t>{ return x * x * x; }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굴림"/>
                        </a:rPr>
                        <a:t>double x, y </a:t>
                      </a: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굴림"/>
                        </a:rPr>
                        <a:t>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굴림"/>
                        </a:rPr>
                        <a:t>scanf (“%f”, &amp;x) </a:t>
                      </a: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굴림"/>
                        </a:rPr>
                        <a:t>;</a:t>
                      </a: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굴림"/>
                        </a:rPr>
                        <a:t>  y = cube (x) </a:t>
                      </a: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굴림"/>
                        </a:rPr>
                        <a:t>;</a:t>
                      </a: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굴림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굴림"/>
                        </a:rPr>
                        <a:t>printf (“%f \n %f \n” </a:t>
                      </a: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굴림"/>
                        </a:rPr>
                        <a:t>,</a:t>
                      </a: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굴림"/>
                        </a:rPr>
                        <a:t> y </a:t>
                      </a: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굴림"/>
                        </a:rPr>
                        <a:t>,</a:t>
                      </a: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굴림"/>
                        </a:rPr>
                        <a:t> cube(2.1*(x+7)) </a:t>
                      </a: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굴림"/>
                        </a:rPr>
                        <a:t>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Argument Pa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The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  <a:ea typeface="굴림"/>
              </a:rPr>
              <a:t>typed_parameter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are local (internal) variables in the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  <a:ea typeface="굴림"/>
              </a:rPr>
              <a:t>statem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(function body). Their values can be set from the outside via calls and can not be modified from the outside in any other wa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All parameters in C are passed by value. This means that when a function is called, copies of the actual parameter values become the values of correspondent formal parameters. It protects actual parameters from side effects and casual chang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C provides opportunity to use arrays of non-specified size among formal parameters of functions, since C handle arrays as pointers (to the front end of the allocated memory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Argument Passing (cont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18440" cy="15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Pointers provides opportunity (in C) to pass actual parameters by thei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names, i.e., to pass back modified values of formal parameters, ex.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굴림"/>
              </a:rPr>
              <a:t>void swap ( float * x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굴림"/>
              </a:rPr>
              <a:t>,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굴림"/>
              </a:rPr>
              <a:t> float * 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굴림"/>
              </a:rPr>
              <a:t>{ float temp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굴림"/>
              </a:rPr>
              <a:t>;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굴림"/>
              </a:rPr>
              <a:t>  temp = *x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굴림"/>
              </a:rPr>
              <a:t>;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굴림"/>
              </a:rPr>
              <a:t>*x = *y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굴림"/>
              </a:rPr>
              <a:t>;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굴림"/>
              </a:rPr>
              <a:t>*y = temp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굴림"/>
              </a:rPr>
              <a:t>;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굴림"/>
              </a:rPr>
              <a:t> }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16000" y="45100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547640" y="4365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763640" y="45100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900000" y="472608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116000" y="508644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863640" y="4352760"/>
            <a:ext cx="1092240" cy="916200"/>
          </a:xfrm>
          <a:custGeom>
            <a:avLst/>
            <a:gdLst/>
            <a:ahLst/>
            <a:rect l="l" t="t" r="r" b="b"/>
            <a:pathLst>
              <a:path w="688" h="577">
                <a:moveTo>
                  <a:pt x="28" y="232"/>
                </a:moveTo>
                <a:cubicBezTo>
                  <a:pt x="35" y="210"/>
                  <a:pt x="45" y="154"/>
                  <a:pt x="68" y="136"/>
                </a:cubicBezTo>
                <a:cubicBezTo>
                  <a:pt x="75" y="131"/>
                  <a:pt x="84" y="132"/>
                  <a:pt x="92" y="128"/>
                </a:cubicBezTo>
                <a:cubicBezTo>
                  <a:pt x="141" y="104"/>
                  <a:pt x="191" y="85"/>
                  <a:pt x="244" y="72"/>
                </a:cubicBezTo>
                <a:cubicBezTo>
                  <a:pt x="283" y="46"/>
                  <a:pt x="320" y="15"/>
                  <a:pt x="364" y="0"/>
                </a:cubicBezTo>
                <a:cubicBezTo>
                  <a:pt x="385" y="3"/>
                  <a:pt x="408" y="0"/>
                  <a:pt x="428" y="8"/>
                </a:cubicBezTo>
                <a:cubicBezTo>
                  <a:pt x="447" y="16"/>
                  <a:pt x="451" y="44"/>
                  <a:pt x="468" y="56"/>
                </a:cubicBezTo>
                <a:cubicBezTo>
                  <a:pt x="475" y="61"/>
                  <a:pt x="519" y="71"/>
                  <a:pt x="524" y="72"/>
                </a:cubicBezTo>
                <a:cubicBezTo>
                  <a:pt x="540" y="77"/>
                  <a:pt x="558" y="79"/>
                  <a:pt x="572" y="88"/>
                </a:cubicBezTo>
                <a:cubicBezTo>
                  <a:pt x="580" y="93"/>
                  <a:pt x="587" y="100"/>
                  <a:pt x="596" y="104"/>
                </a:cubicBezTo>
                <a:cubicBezTo>
                  <a:pt x="611" y="111"/>
                  <a:pt x="644" y="120"/>
                  <a:pt x="644" y="120"/>
                </a:cubicBezTo>
                <a:cubicBezTo>
                  <a:pt x="685" y="181"/>
                  <a:pt x="684" y="161"/>
                  <a:pt x="660" y="232"/>
                </a:cubicBezTo>
                <a:cubicBezTo>
                  <a:pt x="668" y="298"/>
                  <a:pt x="688" y="348"/>
                  <a:pt x="668" y="416"/>
                </a:cubicBezTo>
                <a:cubicBezTo>
                  <a:pt x="666" y="423"/>
                  <a:pt x="583" y="460"/>
                  <a:pt x="572" y="464"/>
                </a:cubicBezTo>
                <a:cubicBezTo>
                  <a:pt x="567" y="472"/>
                  <a:pt x="563" y="482"/>
                  <a:pt x="556" y="488"/>
                </a:cubicBezTo>
                <a:cubicBezTo>
                  <a:pt x="542" y="501"/>
                  <a:pt x="508" y="520"/>
                  <a:pt x="508" y="520"/>
                </a:cubicBezTo>
                <a:cubicBezTo>
                  <a:pt x="488" y="550"/>
                  <a:pt x="454" y="565"/>
                  <a:pt x="420" y="576"/>
                </a:cubicBezTo>
                <a:cubicBezTo>
                  <a:pt x="338" y="549"/>
                  <a:pt x="254" y="577"/>
                  <a:pt x="180" y="528"/>
                </a:cubicBezTo>
                <a:cubicBezTo>
                  <a:pt x="165" y="483"/>
                  <a:pt x="139" y="442"/>
                  <a:pt x="100" y="416"/>
                </a:cubicBezTo>
                <a:cubicBezTo>
                  <a:pt x="95" y="408"/>
                  <a:pt x="91" y="398"/>
                  <a:pt x="84" y="392"/>
                </a:cubicBezTo>
                <a:cubicBezTo>
                  <a:pt x="70" y="379"/>
                  <a:pt x="36" y="360"/>
                  <a:pt x="36" y="360"/>
                </a:cubicBezTo>
                <a:cubicBezTo>
                  <a:pt x="33" y="352"/>
                  <a:pt x="33" y="343"/>
                  <a:pt x="28" y="336"/>
                </a:cubicBezTo>
                <a:cubicBezTo>
                  <a:pt x="22" y="327"/>
                  <a:pt x="6" y="323"/>
                  <a:pt x="4" y="312"/>
                </a:cubicBezTo>
                <a:cubicBezTo>
                  <a:pt x="0" y="291"/>
                  <a:pt x="6" y="269"/>
                  <a:pt x="12" y="248"/>
                </a:cubicBezTo>
                <a:cubicBezTo>
                  <a:pt x="29" y="184"/>
                  <a:pt x="28" y="225"/>
                  <a:pt x="28" y="232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1260000" y="3933720"/>
            <a:ext cx="142920" cy="935280"/>
          </a:xfrm>
          <a:prstGeom prst="line">
            <a:avLst/>
          </a:prstGeom>
          <a:ln w="284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1618920" y="3933720"/>
            <a:ext cx="431640" cy="93528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 flipV="1">
            <a:off x="1332000" y="4941720"/>
            <a:ext cx="28728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H="1" flipV="1">
            <a:off x="1619280" y="4941720"/>
            <a:ext cx="50472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93640" y="5673600"/>
            <a:ext cx="1919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variables A and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with values a and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96720" y="361620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pointers &amp;A and &amp;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32000" y="3573360"/>
            <a:ext cx="0" cy="3024360"/>
          </a:xfrm>
          <a:prstGeom prst="line">
            <a:avLst/>
          </a:prstGeom>
          <a:ln w="284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400560" y="3608280"/>
            <a:ext cx="183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324600" y="3573360"/>
            <a:ext cx="19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굴림"/>
              </a:rPr>
              <a:t>swap (    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굴림"/>
              </a:rPr>
              <a:t>,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굴림"/>
              </a:rPr>
              <a:t>    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140360" y="3789360"/>
            <a:ext cx="36036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572000" y="3789360"/>
            <a:ext cx="360360" cy="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3276720" y="4149720"/>
          <a:ext cx="2663640" cy="2448000"/>
        </p:xfrm>
        <a:graphic>
          <a:graphicData uri="http://schemas.openxmlformats.org/drawingml/2006/table">
            <a:tbl>
              <a:tblPr/>
              <a:tblGrid>
                <a:gridCol w="1008000"/>
                <a:gridCol w="934920"/>
                <a:gridCol w="720720"/>
              </a:tblGrid>
              <a:tr h="40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x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 at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y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 at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tem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 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A(a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B(b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 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A(a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B(b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 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A(b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B(b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 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A(b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B(a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 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A(b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B(a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" name=""/>
          <p:cNvSpPr/>
          <p:nvPr/>
        </p:nvSpPr>
        <p:spPr>
          <a:xfrm>
            <a:off x="3348000" y="4724280"/>
            <a:ext cx="36036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284720" y="4724280"/>
            <a:ext cx="360360" cy="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348000" y="5157720"/>
            <a:ext cx="36036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348000" y="5589720"/>
            <a:ext cx="36036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348000" y="6021360"/>
            <a:ext cx="36036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348000" y="6381720"/>
            <a:ext cx="36036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284720" y="5157720"/>
            <a:ext cx="360360" cy="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284720" y="5589720"/>
            <a:ext cx="360360" cy="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356000" y="5950080"/>
            <a:ext cx="360360" cy="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356000" y="6381720"/>
            <a:ext cx="360360" cy="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156360" y="3573360"/>
            <a:ext cx="0" cy="3024360"/>
          </a:xfrm>
          <a:prstGeom prst="line">
            <a:avLst/>
          </a:prstGeom>
          <a:ln w="284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134120" y="45385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566120" y="439416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781760" y="45385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918480" y="47545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134120" y="511488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81760" y="4381560"/>
            <a:ext cx="1092240" cy="915840"/>
          </a:xfrm>
          <a:custGeom>
            <a:avLst/>
            <a:gdLst/>
            <a:ahLst/>
            <a:rect l="l" t="t" r="r" b="b"/>
            <a:pathLst>
              <a:path w="688" h="577">
                <a:moveTo>
                  <a:pt x="28" y="232"/>
                </a:moveTo>
                <a:cubicBezTo>
                  <a:pt x="35" y="210"/>
                  <a:pt x="45" y="154"/>
                  <a:pt x="68" y="136"/>
                </a:cubicBezTo>
                <a:cubicBezTo>
                  <a:pt x="75" y="131"/>
                  <a:pt x="84" y="132"/>
                  <a:pt x="92" y="128"/>
                </a:cubicBezTo>
                <a:cubicBezTo>
                  <a:pt x="141" y="104"/>
                  <a:pt x="191" y="85"/>
                  <a:pt x="244" y="72"/>
                </a:cubicBezTo>
                <a:cubicBezTo>
                  <a:pt x="283" y="46"/>
                  <a:pt x="320" y="15"/>
                  <a:pt x="364" y="0"/>
                </a:cubicBezTo>
                <a:cubicBezTo>
                  <a:pt x="385" y="3"/>
                  <a:pt x="408" y="0"/>
                  <a:pt x="428" y="8"/>
                </a:cubicBezTo>
                <a:cubicBezTo>
                  <a:pt x="447" y="16"/>
                  <a:pt x="451" y="44"/>
                  <a:pt x="468" y="56"/>
                </a:cubicBezTo>
                <a:cubicBezTo>
                  <a:pt x="475" y="61"/>
                  <a:pt x="519" y="71"/>
                  <a:pt x="524" y="72"/>
                </a:cubicBezTo>
                <a:cubicBezTo>
                  <a:pt x="540" y="77"/>
                  <a:pt x="558" y="79"/>
                  <a:pt x="572" y="88"/>
                </a:cubicBezTo>
                <a:cubicBezTo>
                  <a:pt x="580" y="93"/>
                  <a:pt x="587" y="100"/>
                  <a:pt x="596" y="104"/>
                </a:cubicBezTo>
                <a:cubicBezTo>
                  <a:pt x="611" y="111"/>
                  <a:pt x="644" y="120"/>
                  <a:pt x="644" y="120"/>
                </a:cubicBezTo>
                <a:cubicBezTo>
                  <a:pt x="685" y="181"/>
                  <a:pt x="684" y="161"/>
                  <a:pt x="660" y="232"/>
                </a:cubicBezTo>
                <a:cubicBezTo>
                  <a:pt x="668" y="298"/>
                  <a:pt x="688" y="348"/>
                  <a:pt x="668" y="416"/>
                </a:cubicBezTo>
                <a:cubicBezTo>
                  <a:pt x="666" y="423"/>
                  <a:pt x="583" y="460"/>
                  <a:pt x="572" y="464"/>
                </a:cubicBezTo>
                <a:cubicBezTo>
                  <a:pt x="567" y="472"/>
                  <a:pt x="563" y="482"/>
                  <a:pt x="556" y="488"/>
                </a:cubicBezTo>
                <a:cubicBezTo>
                  <a:pt x="542" y="501"/>
                  <a:pt x="508" y="520"/>
                  <a:pt x="508" y="520"/>
                </a:cubicBezTo>
                <a:cubicBezTo>
                  <a:pt x="488" y="550"/>
                  <a:pt x="454" y="565"/>
                  <a:pt x="420" y="576"/>
                </a:cubicBezTo>
                <a:cubicBezTo>
                  <a:pt x="338" y="549"/>
                  <a:pt x="254" y="577"/>
                  <a:pt x="180" y="528"/>
                </a:cubicBezTo>
                <a:cubicBezTo>
                  <a:pt x="165" y="483"/>
                  <a:pt x="139" y="442"/>
                  <a:pt x="100" y="416"/>
                </a:cubicBezTo>
                <a:cubicBezTo>
                  <a:pt x="95" y="408"/>
                  <a:pt x="91" y="398"/>
                  <a:pt x="84" y="392"/>
                </a:cubicBezTo>
                <a:cubicBezTo>
                  <a:pt x="70" y="379"/>
                  <a:pt x="36" y="360"/>
                  <a:pt x="36" y="360"/>
                </a:cubicBezTo>
                <a:cubicBezTo>
                  <a:pt x="33" y="352"/>
                  <a:pt x="33" y="343"/>
                  <a:pt x="28" y="336"/>
                </a:cubicBezTo>
                <a:cubicBezTo>
                  <a:pt x="22" y="327"/>
                  <a:pt x="6" y="323"/>
                  <a:pt x="4" y="312"/>
                </a:cubicBezTo>
                <a:cubicBezTo>
                  <a:pt x="0" y="291"/>
                  <a:pt x="6" y="269"/>
                  <a:pt x="12" y="248"/>
                </a:cubicBezTo>
                <a:cubicBezTo>
                  <a:pt x="29" y="184"/>
                  <a:pt x="28" y="225"/>
                  <a:pt x="28" y="232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7278840" y="3962520"/>
            <a:ext cx="142560" cy="934920"/>
          </a:xfrm>
          <a:prstGeom prst="line">
            <a:avLst/>
          </a:prstGeom>
          <a:ln w="284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7637400" y="3962520"/>
            <a:ext cx="432000" cy="93492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 flipV="1">
            <a:off x="7350120" y="4970160"/>
            <a:ext cx="287280" cy="71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 flipV="1">
            <a:off x="7637400" y="4970160"/>
            <a:ext cx="504720" cy="71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611760" y="5702400"/>
            <a:ext cx="1919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variables A and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with values b and 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414840" y="364500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pointers &amp;A and &amp;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Recursive Functions: Implementation Issue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(imperative approac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821844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Defini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int sum( int n) { if (n == 0) {return 0 ;} else {return (n + sum(--n));};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Possible execution of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굴림"/>
              </a:rPr>
              <a:t>sum(2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468360" y="2349360"/>
          <a:ext cx="8218440" cy="4507200"/>
        </p:xfrm>
        <a:graphic>
          <a:graphicData uri="http://schemas.openxmlformats.org/drawingml/2006/table">
            <a:tbl>
              <a:tblPr/>
              <a:tblGrid>
                <a:gridCol w="2016000"/>
                <a:gridCol w="2094120"/>
                <a:gridCol w="2054160"/>
                <a:gridCol w="2054160"/>
              </a:tblGrid>
              <a:tr h="35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굴림"/>
                        </a:rPr>
                        <a:t>eval: sum(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eval: </a:t>
                      </a: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  <a:ea typeface="굴림"/>
                        </a:rPr>
                        <a:t>sum(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n</a:t>
                      </a:r>
                      <a:r>
                        <a:rPr b="1" lang="en-US" sz="16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stores </a:t>
                      </a: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  <a:ea typeface="굴림"/>
                        </a:rPr>
                        <a:t>2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 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eval: </a:t>
                      </a: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  <a:ea typeface="굴림"/>
                        </a:rPr>
                        <a:t>2 + sun(1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eval: </a:t>
                      </a: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  <a:ea typeface="굴림"/>
                        </a:rPr>
                        <a:t>sum(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n</a:t>
                      </a:r>
                      <a:r>
                        <a:rPr b="1" lang="en-US" sz="16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stores </a:t>
                      </a: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  <a:ea typeface="굴림"/>
                        </a:rPr>
                        <a:t>1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eval: </a:t>
                      </a: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  <a:ea typeface="굴림"/>
                        </a:rPr>
                        <a:t>2 + sun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n</a:t>
                      </a:r>
                      <a:r>
                        <a:rPr b="1" lang="en-US" sz="16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2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stores </a:t>
                      </a: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  <a:ea typeface="굴림"/>
                        </a:rPr>
                        <a:t>1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eval: </a:t>
                      </a: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  <a:ea typeface="굴림"/>
                        </a:rPr>
                        <a:t>1 + sun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eval: </a:t>
                      </a: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  <a:ea typeface="굴림"/>
                        </a:rPr>
                        <a:t>sum(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n</a:t>
                      </a:r>
                      <a:r>
                        <a:rPr b="1" lang="en-US" sz="16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stores </a:t>
                      </a: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  <a:ea typeface="굴림"/>
                        </a:rPr>
                        <a:t>1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eval: </a:t>
                      </a: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  <a:ea typeface="굴림"/>
                        </a:rPr>
                        <a:t>2 + sun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n</a:t>
                      </a:r>
                      <a:r>
                        <a:rPr b="1" lang="en-US" sz="16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2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stores </a:t>
                      </a: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  <a:ea typeface="굴림"/>
                        </a:rPr>
                        <a:t>0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eval: </a:t>
                      </a: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  <a:ea typeface="굴림"/>
                        </a:rPr>
                        <a:t>1 + sun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n</a:t>
                      </a:r>
                      <a:r>
                        <a:rPr b="1" lang="en-US" sz="16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3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stores </a:t>
                      </a: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  <a:ea typeface="굴림"/>
                        </a:rPr>
                        <a:t>0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  <a:ea typeface="굴림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76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eval: </a:t>
                      </a: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  <a:ea typeface="굴림"/>
                        </a:rPr>
                        <a:t>sum(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n</a:t>
                      </a:r>
                      <a:r>
                        <a:rPr b="1" lang="en-US" sz="16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stores </a:t>
                      </a: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  <a:ea typeface="굴림"/>
                        </a:rPr>
                        <a:t>1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eval: </a:t>
                      </a: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  <a:ea typeface="굴림"/>
                        </a:rPr>
                        <a:t>2 + sum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n</a:t>
                      </a:r>
                      <a:r>
                        <a:rPr b="1" lang="en-US" sz="16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2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stores </a:t>
                      </a: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  <a:ea typeface="굴림"/>
                        </a:rPr>
                        <a:t>0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eval: </a:t>
                      </a: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  <a:ea typeface="굴림"/>
                        </a:rPr>
                        <a:t>1 + 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eval: </a:t>
                      </a: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  <a:ea typeface="굴림"/>
                        </a:rPr>
                        <a:t>sum(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n</a:t>
                      </a:r>
                      <a:r>
                        <a:rPr b="1" lang="en-US" sz="16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stores </a:t>
                      </a: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  <a:ea typeface="굴림"/>
                        </a:rPr>
                        <a:t>1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eval: </a:t>
                      </a: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  <a:ea typeface="굴림"/>
                        </a:rPr>
                        <a:t>2 +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  <a:ea typeface="굴림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8" name=""/>
          <p:cNvSpPr/>
          <p:nvPr/>
        </p:nvSpPr>
        <p:spPr>
          <a:xfrm>
            <a:off x="2484360" y="2349360"/>
            <a:ext cx="0" cy="358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484360" y="270828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572000" y="350028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588000" y="422100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588000" y="501336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572000" y="573408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484360" y="6524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484360" y="6526080"/>
            <a:ext cx="0" cy="358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572000" y="270828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659640" y="3429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675640" y="4221000"/>
            <a:ext cx="0" cy="792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659640" y="4941720"/>
            <a:ext cx="0" cy="792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572000" y="573264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908000" y="249228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421080" y="249228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500720" y="314172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651640" y="314172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588000" y="3933720"/>
            <a:ext cx="115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740720" y="393372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5651280" y="4797360"/>
            <a:ext cx="10810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3564000" y="5589720"/>
            <a:ext cx="180000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684000" y="6308640"/>
            <a:ext cx="259236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Comments on Program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The first function to be executed in C program is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굴림"/>
              </a:rPr>
              <a:t>main (…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Function definitions can not be nested in C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Every function must be defined or declared in program before its call. (To use “standard” functions use preprocessor commands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굴림"/>
              </a:rPr>
              <a:t>#include&lt;stdio.h&gt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굴림"/>
              </a:rPr>
              <a:t>#include&lt;math.h&gt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, and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굴림"/>
              </a:rPr>
              <a:t>#include&lt;ctype.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&gt;, etc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Function prototype is a function declaration that comprises  the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  <a:ea typeface="굴림"/>
              </a:rPr>
              <a:t>return_typ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, the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  <a:ea typeface="굴림"/>
              </a:rPr>
              <a:t>function_nam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, and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  <a:ea typeface="굴림"/>
              </a:rPr>
              <a:t>typed_parameter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(but does not provide function body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If  function prototype is placed at the beginning of the program, then definition of this function can be place at the end of  the progra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7T20:54:53Z</dcterms:created>
  <dc:creator>Nicolai Shilov</dc:creator>
  <dc:description/>
  <dc:language>en-US</dc:language>
  <cp:lastModifiedBy>admin</cp:lastModifiedBy>
  <dcterms:modified xsi:type="dcterms:W3CDTF">2008-02-21T10:34:07Z</dcterms:modified>
  <cp:revision>605</cp:revision>
  <dc:subject/>
  <dc:title>C  OPERATORS</dc:title>
</cp:coreProperties>
</file>