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865-39A6-4EC2-AA26-A0F788F1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FDA-6BF5-407B-8479-F25B40AC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DDB-3014-46FE-BAEB-7F8982A6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F1D-4B21-4718-8BC8-2DACC82C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02E-EB81-46E3-8C8A-B8F12AA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6A6-6AD1-4000-A2EC-6A5A7581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555-1E78-4268-8CEF-EBBD2208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271-6576-402A-BABB-6812B75E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7FD-3777-4C3A-B5FB-8AB2D504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559-A974-4A82-80BD-AD7052C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559-A4DD-417D-9C6F-306EE92B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500-ADE0-4CBB-8E4A-1EC2AB1A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DBE-7A14-4BAC-BB78-131AB2C4F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venez.com/" TargetMode="External"/><Relationship Id="rId2" Type="http://schemas.openxmlformats.org/officeDocument/2006/relationships/hyperlink" Target="http://www.levenez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теории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6: Элементы те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ов программир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синтаксиса, семантики и прагматики; основы формального синтакс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GRAM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23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“body” is constructed from “assignments” and “guards” by m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 nested structured control constr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_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_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equenc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_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_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nondeterministic cho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_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nondeterministic loo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ample of a body of program:             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 x:=0 ; ( L(x:=x+1) C L(x:=x-1) 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6535440" y="35528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926120" y="35528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6983640" y="3033720"/>
            <a:ext cx="576000" cy="2519280"/>
          </a:xfrm>
          <a:custGeom>
            <a:avLst/>
            <a:gdLst>
              <a:gd name="textAreaLeft" fmla="*/ 367920 w 576000"/>
              <a:gd name="textAreaRight" fmla="*/ 576000 w 576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7760" y="400536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loop                 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506560" y="342900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1640" y="342900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092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4880" y="443700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6659280" y="2852280"/>
            <a:ext cx="576360" cy="3744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05"/>
                </a:lnTo>
                <a:cubicBezTo>
                  <a:pt x="10800" y="10005"/>
                  <a:pt x="5400" y="10905"/>
                  <a:pt x="0" y="10905"/>
                </a:cubicBezTo>
                <a:cubicBezTo>
                  <a:pt x="5400" y="10905"/>
                  <a:pt x="10800" y="11805"/>
                  <a:pt x="10800" y="127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5600" y="489276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040" y="4255920"/>
            <a:ext cx="33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o avoid extra parenthe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rouping to the left is 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sequencing and choi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19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:=0 ; x:=1 ; x:=2 ; x:=3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stays for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((x:=0 ; x:=1) ; x:=2) ; x:=3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:=0 C x:=1 C x:=2 C x:=3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stays for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((x:=0 C x:=1) C x:=2) C x:=3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ignments and guards use typed expr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ry decimal integer is an expressions of the typ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ry declared variable is an expression of the type as declar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very expressions “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 and “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 of typ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expressions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 and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have typ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lso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very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 and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, for every expressions “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 and “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 of types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nd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 respectively, the expression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APL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exp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has 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every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and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, for every expressions “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, “exp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, and “exp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“ of types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array of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, and “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 respectively, the expression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UPD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exp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exp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has typ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array of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ype</a:t>
            </a:r>
            <a:r>
              <a:rPr b="0" lang="en-N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s have the following  form:  variabl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ression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“variable” and the “expression” are of the same type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ular, assignments to arrays are admissibl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assignments is value update, ex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149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385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160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840" y="4149720"/>
            <a:ext cx="24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• • •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NZ" sz="1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3     </a:t>
            </a:r>
            <a:r>
              <a:rPr b="0" lang="en-NZ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•  •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04640" y="46054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x     y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149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9928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41608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50120" y="4149720"/>
            <a:ext cx="23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• • •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0" lang="en-NZ" sz="1600" spc="-1" strike="noStrike">
                <a:solidFill>
                  <a:srgbClr val="009999"/>
                </a:solidFill>
                <a:latin typeface="Arial"/>
              </a:rPr>
              <a:t>20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3     </a:t>
            </a:r>
            <a:r>
              <a:rPr b="0" lang="en-NZ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•  •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65360" y="46054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x     y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4005360"/>
            <a:ext cx="976320" cy="792000"/>
          </a:xfrm>
          <a:prstGeom prst="rightArrow">
            <a:avLst>
              <a:gd name="adj1" fmla="val 50000"/>
              <a:gd name="adj2" fmla="val 3081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440" y="422100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y: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 have the following form: 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ion expressio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expressions are of typ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,  the “relation” is any of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rithmetic relations “_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_”, “_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≠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_”, “_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≤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_”, “_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≥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_”, “_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_”, and “_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_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In every particular moment of program execution, a value of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articular condition can be either true (condition holds) or fa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condition fails), ex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013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5892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385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45925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840" y="4581360"/>
            <a:ext cx="24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• • •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     2     3     </a:t>
            </a:r>
            <a:r>
              <a:rPr b="0" lang="en-NZ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•  •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5037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x     y 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82440" y="4456080"/>
            <a:ext cx="42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dition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+y = z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hold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ile another condition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+z = 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0066"/>
                </a:solidFill>
                <a:latin typeface="Arial"/>
              </a:rPr>
              <a:t>fail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16000" y="4193640"/>
            <a:ext cx="11509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66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406520"/>
            <a:ext cx="819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s have the form condi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emantics of a guard depend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 value of the guard’s condition. It is very similar to exception handl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the condition of the guard fails, then it rises an exception that has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 appropriate handler, ex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2148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6464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3856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22596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0840" y="3214800"/>
            <a:ext cx="24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• • •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NZ" sz="1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3     </a:t>
            </a:r>
            <a:r>
              <a:rPr b="0" lang="en-NZ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•  •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04640" y="36702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x    y 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2148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6464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9280" y="32148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32259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1200" y="3214800"/>
            <a:ext cx="23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• • •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0" lang="en-NZ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3     </a:t>
            </a:r>
            <a:r>
              <a:rPr b="0" lang="en-NZ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•  •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65000" y="36702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x    y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070080"/>
            <a:ext cx="976320" cy="792360"/>
          </a:xfrm>
          <a:prstGeom prst="rightArrow">
            <a:avLst>
              <a:gd name="adj1" fmla="val 50000"/>
              <a:gd name="adj2" fmla="val 308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1440" y="32860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y=2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58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3856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4160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0840" y="4149720"/>
            <a:ext cx="24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• • • 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0" lang="en-NZ" sz="1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    3     </a:t>
            </a:r>
            <a:r>
              <a:rPr b="0" lang="en-NZ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 •  •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04640" y="460548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x    y    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4005360"/>
            <a:ext cx="976320" cy="792000"/>
          </a:xfrm>
          <a:prstGeom prst="rightArrow">
            <a:avLst>
              <a:gd name="adj1" fmla="val 50000"/>
              <a:gd name="adj2" fmla="val 3081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440" y="4221000"/>
            <a:ext cx="7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y=20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6120" y="4935600"/>
            <a:ext cx="833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 the later case C construct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f (y==20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statement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passes control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ppropriate next statement. In contrast, MILa(N) guard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y=20?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b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urther computations in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52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deterministic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Deterministic + Non-Probabilis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equencing has quite standard semantics, while nondeterminis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oice and nondeterministic loop deserve special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understanding choice let’s consider a typical dialog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3257640"/>
            <a:ext cx="3745080" cy="1008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NZ" sz="2000" spc="-1" strike="noStrike">
                <a:solidFill>
                  <a:srgbClr val="ff0066"/>
                </a:solidFill>
                <a:latin typeface="Arial"/>
              </a:rPr>
              <a:t>test.tx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lready exis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15800" y="3724200"/>
            <a:ext cx="1215360" cy="398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ver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32680" y="3714840"/>
            <a:ext cx="1031040" cy="398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5040" y="3714840"/>
            <a:ext cx="918360" cy="398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6720" y="4508640"/>
            <a:ext cx="83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re is neither predefined preference nor predefined probability for 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ption in “overwrite”, “append”, or “cancel”. Choice is non-determin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d non-probabilistic, i.e. it is NONDETERMINISTIC!  MILa(N)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represent it by nondeterministic choice constru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choice :=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“overwrite”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C choice :=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“append”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C choice :=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“cancel”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Sorry for illegal data type 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TROL FLOW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understanding looping, let’s discuss how to generate a po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nteger number. In deterministic language (C) it is impossible (even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id of generator of pseudo-random numbers;-(. It still rema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mpossible with aid of real generator of random numbers (since it wi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be able to generate numbers with some distribution “prob”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m</a:t>
            </a:r>
            <a:r>
              <a:rPr b="1" lang="en-NZ" sz="2000" spc="-1" strike="noStrike" baseline="-25000">
                <a:solidFill>
                  <a:srgbClr val="000000"/>
                </a:solidFill>
                <a:latin typeface="Arial"/>
              </a:rPr>
              <a:t>n—&gt;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—&gt;0, but not the uniform 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4360" y="3920760"/>
            <a:ext cx="1440" cy="9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4869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4005360"/>
            <a:ext cx="3095640" cy="742680"/>
          </a:xfrm>
          <a:custGeom>
            <a:avLst/>
            <a:gdLst/>
            <a:ahLst/>
            <a:rect l="l" t="t" r="r" b="b"/>
            <a:pathLst>
              <a:path w="2358" h="786">
                <a:moveTo>
                  <a:pt x="0" y="469"/>
                </a:moveTo>
                <a:cubicBezTo>
                  <a:pt x="60" y="393"/>
                  <a:pt x="121" y="318"/>
                  <a:pt x="181" y="242"/>
                </a:cubicBezTo>
                <a:cubicBezTo>
                  <a:pt x="241" y="166"/>
                  <a:pt x="302" y="30"/>
                  <a:pt x="362" y="15"/>
                </a:cubicBezTo>
                <a:cubicBezTo>
                  <a:pt x="422" y="0"/>
                  <a:pt x="468" y="136"/>
                  <a:pt x="544" y="151"/>
                </a:cubicBezTo>
                <a:cubicBezTo>
                  <a:pt x="620" y="166"/>
                  <a:pt x="748" y="68"/>
                  <a:pt x="816" y="106"/>
                </a:cubicBezTo>
                <a:cubicBezTo>
                  <a:pt x="884" y="144"/>
                  <a:pt x="892" y="333"/>
                  <a:pt x="952" y="378"/>
                </a:cubicBezTo>
                <a:cubicBezTo>
                  <a:pt x="1012" y="423"/>
                  <a:pt x="1111" y="363"/>
                  <a:pt x="1179" y="378"/>
                </a:cubicBezTo>
                <a:cubicBezTo>
                  <a:pt x="1247" y="393"/>
                  <a:pt x="1300" y="439"/>
                  <a:pt x="1360" y="469"/>
                </a:cubicBezTo>
                <a:cubicBezTo>
                  <a:pt x="1420" y="499"/>
                  <a:pt x="1474" y="530"/>
                  <a:pt x="1542" y="560"/>
                </a:cubicBezTo>
                <a:cubicBezTo>
                  <a:pt x="1610" y="590"/>
                  <a:pt x="1694" y="635"/>
                  <a:pt x="1769" y="650"/>
                </a:cubicBezTo>
                <a:cubicBezTo>
                  <a:pt x="1844" y="665"/>
                  <a:pt x="1927" y="635"/>
                  <a:pt x="1995" y="650"/>
                </a:cubicBezTo>
                <a:cubicBezTo>
                  <a:pt x="2063" y="665"/>
                  <a:pt x="2117" y="718"/>
                  <a:pt x="2177" y="741"/>
                </a:cubicBezTo>
                <a:cubicBezTo>
                  <a:pt x="2237" y="764"/>
                  <a:pt x="2328" y="786"/>
                  <a:pt x="2358" y="7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81640" y="4653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7440" y="3452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pr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9760" y="5084640"/>
            <a:ext cx="78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La(N) provides opportunity to solve the problem 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ondeterministic loop: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x := 0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L(x := x+1))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! This program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enerates every positive integers without any predefined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PROGRAM (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following program calculates a non-negative number 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hat is not gre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an square root of another non-negative integer number </a:t>
            </a:r>
            <a:r>
              <a:rPr b="0" lang="en-NZ" sz="1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4280" y="2703600"/>
            <a:ext cx="4004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var m : int ; var n : int ;  var k : in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k := 0 ; n := 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n := n+1 ; k := k + 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×n +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k ≤ m?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7120" y="2665440"/>
            <a:ext cx="161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57164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410920" y="3500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924360" y="4149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547640" y="4724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EMANTICS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65200" y="1341000"/>
            <a:ext cx="627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123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456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0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0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                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loop 0 times then 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  <a:ea typeface="Arial"/>
              </a:rPr>
              <a:t>≤m?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k+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×n+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n+1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                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loop 1 times then 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  <a:ea typeface="Arial"/>
              </a:rPr>
              <a:t>≤m?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k+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×n+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n+1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                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loop 2 times then 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  <a:ea typeface="Arial"/>
              </a:rPr>
              <a:t>≤m?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k+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×n+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n+1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                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loop 3 times then 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  <a:ea typeface="Arial"/>
              </a:rPr>
              <a:t>≤m?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400" spc="-1" strike="noStrike">
                <a:solidFill>
                  <a:srgbClr val="ff0000"/>
                </a:solidFill>
                <a:latin typeface="Arial"/>
              </a:rPr>
              <a:t>ab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k+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×n+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n+1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16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loop 4 times then 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  <a:ea typeface="Arial"/>
              </a:rPr>
              <a:t>≤m?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400" spc="-1" strike="noStrike">
                <a:solidFill>
                  <a:srgbClr val="ff0000"/>
                </a:solidFill>
                <a:latin typeface="Arial"/>
              </a:rPr>
              <a:t>ab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k+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×n+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n+1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2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NZ" sz="1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NZ" sz="14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)               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loop 5 times then 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  <a:ea typeface="Arial"/>
              </a:rPr>
              <a:t>≤m?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400" spc="-1" strike="noStrike">
                <a:solidFill>
                  <a:srgbClr val="ff0000"/>
                </a:solidFill>
                <a:latin typeface="Arial"/>
              </a:rPr>
              <a:t>ab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(execute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k := k+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  <a:ea typeface="Arial"/>
              </a:rPr>
              <a:t>×n+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then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000" spc="-1" strike="noStrike">
                <a:solidFill>
                  <a:srgbClr val="333399"/>
                </a:solidFill>
                <a:latin typeface="Arial"/>
              </a:rPr>
              <a:t>n:=n+1</a:t>
            </a:r>
            <a:r>
              <a:rPr b="0" lang="en-N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•••••••••••••••••••••••••••• ••••••••••••••••••••••••••••• ••••••••••••••••••••••••••••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1514520"/>
            <a:ext cx="0" cy="48956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2306520"/>
            <a:ext cx="504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2954160"/>
            <a:ext cx="504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02160"/>
            <a:ext cx="504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4322880"/>
            <a:ext cx="1440000" cy="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76360" y="4322880"/>
            <a:ext cx="1224000" cy="0"/>
          </a:xfrm>
          <a:prstGeom prst="line">
            <a:avLst/>
          </a:prstGeom>
          <a:ln w="2844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360" y="4322880"/>
            <a:ext cx="143964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322880"/>
            <a:ext cx="720720" cy="0"/>
          </a:xfrm>
          <a:prstGeom prst="line">
            <a:avLst/>
          </a:prstGeom>
          <a:ln cap="rnd" w="93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00360" y="4970520"/>
            <a:ext cx="1440000" cy="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476360" y="4970520"/>
            <a:ext cx="1224000" cy="0"/>
          </a:xfrm>
          <a:prstGeom prst="line">
            <a:avLst/>
          </a:prstGeom>
          <a:ln w="2844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4970520"/>
            <a:ext cx="143964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4970520"/>
            <a:ext cx="720720" cy="0"/>
          </a:xfrm>
          <a:prstGeom prst="line">
            <a:avLst/>
          </a:prstGeom>
          <a:ln cap="rnd" w="93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618160"/>
            <a:ext cx="1440000" cy="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76360" y="5618160"/>
            <a:ext cx="1224000" cy="0"/>
          </a:xfrm>
          <a:prstGeom prst="line">
            <a:avLst/>
          </a:prstGeom>
          <a:ln w="28440">
            <a:solidFill>
              <a:srgbClr val="0099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618160"/>
            <a:ext cx="143964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0000" y="5618160"/>
            <a:ext cx="720720" cy="0"/>
          </a:xfrm>
          <a:prstGeom prst="line">
            <a:avLst/>
          </a:prstGeom>
          <a:ln cap="rnd" w="93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anguage (natural as well as artificial;-) can be characteriz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rrect word spellings and sentence structure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man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eaning of correct words and sentence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ragma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tility, usability and case stu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I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t’s compare input-output of C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 if (x&lt;0) y=1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else y=0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}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d MILa(N) program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 (x&lt;0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y:=1)  C  (x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&gt;=0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 y:=0) 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e input-output relation for the stateme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, if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&lt;0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for input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outp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27640" y="3933720"/>
            <a:ext cx="215640" cy="9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IF”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onsider case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&lt;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and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≥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program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7120" y="2127240"/>
            <a:ext cx="34254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&lt;0?                          x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&gt;=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: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989000"/>
            <a:ext cx="0" cy="28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692000" y="2565360"/>
            <a:ext cx="431640" cy="5032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2587320"/>
            <a:ext cx="295200" cy="53712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3357720"/>
            <a:ext cx="0" cy="792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96240" y="2087640"/>
            <a:ext cx="36601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&lt;0?                          x&gt;=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: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3357720"/>
            <a:ext cx="0" cy="7920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7720" y="2472840"/>
            <a:ext cx="378720" cy="54396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844600" y="2526840"/>
            <a:ext cx="344160" cy="513720"/>
          </a:xfrm>
          <a:prstGeom prst="line">
            <a:avLst/>
          </a:prstGeom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869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98492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us the input-output relation for the program bod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, if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&lt;0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for input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outpu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5445000"/>
            <a:ext cx="215640" cy="100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IF”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It implies that the program body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 (x&lt;0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y:=1)  C  (x&gt;=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0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  <a:ea typeface="Arial"/>
              </a:rPr>
              <a:t> y:=0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mulates input-output of C statement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 if (x&lt;0) y=1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else y=0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}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some idea behind the above simulation of the conven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stic choice “if” by unconventional  nondeterministic choice “C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mprises two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LL possible “executions” without testing condi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undesirable “executions: by appropriate gu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try to extend this approach on simulation of the conven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stic “while” loop by unconventional  nondeterministic “L”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WH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be an auxiliary predefined “standard” function without sid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d with semantic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 : in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—&gt;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dmissible for C and MILa(N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e input-output relation  the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 x=0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while (x&lt;2) {y=f(y)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=x+1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} }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for input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outputs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f(f(b)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WHILE”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e single execution of the statement can be represented 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       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                                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0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f(b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f(b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                                  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1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f(f(b)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Arial"/>
              </a:rPr>
              <a:t>f(f(b)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))                       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52200" y="2133720"/>
            <a:ext cx="40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=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&lt;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=f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24717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24717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2616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29764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29764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263988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16160" y="34797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0840" y="3070080"/>
            <a:ext cx="218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&lt;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y=f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8800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9117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26920" y="3911760"/>
            <a:ext cx="396108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89240" y="3575160"/>
            <a:ext cx="7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=x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40000" y="4508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70160" y="417204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&lt;2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WHILE”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ing to condition testing, there are much more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s” which just iterate the loop with break option every tim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2847960"/>
            <a:ext cx="2254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f(b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(3),y(f(f(f(b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(4),y(f(f(f(f(b)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••••••••••••••••••••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2565360"/>
            <a:ext cx="2254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(0), y(b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(1),y(f(b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f(b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(3),y(f(f(f(b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(4),y(ff(f(f(b))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••••••••••••••••••••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5520" y="2527200"/>
            <a:ext cx="13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39760" y="302112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35280" y="3357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67280" y="342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4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48000" y="54468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0" y="602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1000" y="3500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01000" y="4029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01000" y="46767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01000" y="53244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58160" y="58294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3880" y="30924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84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73880" y="3668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73880" y="424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522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73880" y="4892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2360" y="580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0600" y="5468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PRESSIVE POWER : HOW TO SIMULATE “WHILE”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cut undesirable “executions by appropriate gua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847960"/>
            <a:ext cx="2254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f(b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2565360"/>
            <a:ext cx="225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f(b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5520" y="2527200"/>
            <a:ext cx="13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39760" y="302112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357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42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800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01000" y="35002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01000" y="40291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8040" y="468792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&lt;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4720" y="30924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&gt;=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84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73880" y="424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32120" y="37288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&gt;=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5400" y="5373720"/>
            <a:ext cx="797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ILa(N) program body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 x:=0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L(x&lt;2?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y:=f(y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:=x+1 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 x&gt;=2?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as the above control flow and input-output relation as th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 x=0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while (x&lt;2) {y=f(y)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x=x+1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} }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input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) outputs (x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, y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f(f(b)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UMMARY ON MILa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MILa(N) is structured nondeterministic imperative model language.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enjoys pure mathematical semantics of types but “vagu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nondeterministic contro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The great advantage of the language is opportunity to simu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conventional structured deterministic “if” and “while” (from viewpoin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input-output relation at least). It implies Turing completeness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model language and opportunity to skip recursion and poin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Lack of pointers, other alias, and indirect access to memory lo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kes MILa(N) a little bit “unreal”:-(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 FORMAL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stays for "Backus-Naur Form“ due to John Backus (USA)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Naur (Denmark) who introduced for the first time a for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tion to describe the syntax of real-life programming language. M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NF was introduced by J. Backus in a report presented ALGOL 5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Naur modified and BNF for ALGOL 6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4880" y="5656320"/>
            <a:ext cx="824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more details on this period of programming languages history, s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roduction to J. Backus's Turing award article in Commun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ACM, 21(8),  1978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1884600" cy="2232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669760" y="3247920"/>
            <a:ext cx="601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 1977 J. Backus became a laureate of the A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uring Award “for profound, influential, and la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ontributions to the design of practical high-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gramming systems, notably through his work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TRAN, and for seminal publication of for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cedures for the specification of program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anguag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“DANCING MEN” OF A. CONAN DOY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4038840" cy="336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79840" y="2816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8560" y="281628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8480" y="5119560"/>
            <a:ext cx="67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Pragmatics:  cryptography of Organized Crime in Chica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35280" y="1773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835280" y="2420640"/>
            <a:ext cx="649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997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2997360"/>
            <a:ext cx="649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6300360" y="2133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6300360" y="270792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2997360"/>
            <a:ext cx="79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300360" y="2997360"/>
            <a:ext cx="79236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a-symbols of BNF a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” stays “is defined as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” separates alterna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… &gt;” are used for surrounding syntax meta-no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“&lt; &gt;” distinguish syntax meta-notions (also called meta-symbols and no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symbols) from terminal symbols which are written exactly as they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represented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NF rule defining a non_terminal has the for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_terminal ::= sequence_of_alternatives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 sequence consists of strings of terminals and non-termin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d by the  “|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part of  definition of MILa(N) 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gram&gt; ::= &lt;declarations&gt; 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eans that every program consists of (variable) declarati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ogram)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eclarations&gt; ::= &lt;empty&gt; | &lt;declaration&gt; &lt;declar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eans that (variable) declarations form a sequence (empty mayb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individual decla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acros can make BNF much more hand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al items are enclosed in “[…]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titive items (zero or more times) are enclosed in {…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definition of integer numbers in MILa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nteger&gt; ::= [sign]&lt;numb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 ::= &lt;digit&gt; {&lt;digit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acros can be eliminated by inlinning (i.e. instanti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[notion]&gt; ::= &lt;empty&gt; | &lt;notion&gt;   for [notion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{notion}&gt; ::= &lt;empty&gt; | &lt;notion&gt;&lt;{notion}&gt;   for {notion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finitions of MILa(N) 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eclaration&gt; ::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variable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type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variable&gt; ::= &lt;letter&gt;{&lt;letter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ype&gt; ::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ype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type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 ::= &lt;operator&gt; 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body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body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tor&gt; ::= &lt;assignment&gt; | &lt;guard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F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finitions of MILa(N) 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ssignment&gt; ::= &lt;variable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guard&gt; ::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xpression&gt; &lt;relation&gt;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xpression&gt; ::= &lt;integer&gt; | &lt;variabl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xpression&gt; &lt;operation&gt;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l(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pd(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&gt;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expression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relation&gt; ::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gt;=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lt;=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tion&gt; ::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diagrams (SD) constitute an alternative notation to BNF.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e introduced by Richard W. Conway , but become widely known si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olaus Wirth used them for defining the syntax of Pas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380360" y="2997360"/>
            <a:ext cx="1493640" cy="223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458640" y="2997360"/>
            <a:ext cx="6749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 1984 N. Wirth became a laureate of the ACM T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ward “for developing a sequence of innovative compu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languages, EULER, ALGOL-W, MODULA and PASC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SCAL has become pedagogically significant and h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rovided a foundation for future computer langua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ystems, and architectural research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DIAGRAM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D notation arrows are used for sequencing, branching -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s, and loops - for repetitions (zero or more times). BNF 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presented by syntax diagrams and vice versa. Ex., a part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definition of MILa(N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5320" y="32479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gr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84360" y="35020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28400" y="3645000"/>
            <a:ext cx="17262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ecla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858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771280" y="386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771640" y="342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219640" y="350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16800" y="3284640"/>
            <a:ext cx="103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32720" y="350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9880" y="44006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ecla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84360" y="458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38960" y="4400640"/>
            <a:ext cx="5356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64240" y="4400640"/>
            <a:ext cx="13723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variab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40160" y="458136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1480" y="436572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84720" y="458136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72960" y="4365720"/>
            <a:ext cx="9608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96360" y="45878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87840" y="436572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1120" y="53434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27600" y="5956200"/>
            <a:ext cx="4489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11280" y="55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71640" y="5518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71640" y="6165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11480" y="5192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24800" y="5264280"/>
            <a:ext cx="9608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7280" y="55180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63000" y="5264280"/>
            <a:ext cx="104472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5518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1577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77520" y="5302080"/>
            <a:ext cx="9608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yp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0000" y="55180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92720" y="6165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451640" y="551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DIAGRAM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1120" y="133524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6560" y="1347840"/>
            <a:ext cx="14288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to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62600" y="3975120"/>
            <a:ext cx="103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961600" y="4011480"/>
            <a:ext cx="103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92480" y="4011480"/>
            <a:ext cx="365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11640" y="4221000"/>
            <a:ext cx="8017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73720" y="42274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53240" y="3117960"/>
            <a:ext cx="103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51880" y="3154320"/>
            <a:ext cx="103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2760" y="315432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11640" y="3357720"/>
            <a:ext cx="7920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64000" y="33703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99840" y="314784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81360" y="336384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99840" y="401148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81360" y="422748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05200" y="401148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221000"/>
            <a:ext cx="3697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05200" y="315432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029360" y="3363840"/>
            <a:ext cx="36036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92360" y="1628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1557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65960" y="2349360"/>
            <a:ext cx="10324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71840" y="2386080"/>
            <a:ext cx="2660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2436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16720" y="2602080"/>
            <a:ext cx="1655640" cy="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02840" y="2386080"/>
            <a:ext cx="4078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84720" y="260208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8172360" y="155700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1628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97964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26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6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16240" y="5811840"/>
            <a:ext cx="11318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guar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66920" y="537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537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602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967120" y="5048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79000" y="5119560"/>
            <a:ext cx="178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assignm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8800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56000" y="602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003640" y="53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760" y="51577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perato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THING IS GOING WRO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formal syntax definitions admi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x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y := upd(x, x, 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valid “program”. But this “program” is type-incorrect: the variab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declared, the variab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as array and intege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rce of the problem is context-free nature of MILa(N) 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finition of the &lt;body&gt; does not exploit type context, tha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the &lt;declarations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possible in the framework of BNF/SD to improve defini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a(N) in some manner and overcome the problem? Or, maybe, bo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sms are not able to handle constraints of this context-sensi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am Chomsky v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s, Naur  and Wi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4"/>
                </a:solidFill>
                <a:latin typeface="Times New Roman"/>
              </a:rPr>
              <a:t>PRAGMATICS OF SOME PROGRAMMING LANGUAG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Numeric (“scientific”)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Compu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Fortran, APL, Algol60, Forth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Business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Data Proce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RPG, Cobol, Dbase, Delphi, Visual Basic, Jade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Systems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Program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BCPL, C, Modula 3, 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Educational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Compu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Basic, Pascal, Logo, Scheme, Hugs, (BlueJ)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Symbolic (“AI”)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Compu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Lisp, Snobol, Prolog, Smalltalk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Scripting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Tcl, Javascript, Perl, Actionscript, Lingo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Mathematical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Problem Solv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Setl, Mirandsa, Haskell, Hugs, Mathematica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MaiandraGD-Italic"/>
              </a:rPr>
              <a:t>Universal” </a:t>
            </a:r>
            <a:r>
              <a:rPr b="0" lang="en-US" sz="1800" spc="-1" strike="noStrike">
                <a:solidFill>
                  <a:srgbClr val="000000"/>
                </a:solidFill>
                <a:latin typeface="MaiandraGD-Regular"/>
              </a:rPr>
              <a:t>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181"/>
                </a:solidFill>
                <a:latin typeface="ComicSansMS-Bold"/>
              </a:rPr>
              <a:t>PL/1, Algol68, Ada, C++, Java, C#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A WITH PHRAS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BNF and SD both are not type-safe formalism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 neither for model language MILa(N), nor for real language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more expressive formalism should be used, the formalis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languages and their gramm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(phrase-structure) grammar is a triple G = (T, N, P, S)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s a finite alphabet of terminal symbo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a finite alphabet of non-terminal symbo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is a set of production rules in the form “V -&gt;W” where  “V” and “W” are some words in the combined alphabets T and N (empty mayb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the initial non-terminal symb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A WITH PHRASE STRUCTUR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ove definition of MILa(N) syntax can be presented as 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the gramma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rminal symbols comprise letters, digits and blank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-terminals are all meta-symbols                                              (ex., &lt;identifier&gt;, &lt;integer&gt;, &lt;assignment&gt;, &lt;guard&gt;, etc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s are just BNF rules with “-&gt;” instead of “::=” and separated alternatives                                                                           (ex., &lt;operator&gt; ::= assignment | guard  unfolds  to two separated productions &lt;operator&gt; -&gt; assignment  and &lt;operator&gt; -&gt;  guard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symbol is &lt;program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A WITH PHRASE STRUCTUR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51-55 Noam Chomsky, a Junior Fellow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vard University, developed in his linguistic Ph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the following hierarchy for grammar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 in natural language stu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fre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sensiti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as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lassification has turned to be very useful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languages of both kinds, natural and artif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alled Chomsky Hierarchy after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121520" y="1628640"/>
            <a:ext cx="1627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A WITH PHRASE STRUCTUR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 classification is based on for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grammars adopt rules of two kinds                  non_terminal -&gt; terminal non_terminal  and non_terminal -&gt; terminal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free grammars exploit rules   non_terminal -&gt; word_in_combined_alphab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sensitive grammars impose constraint |left_word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right_word| for every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left_word -&gt; right_word to be admi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ase grammars have no 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197760" y="1773360"/>
            <a:ext cx="2917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S AND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s induce word transformations. (Doctoral dissertation of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msky was entitled "Transformational Analysis“;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grammar G has a production left_word -&gt; right_word, th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eft_word 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ft_word 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legal local transformation for every “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* 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re is some chain of local transformations that star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finishes  with “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•••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wor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S AND LANGUAG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s are able to generate languages: a grammar G = (T, N, P, 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the following langu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(G) = { 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*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 “word” exploits terminal symbols only 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6470640" y="3357720"/>
            <a:ext cx="2644920" cy="3311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35960" y="3135240"/>
            <a:ext cx="6507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 hierarchy induces hierarchy of langu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can be generated by grammars. A languag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d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fre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-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it can be generated by the appropriate gramm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is said to be recursively enumerable 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generated by a grammar with phras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nguage hierarchy is called after Chomsky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OF REGULA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can be generated by the following regular gram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I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cludes sign “-” and digit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…”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initial symbol “I” and “N” for unsigned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 productions I -&gt; N, I -&gt; -N,                                          N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N -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N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… N -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s can be generated by another regular  gramm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J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cludes letter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…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and digit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…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d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initial symbol “J” and “A” for arbitrary seque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 productions                                                                 J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J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J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… J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                                          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…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                                                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… A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ONTEXT-FRE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all identifiers have integer type as a default.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expressions can be generated by the following context-f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mmar 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E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arenthesi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and signs of arithmetic opera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 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,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l symbols in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initial symbol “E” and all symbols in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 productions  E -&gt; I, E -&gt; J,                                        E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E 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and productions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GENERATION IN CONTEXT-FREE GRA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is an example how the arithmetic expr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23+x)/(y-32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generated in the grammar 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82000" y="2487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85800" y="29973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2800" y="357336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59280" y="35733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19840" y="422100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067280" y="42210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59280" y="4257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31200" y="42210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920" y="47973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67280" y="479736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)  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859280" y="4797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y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2000" y="47973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053880" y="53737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+x)   /    (y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80000" y="5373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51360" y="5950080"/>
            <a:ext cx="32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23     +x)   /    (y -       3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328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4067280" y="3357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88000" y="335772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492000" y="3933720"/>
            <a:ext cx="358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1164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8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35640" y="393372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11640" y="458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92360" y="45831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48360" y="45831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67280" y="4508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9236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67280" y="50864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64000" y="56624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40360" y="56624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N SYNTAX FORMAL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most general form of DNF rule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n_terminal ::= sequence_of_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where the sequence consists of strings of terminals and non-termin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parated by the  “|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t implies that the BNF notation and the equivalent SD notation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ble to define context-free syntax of programming language. He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y both are not type-safe due to their context-free 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n contrast, context-sensitive grammars are able to cope type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on syntax level for imperative languages like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ISTORY OF PROGRAMMING LANGUAGES</a:t>
            </a:r>
            <a:br>
              <a:rPr sz="2000"/>
            </a:b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(ref Éric Lévénez homepage </a:t>
            </a:r>
            <a:r>
              <a:rPr b="0" lang="en-N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 </a:t>
            </a:r>
            <a:r>
              <a:rPr b="0" lang="en-N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venez.com/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 for detail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9640" y="1700280"/>
            <a:ext cx="81360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9640" y="1695600"/>
            <a:ext cx="8136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(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a(N) = Model Imperative Language (Nondetermin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a(N) FORM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a(N) enjoys free format like C. Identifiers are  unlimit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, must begin with a letter, and consist of low case lett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MILa(N) program consists of tow parts: variable “declar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gram “body”. Examples of variable declaration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valu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n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var  value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int array of int)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r suppervalue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int array of int) array of int)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EMANTICS OF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single basic typ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s semantics consists of ALL integer numbers as with standard arithmetic operations (NO overflow problem;-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single generic type for arrays. Semantics of a particular ar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sts of all functions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perations that deal with this 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a function to an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&gt;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 value of a function in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S OF TYPE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let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value in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value in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--&gt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 value (i.e. a partial function) function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APL(f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every valu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PD(f,a,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c!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rray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different. Ex.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(int array of int) array of i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ises inte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s” that map integer functions to integers, whi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int array of (int array of int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infinite integer “matrixe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43000" y="2637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0:24:07Z</dcterms:created>
  <dc:creator>Nicolai Shilov</dc:creator>
  <dc:description/>
  <dc:language>en-US</dc:language>
  <cp:lastModifiedBy>admin</cp:lastModifiedBy>
  <dcterms:modified xsi:type="dcterms:W3CDTF">2008-02-21T10:41:24Z</dcterms:modified>
  <cp:revision>298</cp:revision>
  <dc:subject/>
  <dc:title>TOWARD FORMAL SYNTAX</dc:title>
</cp:coreProperties>
</file>