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3DA-05C9-4537-8C38-CFF99521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DC2F-BD01-49E5-A885-805D2E26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988-438E-4C24-B1C2-0D67AA97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0CFD-93E5-4148-96AB-AB057D82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2A11-C768-4716-8B2F-7F120731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1F1-15FC-4A87-99A0-0BB21C9E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2FE2-5197-4A1C-8C25-CDDB1C3D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461E-B328-469F-910E-8C4B9D05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28FE-FC1E-4F44-988C-BE975979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D0A-615C-479B-9F0C-2ADA7D9C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7FE1-2F5B-4EAD-AD60-D8C370E9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1205-A322-465D-93C5-60CEEEFE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7323-1561-4A18-9F99-85F7C7481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ы теории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ция 7: Элементы те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зыков программирова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ы формальной семан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I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omposition (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) in these  setting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) = {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:  there is som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 that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 and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 }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{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: there is a sit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can get from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by plane and the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by train }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{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: you can get from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by plane and then by train 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omposition (T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) in these  setting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) = {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:  there is som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 that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 and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 }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{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: there is a sit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can get from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by train and the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by plane }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{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: you can get from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by train and then by plain 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I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discussion implies that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 general (P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)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≠ (T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P), si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54040" y="1989000"/>
            <a:ext cx="1065240" cy="716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72200" y="21686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411280" y="1989000"/>
            <a:ext cx="1081080" cy="736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0560" y="1989000"/>
            <a:ext cx="1081080" cy="736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516720" y="1989000"/>
            <a:ext cx="1065240" cy="716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34360" y="198900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95200" y="21337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6880" y="3354480"/>
            <a:ext cx="743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 contrast, in general settings (P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T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)) = ((P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), 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539640" y="3890880"/>
            <a:ext cx="1065240" cy="716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58160" y="4070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2627280" y="3890880"/>
            <a:ext cx="1081080" cy="736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368040" y="389088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7440" y="3645000"/>
            <a:ext cx="45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50480" y="40766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4500720" y="3903840"/>
            <a:ext cx="1152360" cy="749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581800" y="3645000"/>
            <a:ext cx="45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2240" y="482760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3059280" y="4827600"/>
            <a:ext cx="1064880" cy="716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177440" y="50068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4932360" y="4827600"/>
            <a:ext cx="1081080" cy="736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269760" y="50133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7020000" y="4840200"/>
            <a:ext cx="1152360" cy="749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670480" y="4562640"/>
            <a:ext cx="45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2160" y="4562640"/>
            <a:ext cx="45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995640" y="2133720"/>
            <a:ext cx="21600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LEXIVE AND TRANSITIVE 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t-closure for a binary relation P on a set S has been defined in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tty abstract manner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(P*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cc00ff"/>
                </a:solidFill>
                <a:latin typeface="Arial"/>
                <a:ea typeface="Arial"/>
              </a:rPr>
              <a:t>(_=_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U </a:t>
            </a:r>
            <a:r>
              <a:rPr b="0" lang="en-US" sz="2000" spc="-1" strike="noStrike">
                <a:solidFill>
                  <a:srgbClr val="cc3399"/>
                </a:solidFill>
                <a:latin typeface="Arial"/>
                <a:ea typeface="Arial"/>
              </a:rPr>
              <a:t>(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U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(P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U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(P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U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  <a:ea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t’s try to “customize” this complicated defin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0640" y="2776680"/>
            <a:ext cx="65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, let S be a set of “civilized sites” around the  worl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093080" y="2709720"/>
            <a:ext cx="620640" cy="649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39080" y="3394080"/>
            <a:ext cx="66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P be a complete list of flights connecting these si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9640" y="3206880"/>
            <a:ext cx="1081080" cy="726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70160" y="3965400"/>
            <a:ext cx="774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each of </a:t>
            </a: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(_=_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(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P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P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ribute to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P*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setting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LEXIVE AND TRANSITIVE CLOSURE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(_=_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rises all pairs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Hence the meaning of </a:t>
            </a: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(_=_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: “Do not take any flight, just stay at home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(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s: “Take a flight and without any chang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P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s (in accordance with our study of the composition): “Take a flight with the single chang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P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s: “Take a flight with two chang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(P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s: “Take a flight with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ng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352520" y="36237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0160" y="4048200"/>
            <a:ext cx="12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n+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ti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0120" y="4761000"/>
            <a:ext cx="770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mplies that </a:t>
            </a: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(_=_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</a:t>
            </a: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(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P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P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(P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a flight with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nges at most”. Henc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P*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s: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ak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light and feel free to make as many changes as you w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 rot="5400000">
            <a:off x="5111640" y="2599200"/>
            <a:ext cx="144360" cy="4249440"/>
          </a:xfrm>
          <a:custGeom>
            <a:avLst/>
            <a:gdLst>
              <a:gd name="textAreaLeft" fmla="*/ 92160 w 144360"/>
              <a:gd name="textAreaRight" fmla="*/ 144360 w 144360"/>
              <a:gd name="textAreaTop" fmla="*/ 110520 h 4249440"/>
              <a:gd name="textAreaBottom" fmla="*/ 4138920 h 42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19440" y="4387680"/>
            <a:ext cx="12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n+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ti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LEXIVE AND TRANSITIVE CLOSURE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, more formal example: let’s consider integer numbers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mmediate successor relation suc = {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k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integer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(suc*) = “less than or equ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, si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(_=_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rises all pairs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(suc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ises all pairs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k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suc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u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rises all pairs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k+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suc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uc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u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rises all pairs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k+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(suc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uc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u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rises all pairs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k+n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1695600" y="3800160"/>
            <a:ext cx="152280" cy="1568520"/>
          </a:xfrm>
          <a:custGeom>
            <a:avLst/>
            <a:gdLst>
              <a:gd name="textAreaLeft" fmla="*/ 97200 w 152280"/>
              <a:gd name="textAreaRight" fmla="*/ 152640 w 152280"/>
              <a:gd name="textAreaTop" fmla="*/ 40680 h 1568520"/>
              <a:gd name="textAreaBottom" fmla="*/ 1527840 h 156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90520" y="4551480"/>
            <a:ext cx="12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n+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ti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 INTERPRE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aph interpretation for sets with binary relations is very useful fo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the most complicated operation on binary relations -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lexive and transitive closur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t G = (V,E) be a graph with vertexes (nodes) V and edges E. Let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opt V as a set S of “sites” and E as a binary relation P for “flight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(_=_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rises all pairs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ith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(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rises all pairs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ithin V such that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P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ises all pairs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ithin V such that                           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and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for som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P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rises all pairs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ithin V such that                     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,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, and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, for som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 rot="16200000">
            <a:off x="1374480" y="5389920"/>
            <a:ext cx="152280" cy="914400"/>
          </a:xfrm>
          <a:custGeom>
            <a:avLst/>
            <a:gdLst>
              <a:gd name="textAreaLeft" fmla="*/ 96840 w 152280"/>
              <a:gd name="textAreaRight" fmla="*/ 1522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0160" y="5516640"/>
            <a:ext cx="12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n+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ti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3360" y="5877000"/>
            <a:ext cx="7886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(P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rises all pairs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(n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ithin V 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,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, and …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(n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, for som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 INTERPRETA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7840" y="1569960"/>
            <a:ext cx="8300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mplies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(_=_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</a:t>
            </a: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(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P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P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(P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P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rises all pairs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ithin V such that there exists a path from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consist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(n+1) edge at mo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P*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rises all pairs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ithin V such that there exists a pa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 rot="5400000">
            <a:off x="3960360" y="-230040"/>
            <a:ext cx="144720" cy="4249800"/>
          </a:xfrm>
          <a:custGeom>
            <a:avLst/>
            <a:gdLst>
              <a:gd name="textAreaLeft" fmla="*/ 92520 w 144720"/>
              <a:gd name="textAreaRight" fmla="*/ 145080 w 144720"/>
              <a:gd name="textAreaTop" fmla="*/ 110520 h 4249800"/>
              <a:gd name="textAreaBottom" fmla="*/ 4139280 h 424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68520" y="1557360"/>
            <a:ext cx="12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n+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ti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for ALGEBRA OF BINARY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r every set S the algebra of binary relations (BR(S), U, 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, *) on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t comprises the set BR(S) of all binary relations on S provided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ree operatio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 set-theoretic union “_U_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 composition “_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_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 rt-closure “_*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r every binary relation P on S, the rt-closure (P*) comprises all pai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u, v) within V such that there exists a “path” from u to v via 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-OUTPUT SEMANTIC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MILa(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bra in work. (Indeed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LIMINA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 that every MILa(N) program consists of tow parts: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ations and program body. Declarations define admis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 and fix their types.  The body specifies computations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exercise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ebraic semantics of all valid types in MILa(N) is quite straightforw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formal. It has been discussed in details for the single basic typ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single generic type for array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BRA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tab al muhtasar fi hisa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 gab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’al muqubalah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khammad ibn Musa Al-Khorez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ather of Algebr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LIMINARIE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section we fix variable declarations and but vary program bo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mplies that the set of variables, their types and semantics are fix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trast, we are going to study semantics of all possible progr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ies that exploit these fixed typed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 also that in our discussion about choice and looping in C w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aled to input-output behavior of programs: informal input-outp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ce provides an opportunity to simulate all choice and lo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constructs by the two simplest ones, by “if else” and “while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ate is a mapping that assigned all declared variables some val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ccordance with their  typ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 assume that the list of variable declarations includes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x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z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int array of int)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se settings every stat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ssigns some integer values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variabl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some (partial) fun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&gt;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 particular stat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assign (for instance) a val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valu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200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total functio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_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STATE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have used states implicitly in reasoning about program exec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when we discussed simulation of input-output of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{ if (x&lt;0) y=1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else y=0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}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 (x&lt;0?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y:=1)  C  (x&gt;=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  <a:ea typeface="Arial"/>
              </a:rPr>
              <a:t>0?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  <a:ea typeface="Arial"/>
              </a:rPr>
              <a:t>;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  <a:ea typeface="Arial"/>
              </a:rPr>
              <a:t> y:=0)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8600" y="2637000"/>
            <a:ext cx="8229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examined two  cases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&lt;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and    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≥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8160" y="3164040"/>
            <a:ext cx="3425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&lt;0?                          x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&gt;=0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b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e    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y: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13400" y="3025800"/>
            <a:ext cx="29880" cy="256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733400" y="3602160"/>
            <a:ext cx="432000" cy="5032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46600" y="3624120"/>
            <a:ext cx="294840" cy="537120"/>
          </a:xfrm>
          <a:prstGeom prst="line">
            <a:avLst/>
          </a:prstGeom>
          <a:ln w="1908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17760" y="4394160"/>
            <a:ext cx="0" cy="79236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37280" y="3124080"/>
            <a:ext cx="36604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&lt;0?                          x&gt;=0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bort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e   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y: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97760" y="4394160"/>
            <a:ext cx="0" cy="79236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09120" y="3509280"/>
            <a:ext cx="378720" cy="544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885640" y="3563280"/>
            <a:ext cx="343800" cy="514080"/>
          </a:xfrm>
          <a:prstGeom prst="line">
            <a:avLst/>
          </a:prstGeom>
          <a:ln w="1908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5920" y="5823000"/>
            <a:ext cx="80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and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are particular states of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with two declared variable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STATE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stat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signs values to all declared variables. Quite nat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is to extend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integer constants: let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sign to every “integer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own value. For example: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-12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-12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00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200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c!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-12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00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yntax objects, but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-12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200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 integer values. In C integers can be treated as characte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: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printf (“%c”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23  )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STATE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 extended on integers provides an opportunity to assign s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”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pression) for every MILa(N) “expression” in every stat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finition of expression values follows alternatives of the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of “expression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expression&gt; ::= &lt;integer&gt; | &lt;variable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expression&gt; &lt;operation&gt; &lt;expression&gt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pl(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&gt;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expression&gt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pd(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&gt;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expression&gt;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expression&gt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operation&gt; ::=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×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STATE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ollowing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tat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nd “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re express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for variables and integers are defined alread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pl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P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pd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U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c! The  valu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presion) can be indefinite:-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SPACE = SPACE OF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 of all states forms the state spac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(Sic!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d variables and their types, but we have fixed declaration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hile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assume that there are three declared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x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z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int array of int)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—&gt;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}. In particular,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interpreted in a Neanderthal manner {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tw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m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} then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ac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ists of 576 (=3×3×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4427280" y="5589720"/>
            <a:ext cx="215640" cy="287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81280" y="5818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Wh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-OUTPUT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s of every program “body” in the state space is its input-outp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 “_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”.  The definition of this binary relation follow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s of the syntax definition of program “body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body&gt; ::= &lt;operator&gt; |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body&gt;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body&gt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body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body&gt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operator&gt; ::= &lt;assignment&gt; | &lt;guard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ollowing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n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tates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“expression”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clared variables and an expression both of the same typ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nd “expressio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re integer expressions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body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, and “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re program bo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-OUTPUT RELATION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: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pressio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f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UPD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pression)),                    i.e. update value of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do not change other valu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pressio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f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pressio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=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pressio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pressio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f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pressio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pressio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etc., i.e. if the condition holds then skip, abort otherwi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f there is a stat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.e. execute sequentially “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nd “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f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                        i.e. execute (exclusively) either “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r  “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n+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f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n+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there is a sequence of st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• •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n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.e. loop “body” several times (zero mayb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556000" y="2637000"/>
            <a:ext cx="71280" cy="287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587640" y="2637000"/>
            <a:ext cx="71640" cy="287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-OUTPUT SEMANTICS REV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us express input-output semantics in terms of algebra of bi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 (BR(S), U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*) where S is the state spac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79280" y="2476440"/>
          <a:ext cx="8713800" cy="3686400"/>
        </p:xfrm>
        <a:graphic>
          <a:graphicData uri="http://schemas.openxmlformats.org/drawingml/2006/table">
            <a:tbl>
              <a:tblPr/>
              <a:tblGrid>
                <a:gridCol w="4357800"/>
                <a:gridCol w="4356000"/>
              </a:tblGrid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20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;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ody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20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is a state </a:t>
                      </a: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uch that </a:t>
                      </a: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20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20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;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ody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.e. semantics of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;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composition of binary relations </a:t>
                      </a:r>
                      <a:r>
                        <a:rPr b="1" lang="en-US" sz="2000" spc="-1" strike="noStrike">
                          <a:solidFill>
                            <a:srgbClr val="009999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20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ody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20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20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20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r </a:t>
                      </a: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20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20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ody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U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.e. semantics of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set-theoretic union of binary relations </a:t>
                      </a: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U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20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20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n+1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f </a:t>
                      </a: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20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20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n+1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is a sequence of states </a:t>
                      </a: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20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…</a:t>
                      </a: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20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uch that </a:t>
                      </a: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20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20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• • • </a:t>
                      </a: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20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20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n+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*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.e. semantics of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reflexive transitive closure  of binary relations </a:t>
                      </a: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*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ALGEB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d “algebra” comes from the title of an Arab book "Kitab 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htasar fi hisa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 gab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'al muqubalah“. This has been translated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A compact introduction to calculation using rules of completion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tio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86400" y="3147840"/>
            <a:ext cx="3333600" cy="2049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3147840"/>
            <a:ext cx="4844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author, Mukhammad ibn Musa Al-Khorezmi (Al-Khawarizmi, lived about 780-850) was the chief mathematician in the "House of Wisdom", an academy of sciences established in Baghdad by the Caliph Al Ma'mun, son of Harun Al Rashid of "Arabian Nights" f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2960" y="5511960"/>
            <a:ext cx="78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y the way, the word “algorithm” originated from the personal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-Khorezm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FOR INPUT-OUTPUT SEMAN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 input-output approach (combined with algebraic semantics for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ypes) is able to provide formal semantics for imperative programs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umerical and array types. This semantics is formulated in term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inary relations on state spaces; semantics of every program in the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ttings is its input-output 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c! The input-output approach provides semantics for programs, b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give any clue about semantics of control flow:-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NOTATIONAL SEMANT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MILa(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AL, DENOTATIONAL, AXIOMATIC,… AND UG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VS.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have one more look at the semantics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60360" y="1989000"/>
          <a:ext cx="8388360" cy="2838600"/>
        </p:xfrm>
        <a:graphic>
          <a:graphicData uri="http://schemas.openxmlformats.org/drawingml/2006/table">
            <a:tbl>
              <a:tblPr/>
              <a:tblGrid>
                <a:gridCol w="4195800"/>
                <a:gridCol w="4192560"/>
              </a:tblGrid>
              <a:tr h="94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16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ody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16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f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is a state </a:t>
                      </a: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uch that </a:t>
                      </a: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16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16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;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ody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.e. semantics of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;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composition of binary relations </a:t>
                      </a: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16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ody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16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f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16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16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r </a:t>
                      </a: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16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16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ody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U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.e. semantics of 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set-theoretic union of binary relations </a:t>
                      </a: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U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16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16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n+1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f </a:t>
                      </a: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16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16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n+1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is a sequence of states </a:t>
                      </a: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16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…</a:t>
                      </a: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16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uch that </a:t>
                      </a: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16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16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• • • </a:t>
                      </a: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16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1600" spc="-1" strike="noStrike" baseline="-25000">
                          <a:solidFill>
                            <a:srgbClr val="009999"/>
                          </a:solidFill>
                          <a:latin typeface="Arial"/>
                        </a:rPr>
                        <a:t>n+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*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.e. semantics of 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reflexive transitive closure  of binary relations </a:t>
                      </a: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*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435960" y="4943520"/>
            <a:ext cx="855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principle difference between the left column and the right 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rmer provides some information how to do, the later does no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ft is imperative-like or “operational”, the right is declarative-like or 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 VS. DENOTA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s in the right column is a particular example of a denot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s for programming languages. The denotational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mantics of a particular programming language compri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hoice of adequate algebraic domains for syntactic features like types, declarations, control constructs, operators, programs, etc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 interpretation of all listed feature in terms of these alge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lgebraic object that interprets a particular syntactic “item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es semantics for this “item” or denotation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DENOTATIONAL SEMANTICS for MILa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 standard integer numbers with standard arithmetic operation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rray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{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partial function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f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P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rray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&gt; 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U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rray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rray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 3-sorted algebra that contains a domain, a range and all part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with this domain and this range with operations for fun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and function upda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DENOTATIONAL SEMANTICS for MILa(N)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ation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the state spac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constru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.e. compositio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.e. set-theoretic unio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.e. rt-clos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: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p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: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p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UPD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p)) }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ondition holds i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5800" y="3406680"/>
            <a:ext cx="205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Great! We co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control flow proble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3141720"/>
            <a:ext cx="152640" cy="1079280"/>
          </a:xfrm>
          <a:custGeom>
            <a:avLst/>
            <a:gdLst>
              <a:gd name="textAreaLeft" fmla="*/ 0 w 152640"/>
              <a:gd name="textAreaRight" fmla="*/ 55080 w 1526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DENOTATIONAL SEMANTICS for MILa(N)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b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1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nput-output relation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state space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ation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ollowing program some parenthesis are omitte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x : int; var y : i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:=0 ; L((x*x)&lt;=y? ; x:=(x+1)) ; (x*x)&gt;y? ; x:=(x-1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grouping to the left it looks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x : int; var y : i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2736000" y="3034080"/>
            <a:ext cx="215640" cy="23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34840" y="414972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1978920" y="2781720"/>
            <a:ext cx="865080" cy="3311640"/>
          </a:xfrm>
          <a:custGeom>
            <a:avLst/>
            <a:gdLst>
              <a:gd name="textAreaLeft" fmla="*/ 552600 w 865080"/>
              <a:gd name="textAreaRight" fmla="*/ 865440 w 865080"/>
              <a:gd name="textAreaTop" fmla="*/ 86040 h 3311640"/>
              <a:gd name="textAreaBottom" fmla="*/ 3225600 h 33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20480" y="474984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2016000" y="2673360"/>
            <a:ext cx="2016000" cy="4679640"/>
          </a:xfrm>
          <a:custGeom>
            <a:avLst/>
            <a:gdLst>
              <a:gd name="textAreaLeft" fmla="*/ 1288080 w 2016000"/>
              <a:gd name="textAreaRight" fmla="*/ 2016360 w 2016000"/>
              <a:gd name="textAreaTop" fmla="*/ 122040 h 4679640"/>
              <a:gd name="textAreaBottom" fmla="*/ 4557600 h 46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96840" y="590076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4240" y="3646440"/>
            <a:ext cx="63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((x:=0 ; L((x*x)&lt;=y? ; x:=(x+1))) ; (x*x)&gt;y?) ; x:=(x-1)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6320" y="3379680"/>
            <a:ext cx="5364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o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o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2375640" y="2240280"/>
            <a:ext cx="2376360" cy="5905440"/>
          </a:xfrm>
          <a:custGeom>
            <a:avLst/>
            <a:gdLst>
              <a:gd name="textAreaLeft" fmla="*/ 1518120 w 2376360"/>
              <a:gd name="textAreaRight" fmla="*/ 2376720 w 2376360"/>
              <a:gd name="textAreaTop" fmla="*/ 153720 h 5905440"/>
              <a:gd name="textAreaBottom" fmla="*/ 5751720 h 590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55560" y="630864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ations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x : int; var y : int;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he state spac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{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(((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_</a:t>
            </a:r>
            <a:r>
              <a:rPr b="1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_</a:t>
            </a:r>
            <a:r>
              <a:rPr b="1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_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the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cc66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o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nsequent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cc3399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erato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execute the </a:t>
            </a: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cc00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erato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 with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perator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2050920" y="3068280"/>
            <a:ext cx="144720" cy="431640"/>
          </a:xfrm>
          <a:prstGeom prst="line">
            <a:avLst/>
          </a:prstGeom>
          <a:ln w="6480">
            <a:solidFill>
              <a:srgbClr val="cc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2410920" y="3068280"/>
            <a:ext cx="289080" cy="1152360"/>
          </a:xfrm>
          <a:prstGeom prst="line">
            <a:avLst/>
          </a:prstGeom>
          <a:ln w="648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2627280" y="3068280"/>
            <a:ext cx="936720" cy="1152360"/>
          </a:xfrm>
          <a:prstGeom prst="line">
            <a:avLst/>
          </a:prstGeom>
          <a:ln w="6480">
            <a:solidFill>
              <a:srgbClr val="cc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3203640" y="3068640"/>
            <a:ext cx="1512720" cy="1512720"/>
          </a:xfrm>
          <a:prstGeom prst="line">
            <a:avLst/>
          </a:prstGeom>
          <a:ln w="6480">
            <a:solidFill>
              <a:srgbClr val="cc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3564000" y="3068280"/>
            <a:ext cx="3024000" cy="187308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:=0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:=0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 (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}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x*x)&lt;=y?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x*x)&lt;=y?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{ (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&lt;=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:=(x+1)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:=(x+1)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{ (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}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x*x)&gt;y?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x*x)&gt;y?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{ (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&gt;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:=(x-1)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:=(x-1)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{ (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995640" y="1484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364000" y="1484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95640" y="1484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45080" y="32842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084720" y="32842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5080" y="3284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643280" y="5157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083280" y="5157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43280" y="51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ALGEBRA?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ll “algebra” every set of values equipped by a collec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s that can use these values as arguments. In particul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-sorted algebra is an algebra where the values, argument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of operations  are “classified” by their “kinds”, “types”, or “sorts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s of numeric data types, array and structure data type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rative languages matches well this  mathematical notion. Recal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s of the data typ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MILa(N) consists of integer numbers with standard arithmetic operation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s of an array typ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rray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ists of all functions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wo operations that deal with this type APL and UP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1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{(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&lt;=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                                               </a:t>
            </a:r>
            <a:r>
              <a:rPr b="1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(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{ (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&lt;=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}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{(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≤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{(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 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 (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+j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&gt;=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: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a+i)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&lt;=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1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{(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(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+j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&gt;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: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a+i)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&lt;=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{ (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&gt;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: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&lt;=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04920" y="4581360"/>
            <a:ext cx="2027880" cy="337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c! is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emp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j=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32720" y="4941720"/>
            <a:ext cx="0" cy="21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660720" y="5013360"/>
            <a:ext cx="142920" cy="431640"/>
          </a:xfrm>
          <a:custGeom>
            <a:avLst/>
            <a:gdLst>
              <a:gd name="textAreaLeft" fmla="*/ 91440 w 142920"/>
              <a:gd name="textAreaRight" fmla="*/ 143280 w 14292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1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{(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&gt;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: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&lt;=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(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&gt;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{(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 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&gt;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: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&lt;=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j+1)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&gt;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1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{(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&gt;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: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&lt;=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j+1)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&gt;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(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{(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 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&gt;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: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&lt;=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j+1)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&gt;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{(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&gt;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j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&lt;=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j+1)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&gt;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=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{(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[b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1/2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&gt;=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(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,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&lt;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x:int; var y:int; x:=0 ; L((x*x)&lt;=y? ; x:=(x+1)) ; (x*x)&gt;y? ; x:=(x-1)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input-output re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:=0 ; L((x*x)&lt;=y? ; x:=(x+1)) ; (x*x)&gt;y? ; x:=(x-1)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state space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x : int; var y : int;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binary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(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[b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1/2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≥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(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&lt;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×i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.e. the program calculates in the variabl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n integer approxi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square root of a value of the variabl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if the value is non-negative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-1 (otherwise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FOR DENOTATIONAL SEMAN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enotational semantics is perfect mathematical formalism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mperative programs with numerical and array types. This formalism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ased on algebraic interpretation of data and control. It provide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ound foundation for axiomatic semantics, for formal progr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pecification and computer-aided verifi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ecturer: Sorry, there is no room in the course COSC230 for lear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other semantics:-(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udents: Great, there is no room in the course COSC230 for lear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other semantics;-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yond model languag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a(N), ALGOL, C, and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reasons for the success with MILa(N) formal seman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preferred pure-mathematic conception for arrays as functions instead as pointe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discarded pointers, indirect access and aliases  as computer-dependent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assumptions are valid for model imperative languages lik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a(N). They were valid for a majority of imperative languages in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a of FORTRAN and ALGOL (1960-75). They were still accept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cations for many imperative languages in PASCAL and C 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object-oriented approach became popular (1975-90). But th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o much artificial for imperative languages in the object-oriented 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++ and J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IN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knows two kinds of types: primitive and the object 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of primitive types, can be represented and are stored in variables (named memory locations) directly, they are copied when assigned to other variabl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of object types have no representation (as a rule), they can not be stored directly in variables but references to objects are stored, these references are copied when assigned to other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st of primitive types is very short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y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algebraic model fits well all these typ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basic types of C;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IN JAVA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types include all user defined types, class and interface typ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standard Java library (ex.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Classes are template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, defining fields and methods. All variables that referenc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object are said to be aliases for this object. Arrays are obj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also, they have a reference semantics (i.e. have no form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s;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primitive type has a corresponding “wrapper” class that mak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ype a particular class. It enable to use values of primitive typ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ever values of object types are required. The list of wrapper typ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s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y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e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harac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algebraic model does not work for these types:-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S be a set. A binary relation (on S) is a collection (set) of pai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×S. Examples of sets with binary rel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ger numbers with standard (in)equality relations “_=_”, “_&gt;_”, “_&lt;_”, etc. (ex. _&lt;_ =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{ (a, b)</a:t>
            </a:r>
            <a:r>
              <a:rPr b="0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int×int : a &lt; b 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ery graph with vertexes (nodes) V and edges E is a set S=V with a binary relation R=E, ex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3800520"/>
            <a:ext cx="2559240" cy="2220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836680" y="3759120"/>
            <a:ext cx="801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ej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41680" y="3716280"/>
            <a:ext cx="880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26240" y="4387680"/>
            <a:ext cx="755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eg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33160" y="4819680"/>
            <a:ext cx="700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ls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93880" y="5467320"/>
            <a:ext cx="756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s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58240" y="5962680"/>
            <a:ext cx="756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6680" y="5396040"/>
            <a:ext cx="10159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wang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25040" y="4579920"/>
            <a:ext cx="936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ng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6" idx="2"/>
            <a:endCxn id="57" idx="0"/>
          </p:cNvCxnSpPr>
          <p:nvPr/>
        </p:nvCxnSpPr>
        <p:spPr>
          <a:xfrm flipH="1">
            <a:off x="7103520" y="4062240"/>
            <a:ext cx="478440" cy="326160"/>
          </a:xfrm>
          <a:prstGeom prst="straightConnector1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4" name=""/>
          <p:cNvCxnSpPr>
            <a:stCxn id="58" idx="1"/>
            <a:endCxn id="59" idx="0"/>
          </p:cNvCxnSpPr>
          <p:nvPr/>
        </p:nvCxnSpPr>
        <p:spPr>
          <a:xfrm flipH="1">
            <a:off x="7571520" y="4992840"/>
            <a:ext cx="156600" cy="475200"/>
          </a:xfrm>
          <a:prstGeom prst="straightConnector1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>
            <a:stCxn id="58" idx="1"/>
            <a:endCxn id="57" idx="2"/>
          </p:cNvCxnSpPr>
          <p:nvPr/>
        </p:nvCxnSpPr>
        <p:spPr>
          <a:xfrm flipH="1" flipV="1">
            <a:off x="7103520" y="4733280"/>
            <a:ext cx="624600" cy="259560"/>
          </a:xfrm>
          <a:prstGeom prst="straightConnector1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" name=""/>
          <p:cNvCxnSpPr/>
          <p:nvPr/>
        </p:nvCxnSpPr>
        <p:spPr>
          <a:xfrm>
            <a:off x="7090920" y="4724280"/>
            <a:ext cx="505800" cy="720000"/>
          </a:xfrm>
          <a:prstGeom prst="straightConnector1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" name=""/>
          <p:cNvCxnSpPr/>
          <p:nvPr/>
        </p:nvCxnSpPr>
        <p:spPr>
          <a:xfrm flipH="1">
            <a:off x="7019640" y="5803560"/>
            <a:ext cx="529200" cy="308520"/>
          </a:xfrm>
          <a:prstGeom prst="straightConnector1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" name=""/>
          <p:cNvCxnSpPr>
            <a:stCxn id="57" idx="2"/>
          </p:cNvCxnSpPr>
          <p:nvPr/>
        </p:nvCxnSpPr>
        <p:spPr>
          <a:xfrm flipH="1">
            <a:off x="6298920" y="4734000"/>
            <a:ext cx="805680" cy="676800"/>
          </a:xfrm>
          <a:prstGeom prst="straightConnector1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" name=""/>
          <p:cNvCxnSpPr>
            <a:stCxn id="60" idx="1"/>
          </p:cNvCxnSpPr>
          <p:nvPr/>
        </p:nvCxnSpPr>
        <p:spPr>
          <a:xfrm flipH="1" flipV="1">
            <a:off x="5814360" y="5732280"/>
            <a:ext cx="438840" cy="403920"/>
          </a:xfrm>
          <a:prstGeom prst="straightConnector1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" name=""/>
          <p:cNvCxnSpPr/>
          <p:nvPr/>
        </p:nvCxnSpPr>
        <p:spPr>
          <a:xfrm flipH="1" flipV="1">
            <a:off x="6252480" y="4113360"/>
            <a:ext cx="478440" cy="250920"/>
          </a:xfrm>
          <a:prstGeom prst="straightConnector1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>
            <a:endCxn id="62" idx="0"/>
          </p:cNvCxnSpPr>
          <p:nvPr/>
        </p:nvCxnSpPr>
        <p:spPr>
          <a:xfrm flipH="1">
            <a:off x="5693760" y="4109760"/>
            <a:ext cx="579960" cy="470520"/>
          </a:xfrm>
          <a:prstGeom prst="straightConnector1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2" name=""/>
          <p:cNvCxnSpPr/>
          <p:nvPr/>
        </p:nvCxnSpPr>
        <p:spPr>
          <a:xfrm>
            <a:off x="5722560" y="4940280"/>
            <a:ext cx="1080" cy="504000"/>
          </a:xfrm>
          <a:prstGeom prst="straightConnector1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3564000" y="3860640"/>
            <a:ext cx="1214280" cy="180036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v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ea sou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BINARY RELATIONS -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LGEBRA OF BINARY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ould like to consider binary relations on a set as an “algebra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, we should demonstrate that binary relations forms a set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some operations that are able to handl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the collection BR(S) of all binary relations on a set S is a set to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(S) = the Power Set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×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, since binary relations are sets (of pairs), then the set of bi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ations inherits set-theoretic operations like union, intersec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c. The union operation is the most important for 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 example, in inte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_&lt;_ U _=_ = “less then or equal”, 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_&lt;_ U _&gt;_ = “non-equal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human socie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_ is a son of _” U “_ is a daughter of _” = “_ is a child of _”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_ loves _” U “_ likes _” = “_ sympathizes to _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BINARY RELATIONS -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LGEBRA OF BINARY RELATION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“most wanted” operations on binary relation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omposition, 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lexive and transitive closur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S be a set,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×S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×S be binary relations on S.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osition of P and T is the following binary relation on 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) = {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(u, w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×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is som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 that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(u, v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 and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(v, w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 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lexive and transitive closure (rt-closu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S be a set and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×S be a binary relation on S. The rt-closur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 is the following binary relation on 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*) = (_=_) U (P) U (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) U (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) U (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) U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• • 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1507320" y="5909400"/>
            <a:ext cx="152640" cy="503280"/>
          </a:xfrm>
          <a:custGeom>
            <a:avLst/>
            <a:gdLst>
              <a:gd name="textAreaLeft" fmla="*/ 97560 w 152640"/>
              <a:gd name="textAreaRight" fmla="*/ 153000 w 152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2300040" y="6060600"/>
            <a:ext cx="152280" cy="216000"/>
          </a:xfrm>
          <a:custGeom>
            <a:avLst/>
            <a:gdLst>
              <a:gd name="textAreaLeft" fmla="*/ 97200 w 152280"/>
              <a:gd name="textAreaRight" fmla="*/ 152640 w 15228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3091680" y="5916960"/>
            <a:ext cx="152280" cy="503280"/>
          </a:xfrm>
          <a:custGeom>
            <a:avLst/>
            <a:gdLst>
              <a:gd name="textAreaLeft" fmla="*/ 97200 w 152280"/>
              <a:gd name="textAreaRight" fmla="*/ 152640 w 15228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4135320" y="5808240"/>
            <a:ext cx="152280" cy="72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5468760" y="5629320"/>
            <a:ext cx="223920" cy="1008000"/>
          </a:xfrm>
          <a:custGeom>
            <a:avLst/>
            <a:gdLst>
              <a:gd name="textAreaLeft" fmla="*/ 143280 w 223920"/>
              <a:gd name="textAreaRight" fmla="*/ 224280 w 2239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5840" y="6165720"/>
            <a:ext cx="65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-times   1-time   2-times       3-times            4-times   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• • 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BINARY RELATIONS -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LGEBRA OF BINARY RELATION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lgebra of binary relations on a set S comprises the set B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ll binary relations on S provided with three operatio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t-theoretic union “_U_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osition “_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t-closure “_*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refer this algebra as (BR(S), U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77058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at you have a set S of “civilized sites” around the  worl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885080" y="1622520"/>
            <a:ext cx="1038240" cy="1085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58760" y="2224080"/>
            <a:ext cx="58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list C of coach services between the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11280" y="2008080"/>
            <a:ext cx="1081080" cy="70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2400" y="3067200"/>
            <a:ext cx="499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list T of inter-city train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259240" y="2739960"/>
            <a:ext cx="1009800" cy="689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341400" y="30337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56440" y="3745080"/>
            <a:ext cx="644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complete list P of flights connecting these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11280" y="3429000"/>
            <a:ext cx="1081080" cy="727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2360" y="4681440"/>
            <a:ext cx="862380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se settings S is a set { sit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it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it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, and C, T and P al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binary relations on S. Each of C, T and P is a collection (a set) of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t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it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Every pair (sit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it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n C (in T or in P) means that there i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ch (a train or flight respectively) that carries from sit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it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20:37:47Z</dcterms:created>
  <dc:creator>Nicolai Shilov</dc:creator>
  <dc:description/>
  <dc:language>en-US</dc:language>
  <cp:lastModifiedBy>admin</cp:lastModifiedBy>
  <dcterms:modified xsi:type="dcterms:W3CDTF">2008-02-21T10:41:37Z</dcterms:modified>
  <cp:revision>359</cp:revision>
  <dc:subject/>
  <dc:title>Slide 1</dc:title>
</cp:coreProperties>
</file>