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1DF-A666-4B73-B13B-A5A403CE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57D-96C4-4B66-B663-56C1696C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C6A-E486-4FAE-9021-42E28FC2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328-0944-439C-8CD0-EF5174AD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86C-48E4-43E2-83FD-E806F51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41C-CC67-4CA3-8A19-90A43F10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7EE-ECD7-4021-A371-F8FE83DA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21B-14C4-48D0-A224-8EB0DDC4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90D-823A-4EE4-828E-3B09E822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312-5316-4960-8004-5EA72010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FE7-9F39-4515-AA5D-6A8335A1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3AD-81BD-4E40-8967-5BB0456E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DEFA-BEA5-4BB3-9149-2EB5D383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теор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6: Основы спецификации и верификации алгоритмов и программ: понятия частичной и тотальной корректности; метод доказательства частичной коррек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TERMINATION assertion  &lt;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ually term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PARTIAL correctness as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ually termin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final values of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ollows from our definitions that every total correctness as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is equivalent to conjun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sponding termination and partial correctness asser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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 words: if we would like to prove a total correctness we have to pr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ly the corresponding termination and partial correctnes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pecifications” is a nick name for the class of all termin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correctness and total correctness assertions. “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” is a  nick name for rigorous mathematical techniqu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that prove algorithm specifications. We can concentrate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of termination and partial correctness due to equiva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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t of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1; WHILE BxB &lt;= A DO B:= B+1; B:=B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 =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[sqrt(A)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condition is so simple that it can not be improved further.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st, the postcondition is too complicated in comparison wit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in the algorithm body, but they must match each 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done on the following way: 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qrt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ys for 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pproximation for real square root”, i.e. for an integer M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xM &lt;= N but (M+1)x(M+1)&gt;N. Thus the adequate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ecification should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1; WHILE BxB &lt;= A DO B:= B+1; B:=B-1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made some assumptions about pseudo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imperative pseudo code may exploit abstract data types, high order concrete data types and polyvariant control constr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 imperative pseudo code may use abstract data types without side effects and standardized structured control constructs; these data types and control construct must be easy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we are going to develop rigorous mathematical techniqu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that prove algorithm specifications. For it we have to ma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implification assumptions about pseudo code for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nd clarify what properties can be used in pre- and pos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 in specif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Ver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ata types are decidable and computable, i.e. it is possible to validate or refute every ground property of data and perform every ground data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lgorithms start with simultaneous input and finish with simultaneous output of variables of interest; there is no other input/output besides these very first input and very last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ssignments in algorithms are side-effect free, with monovariant (deterministic) well-defined expression in the right-hand side, presented by ground data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nditions in algorithms are side-effect free, presented by Boolean combinations of ground data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Ver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ides very first input and very last output, all algorithms are built from assignments and conditions by means of structured constr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” for sequenc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-THEN” and “IF-THEN-ELSE” for cho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-DO” for polyvariant loops over finite se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-DO” and “DO-UNTIL” for lo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 and post- conditions are built from ground data properties by means of standard Boolean connectives “NOT”, “AND”, “OR” and quantification “FOR ALL” and “FOR SO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for Partial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should be a property that holds every time when control flow p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control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Invariant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are built similarly to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pr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po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conditio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Invariant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pr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po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conditio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altogether are called </a:t>
            </a:r>
            <a:r>
              <a:rPr b="0" i="1" lang="en-US" sz="1400" spc="-1" strike="noStrike">
                <a:solidFill>
                  <a:srgbClr val="009999"/>
                </a:solidFill>
                <a:latin typeface="Arial"/>
              </a:rPr>
              <a:t>annotation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/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98160" y="2106720"/>
            <a:ext cx="1302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17938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43640" y="2276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75360" y="3114720"/>
            <a:ext cx="1014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27813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95640" y="3284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44000" y="4508640"/>
            <a:ext cx="144360" cy="115236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607240" y="4521240"/>
            <a:ext cx="279720" cy="10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8836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1 (pre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1622520"/>
            <a:ext cx="50767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pu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ssertion 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epres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fi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 set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520" y="2349360"/>
            <a:ext cx="3292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:=1; WHILE BxB &lt;= A DO B:= B+1; B:=B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6080" y="48546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9520" y="583236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522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70480" y="4307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7040" y="583236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52434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122120" y="60357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93040" y="581832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1280" y="64674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94480" y="5746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2000" y="5746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9040" y="60357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120" y="5530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5530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2240" y="6178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82720" y="32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69080" y="4840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72880" y="581832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7076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0400" y="581832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70760" y="522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13548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6040" y="580392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61800" y="64533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07840" y="5732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05360" y="57326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02400" y="602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75480" y="551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75480" y="55166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445600" y="616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440" y="4307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27320" y="522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11800" y="53737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445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8360" y="6524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1 (annot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37120" y="1628640"/>
            <a:ext cx="4530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ssig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ssig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ssig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ppropriat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37600" y="3616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41040" y="459432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3892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8560" y="459432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38920" y="400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90364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4560" y="457992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30320" y="52293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6000" y="4508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73520" y="45086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70920" y="479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543640" y="429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43640" y="42926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13760" y="494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61600" y="3083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8520" y="40179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881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8816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5652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520" y="2635200"/>
            <a:ext cx="3292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:=1; WHILE BxB &lt;= A DO B:= B+1; B:=B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11600" y="308304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38720" y="5241960"/>
            <a:ext cx="21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46600" y="6040440"/>
            <a:ext cx="548892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ould be a property that holds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ime when control flow pass the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12880" y="391788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16680" y="489600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14560" y="35863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4200" y="489600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4560" y="43070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079280" y="50990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9840" y="488160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05600" y="55306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51640" y="4809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49160" y="48099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6200" y="50990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19280" y="4594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9280" y="459432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89400" y="5241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37240" y="33847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5600" y="44514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63800" y="34434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63800" y="45226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32160" y="56023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5640" y="2637000"/>
            <a:ext cx="297000" cy="3168360"/>
          </a:xfrm>
          <a:custGeom>
            <a:avLst/>
            <a:gdLst>
              <a:gd name="textAreaLeft" fmla="*/ 0 w 297000"/>
              <a:gd name="textAreaRight" fmla="*/ 107280 w 29700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95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s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sign a program that inputs positive integer number 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utputs the best lower integer approximation for real square ro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qrt(N) (i.e. [sqrt(N)]). Your design can use addition and subtra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ultiplication and division, standard (in)equality rela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ugg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A; B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BxB &lt;= A DO B:= B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B-1; output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1 (prov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752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very pai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6080" y="353052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59520" y="450864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31989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7040" y="450864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9196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122120" y="47116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93040" y="449424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48800" y="51436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94480" y="44226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2000" y="44226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89040" y="47116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2120" y="4206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20696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4854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80080" y="2997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97000" y="39322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06640" y="30560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06640" y="41353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5000" y="52149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299736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57200" y="5156280"/>
            <a:ext cx="21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40360" y="4048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420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128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91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256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65680" y="494172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82120" y="304308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38760" y="3571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0960" y="30430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118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11080" y="407664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1184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78400" y="479736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64320" y="5518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5600" y="5157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34040" y="57340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65040" y="4400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80280" y="35463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02480" y="30178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53360" y="3691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52240" y="405144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53360" y="441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20280" y="477216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05840" y="54928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277120" y="5132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86360" y="570852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206920" y="437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1280" y="402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very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1 (proving, 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2752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68720" y="4048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00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9056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3680" y="494172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10120" y="304308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80080" y="33098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01920" y="27813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53160" y="3454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252040" y="381492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53160" y="4175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19360" y="453564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05640" y="5256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76920" y="4896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75000" y="547200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97360" y="4135320"/>
            <a:ext cx="10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63160" y="570708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99680" y="508644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89520" y="5180040"/>
            <a:ext cx="152280" cy="338040"/>
          </a:xfrm>
          <a:custGeom>
            <a:avLst/>
            <a:gdLst>
              <a:gd name="textAreaLeft" fmla="*/ 0 w 152280"/>
              <a:gd name="textAreaRight" fmla="*/ 55080 w 152280"/>
              <a:gd name="textAreaTop" fmla="*/ 8640 h 338040"/>
              <a:gd name="textAreaBottom" fmla="*/ 329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32440" y="5327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09280" y="456732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9080" y="4076640"/>
            <a:ext cx="103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60800" y="4197240"/>
            <a:ext cx="152640" cy="338400"/>
          </a:xfrm>
          <a:custGeom>
            <a:avLst/>
            <a:gdLst>
              <a:gd name="textAreaLeft" fmla="*/ 0 w 152640"/>
              <a:gd name="textAreaRight" fmla="*/ 55080 w 152640"/>
              <a:gd name="textAreaTop" fmla="*/ 8640 h 338400"/>
              <a:gd name="textAreaBottom" fmla="*/ 3297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3720" y="43448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4880" y="519732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-1)x(M-1)&lt;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4880" y="424656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-1)x(M-1)&lt;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70040" y="5985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17640" y="4653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1 (proving, 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2752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52560" y="33098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74760" y="27813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25640" y="3454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24880" y="381492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25640" y="4175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920" y="453564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8120" y="5256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400" y="4896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58640" y="547200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70560" y="413532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48400" y="508644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5180040"/>
            <a:ext cx="152640" cy="338040"/>
          </a:xfrm>
          <a:custGeom>
            <a:avLst/>
            <a:gdLst>
              <a:gd name="textAreaLeft" fmla="*/ 0 w 152640"/>
              <a:gd name="textAreaRight" fmla="*/ 55080 w 152640"/>
              <a:gd name="textAreaTop" fmla="*/ 8640 h 338040"/>
              <a:gd name="textAreaBottom" fmla="*/ 329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81160" y="5327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58000" y="456732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7800" y="407664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09880" y="4197240"/>
            <a:ext cx="152280" cy="338400"/>
          </a:xfrm>
          <a:custGeom>
            <a:avLst/>
            <a:gdLst>
              <a:gd name="textAreaLeft" fmla="*/ 0 w 152280"/>
              <a:gd name="textAreaRight" fmla="*/ 55080 w 152280"/>
              <a:gd name="textAreaTop" fmla="*/ 8640 h 338400"/>
              <a:gd name="textAreaBottom" fmla="*/ 3297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52800" y="43448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58000" y="37749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17800" y="3311640"/>
            <a:ext cx="107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9880" y="3405240"/>
            <a:ext cx="152280" cy="338040"/>
          </a:xfrm>
          <a:custGeom>
            <a:avLst/>
            <a:gdLst>
              <a:gd name="textAreaLeft" fmla="*/ 0 w 152280"/>
              <a:gd name="textAreaRight" fmla="*/ 55080 w 152280"/>
              <a:gd name="textAreaTop" fmla="*/ 8640 h 338040"/>
              <a:gd name="textAreaBottom" fmla="*/ 329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52800" y="35528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53360" y="508464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xM&lt;=N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+1)x(M+1)&gt;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3000" y="3402000"/>
            <a:ext cx="8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xM&lt;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65960" y="400536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xM&lt;=N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+1)x(M+1)&gt;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329280" y="331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22000" y="3789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000" y="45086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71320" y="6272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92600" y="5084640"/>
            <a:ext cx="3292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:=1; WHILE BxB &lt;= A DO B:= B+1; B:=B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9051800">
            <a:off x="6443280" y="5157360"/>
            <a:ext cx="1584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51640" y="42076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1920 h 733320"/>
              <a:gd name="textAreaBottom" fmla="*/ 6278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2 (mistake in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27600" y="1622520"/>
            <a:ext cx="50684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840" y="2349360"/>
            <a:ext cx="26604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:=1; WHILE BxB  &lt; A DO B:= B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56080" y="48546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59520" y="583236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226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70480" y="4307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7040" y="583236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52434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122120" y="60357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29600" y="58910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94480" y="5746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3080" y="5746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6035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62120" y="5530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530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82720" y="3213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69080" y="4840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72520" y="581832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7076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70400" y="581832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70760" y="522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13548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63560" y="58770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207840" y="5732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82960" y="57326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80360" y="602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775480" y="551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75480" y="55166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093440" y="4307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27320" y="522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111800" y="53737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20000" y="4365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0000" y="5445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89760" y="59482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5200" y="1484280"/>
            <a:ext cx="1557000" cy="459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&lt;” instead of “&lt;=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emoved “B;=B-1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16000" y="1989000"/>
            <a:ext cx="576360" cy="3603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63920" y="1125360"/>
            <a:ext cx="979200" cy="824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efu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put A=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[sqrt(3)]=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utput B=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411280" y="1988640"/>
            <a:ext cx="648000" cy="35892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2 (mistake in algorithm, 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37120" y="1628640"/>
            <a:ext cx="4530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37600" y="3616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41040" y="459432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3892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038560" y="459432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38920" y="4005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90364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07240" y="443700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76000" y="4508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66960" y="45086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164360" y="479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543640" y="429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3640" y="42926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61600" y="3083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78520" y="40179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88160" y="3141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88160" y="42210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34160" y="47242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" y="2635200"/>
            <a:ext cx="26175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:=1; WHILE BxB &lt; A DO B:= B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11600" y="308304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46600" y="6040440"/>
            <a:ext cx="5488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uld be a property that holds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when control flow pass the contro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12880" y="391788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16320" y="489600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14560" y="35863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4200" y="489600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4560" y="43070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079280" y="50990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83600" y="49417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51640" y="4809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42600" y="48099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40000" y="50990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19280" y="4594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9280" y="459432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37240" y="33847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55600" y="44514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63800" y="34434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63800" y="45226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09800" y="5013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95640" y="2637000"/>
            <a:ext cx="297000" cy="3168360"/>
          </a:xfrm>
          <a:custGeom>
            <a:avLst/>
            <a:gdLst>
              <a:gd name="textAreaLeft" fmla="*/ 0 w 297000"/>
              <a:gd name="textAreaRight" fmla="*/ 107280 w 297000"/>
              <a:gd name="textAreaTop" fmla="*/ 82440 h 3168360"/>
              <a:gd name="textAreaBottom" fmla="*/ 30859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27640" y="3951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2 (mistake in algorithm, 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2752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040360" y="4048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420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128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91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6256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65680" y="494172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82120" y="304308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638760" y="3571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0960" y="30430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118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06120" y="407664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1184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78400" y="479736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64320" y="5518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35600" y="5157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34040" y="57340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65040" y="4400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80280" y="35463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02480" y="30178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53360" y="3691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861680" y="405144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53360" y="441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17884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59360" y="494028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06920" y="4375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51280" y="402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84440" y="376884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87880" y="474660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86120" y="3436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5400" y="474660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86120" y="41576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050840" y="4950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33560" y="458964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23200" y="4660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393280" y="46609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90680" y="4950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90480" y="4444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0480" y="444492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08800" y="3235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025360" y="417024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935000" y="3294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935000" y="4373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760840" y="4876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58440" y="323532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2 (mistake in algorithm, 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2752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68720" y="404820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7004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1928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90560" y="436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093680" y="494172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10120" y="304308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80080" y="33098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01920" y="27813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53160" y="3454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2400" y="381492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53160" y="4175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19360" y="453564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05640" y="5256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76920" y="4896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75000" y="547200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97360" y="4135320"/>
            <a:ext cx="10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63160" y="570708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099680" y="508644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89520" y="5180040"/>
            <a:ext cx="152280" cy="338040"/>
          </a:xfrm>
          <a:custGeom>
            <a:avLst/>
            <a:gdLst>
              <a:gd name="textAreaLeft" fmla="*/ 0 w 152280"/>
              <a:gd name="textAreaRight" fmla="*/ 55080 w 152280"/>
              <a:gd name="textAreaTop" fmla="*/ 8640 h 338040"/>
              <a:gd name="textAreaBottom" fmla="*/ 329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32440" y="5327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09280" y="456732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69080" y="4076640"/>
            <a:ext cx="103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60800" y="4197240"/>
            <a:ext cx="152640" cy="338400"/>
          </a:xfrm>
          <a:custGeom>
            <a:avLst/>
            <a:gdLst>
              <a:gd name="textAreaLeft" fmla="*/ 0 w 152640"/>
              <a:gd name="textAreaRight" fmla="*/ 55080 w 152640"/>
              <a:gd name="textAreaTop" fmla="*/ 8640 h 338400"/>
              <a:gd name="textAreaBottom" fmla="*/ 329760 h 3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03720" y="43448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34880" y="519732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-1)x(M-1)&lt;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34880" y="424656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-1)x(M-1)&lt;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70040" y="5985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17640" y="4653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Example 2 (mistake in algorithm, 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2752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22680" y="33098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44880" y="27813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95760" y="3454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89680" y="3814920"/>
            <a:ext cx="808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95760" y="4175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05400" y="4535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85920" y="475128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40320" y="413532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75680" y="436572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65520" y="4459320"/>
            <a:ext cx="152280" cy="338040"/>
          </a:xfrm>
          <a:custGeom>
            <a:avLst/>
            <a:gdLst>
              <a:gd name="textAreaLeft" fmla="*/ 0 w 152280"/>
              <a:gd name="textAreaRight" fmla="*/ 55080 w 152280"/>
              <a:gd name="textAreaTop" fmla="*/ 8640 h 338040"/>
              <a:gd name="textAreaBottom" fmla="*/ 329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8440" y="46069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28120" y="37749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888280" y="331164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=N, B=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99000" y="3405240"/>
            <a:ext cx="152280" cy="338040"/>
          </a:xfrm>
          <a:custGeom>
            <a:avLst/>
            <a:gdLst>
              <a:gd name="textAreaLeft" fmla="*/ 0 w 152280"/>
              <a:gd name="textAreaRight" fmla="*/ 55080 w 152280"/>
              <a:gd name="textAreaTop" fmla="*/ 8640 h 338040"/>
              <a:gd name="textAreaBottom" fmla="*/ 329400 h 33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851280" y="3552480"/>
            <a:ext cx="72072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36080" y="4916520"/>
            <a:ext cx="126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xM&lt;=N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+1)x(M+1)&gt;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523480" y="34020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-1)x(M-1)&lt;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36440" y="400536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-1)x(M-1)&lt;=N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xM&gt;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99400" y="3319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891760" y="3789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77560" y="5589720"/>
            <a:ext cx="1340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45164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164360" y="3500280"/>
            <a:ext cx="1655640" cy="1584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7235640" y="3284640"/>
            <a:ext cx="1439640" cy="1657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69400" y="5229360"/>
            <a:ext cx="1680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8000" y="45086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6000" y="4508640"/>
            <a:ext cx="57636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940360" y="4437000"/>
            <a:ext cx="216000" cy="43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partial correctness asser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yd-Hoare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s for this asser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ertion is va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 partial correctness assertion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loyd-Hoare Method termin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to demonstrate the validity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ertion, i.e.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ually termin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final values of variab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onvince ourselves  that this low-level pseudo code comp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[sqrt(N)] for all valid input values N? First let us try “extensive”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matching is perfect, bu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test suites prove that in the listed cases the algorithm 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rrectly. Testing can not prove that the algorithm works correctl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finite set of valid input data (exhaustive testing is impossibl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oreover we have doubts about how “extensive” the testing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2478240"/>
          <a:ext cx="4248000" cy="1455480"/>
        </p:xfrm>
        <a:graphic>
          <a:graphicData uri="http://schemas.openxmlformats.org/drawingml/2006/table">
            <a:tbl>
              <a:tblPr/>
              <a:tblGrid>
                <a:gridCol w="1567440"/>
                <a:gridCol w="446400"/>
                <a:gridCol w="447840"/>
                <a:gridCol w="444960"/>
                <a:gridCol w="447480"/>
                <a:gridCol w="446400"/>
                <a:gridCol w="44748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ed resu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out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547600" y="2698920"/>
            <a:ext cx="26938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VAR A, B : integer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put A; B:=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HILE BxB &lt;= A DO B:= B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:=B-1; output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values of variables. There ar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on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inates                                                                         for this initial 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terminate                                                                         for this initi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cond case there is nothing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: the assertion is valid. In the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we have a finite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60400" y="5292720"/>
            <a:ext cx="7207200" cy="912960"/>
          </a:xfrm>
          <a:custGeom>
            <a:avLst/>
            <a:gdLst/>
            <a:ahLst/>
            <a:rect l="l" t="t" r="r" b="b"/>
            <a:pathLst>
              <a:path w="4540" h="575">
                <a:moveTo>
                  <a:pt x="0" y="291"/>
                </a:moveTo>
                <a:cubicBezTo>
                  <a:pt x="13" y="253"/>
                  <a:pt x="28" y="248"/>
                  <a:pt x="61" y="230"/>
                </a:cubicBezTo>
                <a:cubicBezTo>
                  <a:pt x="102" y="207"/>
                  <a:pt x="106" y="201"/>
                  <a:pt x="149" y="190"/>
                </a:cubicBezTo>
                <a:cubicBezTo>
                  <a:pt x="217" y="194"/>
                  <a:pt x="281" y="193"/>
                  <a:pt x="346" y="210"/>
                </a:cubicBezTo>
                <a:cubicBezTo>
                  <a:pt x="385" y="220"/>
                  <a:pt x="415" y="252"/>
                  <a:pt x="454" y="264"/>
                </a:cubicBezTo>
                <a:cubicBezTo>
                  <a:pt x="491" y="290"/>
                  <a:pt x="534" y="314"/>
                  <a:pt x="576" y="332"/>
                </a:cubicBezTo>
                <a:cubicBezTo>
                  <a:pt x="608" y="346"/>
                  <a:pt x="596" y="332"/>
                  <a:pt x="624" y="346"/>
                </a:cubicBezTo>
                <a:cubicBezTo>
                  <a:pt x="720" y="393"/>
                  <a:pt x="820" y="418"/>
                  <a:pt x="928" y="427"/>
                </a:cubicBezTo>
                <a:cubicBezTo>
                  <a:pt x="962" y="422"/>
                  <a:pt x="986" y="416"/>
                  <a:pt x="1017" y="407"/>
                </a:cubicBezTo>
                <a:cubicBezTo>
                  <a:pt x="1108" y="345"/>
                  <a:pt x="1181" y="259"/>
                  <a:pt x="1261" y="183"/>
                </a:cubicBezTo>
                <a:cubicBezTo>
                  <a:pt x="1293" y="153"/>
                  <a:pt x="1318" y="114"/>
                  <a:pt x="1355" y="88"/>
                </a:cubicBezTo>
                <a:cubicBezTo>
                  <a:pt x="1376" y="58"/>
                  <a:pt x="1401" y="53"/>
                  <a:pt x="1430" y="34"/>
                </a:cubicBezTo>
                <a:cubicBezTo>
                  <a:pt x="1478" y="38"/>
                  <a:pt x="1505" y="36"/>
                  <a:pt x="1545" y="47"/>
                </a:cubicBezTo>
                <a:cubicBezTo>
                  <a:pt x="1570" y="54"/>
                  <a:pt x="1587" y="68"/>
                  <a:pt x="1613" y="75"/>
                </a:cubicBezTo>
                <a:cubicBezTo>
                  <a:pt x="1648" y="98"/>
                  <a:pt x="1661" y="98"/>
                  <a:pt x="1687" y="136"/>
                </a:cubicBezTo>
                <a:cubicBezTo>
                  <a:pt x="1696" y="150"/>
                  <a:pt x="1715" y="176"/>
                  <a:pt x="1715" y="176"/>
                </a:cubicBezTo>
                <a:cubicBezTo>
                  <a:pt x="1722" y="199"/>
                  <a:pt x="1736" y="214"/>
                  <a:pt x="1742" y="237"/>
                </a:cubicBezTo>
                <a:cubicBezTo>
                  <a:pt x="1775" y="356"/>
                  <a:pt x="1814" y="493"/>
                  <a:pt x="1925" y="562"/>
                </a:cubicBezTo>
                <a:cubicBezTo>
                  <a:pt x="2018" y="558"/>
                  <a:pt x="2048" y="575"/>
                  <a:pt x="2108" y="535"/>
                </a:cubicBezTo>
                <a:cubicBezTo>
                  <a:pt x="2173" y="439"/>
                  <a:pt x="2152" y="320"/>
                  <a:pt x="2196" y="217"/>
                </a:cubicBezTo>
                <a:cubicBezTo>
                  <a:pt x="2211" y="181"/>
                  <a:pt x="2217" y="150"/>
                  <a:pt x="2250" y="129"/>
                </a:cubicBezTo>
                <a:cubicBezTo>
                  <a:pt x="2270" y="87"/>
                  <a:pt x="2327" y="54"/>
                  <a:pt x="2372" y="41"/>
                </a:cubicBezTo>
                <a:cubicBezTo>
                  <a:pt x="2410" y="12"/>
                  <a:pt x="2454" y="7"/>
                  <a:pt x="2501" y="0"/>
                </a:cubicBezTo>
                <a:cubicBezTo>
                  <a:pt x="2594" y="9"/>
                  <a:pt x="2711" y="15"/>
                  <a:pt x="2785" y="81"/>
                </a:cubicBezTo>
                <a:cubicBezTo>
                  <a:pt x="2812" y="105"/>
                  <a:pt x="2859" y="155"/>
                  <a:pt x="2880" y="183"/>
                </a:cubicBezTo>
                <a:cubicBezTo>
                  <a:pt x="2919" y="237"/>
                  <a:pt x="2898" y="219"/>
                  <a:pt x="2934" y="244"/>
                </a:cubicBezTo>
                <a:cubicBezTo>
                  <a:pt x="2939" y="251"/>
                  <a:pt x="2942" y="258"/>
                  <a:pt x="2948" y="264"/>
                </a:cubicBezTo>
                <a:cubicBezTo>
                  <a:pt x="2954" y="270"/>
                  <a:pt x="2963" y="272"/>
                  <a:pt x="2968" y="278"/>
                </a:cubicBezTo>
                <a:cubicBezTo>
                  <a:pt x="3005" y="325"/>
                  <a:pt x="2937" y="272"/>
                  <a:pt x="2995" y="312"/>
                </a:cubicBezTo>
                <a:cubicBezTo>
                  <a:pt x="3011" y="335"/>
                  <a:pt x="3022" y="344"/>
                  <a:pt x="3050" y="352"/>
                </a:cubicBezTo>
                <a:cubicBezTo>
                  <a:pt x="3080" y="373"/>
                  <a:pt x="3109" y="385"/>
                  <a:pt x="3144" y="393"/>
                </a:cubicBezTo>
                <a:cubicBezTo>
                  <a:pt x="3167" y="398"/>
                  <a:pt x="3212" y="407"/>
                  <a:pt x="3212" y="407"/>
                </a:cubicBezTo>
                <a:cubicBezTo>
                  <a:pt x="3299" y="403"/>
                  <a:pt x="3347" y="402"/>
                  <a:pt x="3422" y="380"/>
                </a:cubicBezTo>
                <a:cubicBezTo>
                  <a:pt x="3427" y="373"/>
                  <a:pt x="3430" y="365"/>
                  <a:pt x="3436" y="359"/>
                </a:cubicBezTo>
                <a:cubicBezTo>
                  <a:pt x="3448" y="345"/>
                  <a:pt x="3465" y="335"/>
                  <a:pt x="3476" y="319"/>
                </a:cubicBezTo>
                <a:cubicBezTo>
                  <a:pt x="3497" y="288"/>
                  <a:pt x="3508" y="264"/>
                  <a:pt x="3544" y="251"/>
                </a:cubicBezTo>
                <a:cubicBezTo>
                  <a:pt x="3576" y="203"/>
                  <a:pt x="3672" y="180"/>
                  <a:pt x="3727" y="163"/>
                </a:cubicBezTo>
                <a:cubicBezTo>
                  <a:pt x="3812" y="169"/>
                  <a:pt x="3849" y="182"/>
                  <a:pt x="3924" y="203"/>
                </a:cubicBezTo>
                <a:cubicBezTo>
                  <a:pt x="3973" y="238"/>
                  <a:pt x="4041" y="249"/>
                  <a:pt x="4100" y="258"/>
                </a:cubicBezTo>
                <a:cubicBezTo>
                  <a:pt x="4172" y="246"/>
                  <a:pt x="4237" y="214"/>
                  <a:pt x="4310" y="203"/>
                </a:cubicBezTo>
                <a:cubicBezTo>
                  <a:pt x="4383" y="181"/>
                  <a:pt x="4465" y="197"/>
                  <a:pt x="4540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0360" y="56610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022240" y="54594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rocessing of FHM introduces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notating supplies them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ari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he finite computation to pea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are executions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60400" y="5292720"/>
            <a:ext cx="7207200" cy="912960"/>
          </a:xfrm>
          <a:custGeom>
            <a:avLst/>
            <a:gdLst/>
            <a:ahLst/>
            <a:rect l="l" t="t" r="r" b="b"/>
            <a:pathLst>
              <a:path w="4540" h="575">
                <a:moveTo>
                  <a:pt x="0" y="291"/>
                </a:moveTo>
                <a:cubicBezTo>
                  <a:pt x="13" y="253"/>
                  <a:pt x="28" y="248"/>
                  <a:pt x="61" y="230"/>
                </a:cubicBezTo>
                <a:cubicBezTo>
                  <a:pt x="102" y="207"/>
                  <a:pt x="106" y="201"/>
                  <a:pt x="149" y="190"/>
                </a:cubicBezTo>
                <a:cubicBezTo>
                  <a:pt x="217" y="194"/>
                  <a:pt x="281" y="193"/>
                  <a:pt x="346" y="210"/>
                </a:cubicBezTo>
                <a:cubicBezTo>
                  <a:pt x="385" y="220"/>
                  <a:pt x="415" y="252"/>
                  <a:pt x="454" y="264"/>
                </a:cubicBezTo>
                <a:cubicBezTo>
                  <a:pt x="491" y="290"/>
                  <a:pt x="534" y="314"/>
                  <a:pt x="576" y="332"/>
                </a:cubicBezTo>
                <a:cubicBezTo>
                  <a:pt x="608" y="346"/>
                  <a:pt x="596" y="332"/>
                  <a:pt x="624" y="346"/>
                </a:cubicBezTo>
                <a:cubicBezTo>
                  <a:pt x="720" y="393"/>
                  <a:pt x="820" y="418"/>
                  <a:pt x="928" y="427"/>
                </a:cubicBezTo>
                <a:cubicBezTo>
                  <a:pt x="962" y="422"/>
                  <a:pt x="986" y="416"/>
                  <a:pt x="1017" y="407"/>
                </a:cubicBezTo>
                <a:cubicBezTo>
                  <a:pt x="1108" y="345"/>
                  <a:pt x="1181" y="259"/>
                  <a:pt x="1261" y="183"/>
                </a:cubicBezTo>
                <a:cubicBezTo>
                  <a:pt x="1293" y="153"/>
                  <a:pt x="1318" y="114"/>
                  <a:pt x="1355" y="88"/>
                </a:cubicBezTo>
                <a:cubicBezTo>
                  <a:pt x="1376" y="58"/>
                  <a:pt x="1401" y="53"/>
                  <a:pt x="1430" y="34"/>
                </a:cubicBezTo>
                <a:cubicBezTo>
                  <a:pt x="1478" y="38"/>
                  <a:pt x="1505" y="36"/>
                  <a:pt x="1545" y="47"/>
                </a:cubicBezTo>
                <a:cubicBezTo>
                  <a:pt x="1570" y="54"/>
                  <a:pt x="1587" y="68"/>
                  <a:pt x="1613" y="75"/>
                </a:cubicBezTo>
                <a:cubicBezTo>
                  <a:pt x="1648" y="98"/>
                  <a:pt x="1661" y="98"/>
                  <a:pt x="1687" y="136"/>
                </a:cubicBezTo>
                <a:cubicBezTo>
                  <a:pt x="1696" y="150"/>
                  <a:pt x="1715" y="176"/>
                  <a:pt x="1715" y="176"/>
                </a:cubicBezTo>
                <a:cubicBezTo>
                  <a:pt x="1722" y="199"/>
                  <a:pt x="1736" y="214"/>
                  <a:pt x="1742" y="237"/>
                </a:cubicBezTo>
                <a:cubicBezTo>
                  <a:pt x="1775" y="356"/>
                  <a:pt x="1814" y="493"/>
                  <a:pt x="1925" y="562"/>
                </a:cubicBezTo>
                <a:cubicBezTo>
                  <a:pt x="2018" y="558"/>
                  <a:pt x="2048" y="575"/>
                  <a:pt x="2108" y="535"/>
                </a:cubicBezTo>
                <a:cubicBezTo>
                  <a:pt x="2173" y="439"/>
                  <a:pt x="2152" y="320"/>
                  <a:pt x="2196" y="217"/>
                </a:cubicBezTo>
                <a:cubicBezTo>
                  <a:pt x="2211" y="181"/>
                  <a:pt x="2217" y="150"/>
                  <a:pt x="2250" y="129"/>
                </a:cubicBezTo>
                <a:cubicBezTo>
                  <a:pt x="2270" y="87"/>
                  <a:pt x="2327" y="54"/>
                  <a:pt x="2372" y="41"/>
                </a:cubicBezTo>
                <a:cubicBezTo>
                  <a:pt x="2410" y="12"/>
                  <a:pt x="2454" y="7"/>
                  <a:pt x="2501" y="0"/>
                </a:cubicBezTo>
                <a:cubicBezTo>
                  <a:pt x="2594" y="9"/>
                  <a:pt x="2711" y="15"/>
                  <a:pt x="2785" y="81"/>
                </a:cubicBezTo>
                <a:cubicBezTo>
                  <a:pt x="2812" y="105"/>
                  <a:pt x="2859" y="155"/>
                  <a:pt x="2880" y="183"/>
                </a:cubicBezTo>
                <a:cubicBezTo>
                  <a:pt x="2919" y="237"/>
                  <a:pt x="2898" y="219"/>
                  <a:pt x="2934" y="244"/>
                </a:cubicBezTo>
                <a:cubicBezTo>
                  <a:pt x="2939" y="251"/>
                  <a:pt x="2942" y="258"/>
                  <a:pt x="2948" y="264"/>
                </a:cubicBezTo>
                <a:cubicBezTo>
                  <a:pt x="2954" y="270"/>
                  <a:pt x="2963" y="272"/>
                  <a:pt x="2968" y="278"/>
                </a:cubicBezTo>
                <a:cubicBezTo>
                  <a:pt x="3005" y="325"/>
                  <a:pt x="2937" y="272"/>
                  <a:pt x="2995" y="312"/>
                </a:cubicBezTo>
                <a:cubicBezTo>
                  <a:pt x="3011" y="335"/>
                  <a:pt x="3022" y="344"/>
                  <a:pt x="3050" y="352"/>
                </a:cubicBezTo>
                <a:cubicBezTo>
                  <a:pt x="3080" y="373"/>
                  <a:pt x="3109" y="385"/>
                  <a:pt x="3144" y="393"/>
                </a:cubicBezTo>
                <a:cubicBezTo>
                  <a:pt x="3167" y="398"/>
                  <a:pt x="3212" y="407"/>
                  <a:pt x="3212" y="407"/>
                </a:cubicBezTo>
                <a:cubicBezTo>
                  <a:pt x="3299" y="403"/>
                  <a:pt x="3347" y="402"/>
                  <a:pt x="3422" y="380"/>
                </a:cubicBezTo>
                <a:cubicBezTo>
                  <a:pt x="3427" y="373"/>
                  <a:pt x="3430" y="365"/>
                  <a:pt x="3436" y="359"/>
                </a:cubicBezTo>
                <a:cubicBezTo>
                  <a:pt x="3448" y="345"/>
                  <a:pt x="3465" y="335"/>
                  <a:pt x="3476" y="319"/>
                </a:cubicBezTo>
                <a:cubicBezTo>
                  <a:pt x="3497" y="288"/>
                  <a:pt x="3508" y="264"/>
                  <a:pt x="3544" y="251"/>
                </a:cubicBezTo>
                <a:cubicBezTo>
                  <a:pt x="3576" y="203"/>
                  <a:pt x="3672" y="180"/>
                  <a:pt x="3727" y="163"/>
                </a:cubicBezTo>
                <a:cubicBezTo>
                  <a:pt x="3812" y="169"/>
                  <a:pt x="3849" y="182"/>
                  <a:pt x="3924" y="203"/>
                </a:cubicBezTo>
                <a:cubicBezTo>
                  <a:pt x="3973" y="238"/>
                  <a:pt x="4041" y="249"/>
                  <a:pt x="4100" y="258"/>
                </a:cubicBezTo>
                <a:cubicBezTo>
                  <a:pt x="4172" y="246"/>
                  <a:pt x="4237" y="214"/>
                  <a:pt x="4310" y="203"/>
                </a:cubicBezTo>
                <a:cubicBezTo>
                  <a:pt x="4383" y="181"/>
                  <a:pt x="4465" y="197"/>
                  <a:pt x="4540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3440" y="57340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5640" y="566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90160" y="558972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9440" y="551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36280" y="595008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8480" y="587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2000" y="616572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94200" y="609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441400" y="592452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938920" y="58514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669760" y="486900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32000" y="5300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84000" y="479736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4660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08640" y="50133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62600" y="544500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FHM succeeded fro the asser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is k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before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after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60400" y="5292720"/>
            <a:ext cx="7207200" cy="912960"/>
          </a:xfrm>
          <a:custGeom>
            <a:avLst/>
            <a:gdLst/>
            <a:ahLst/>
            <a:rect l="l" t="t" r="r" b="b"/>
            <a:pathLst>
              <a:path w="4540" h="575">
                <a:moveTo>
                  <a:pt x="0" y="291"/>
                </a:moveTo>
                <a:cubicBezTo>
                  <a:pt x="13" y="253"/>
                  <a:pt x="28" y="248"/>
                  <a:pt x="61" y="230"/>
                </a:cubicBezTo>
                <a:cubicBezTo>
                  <a:pt x="102" y="207"/>
                  <a:pt x="106" y="201"/>
                  <a:pt x="149" y="190"/>
                </a:cubicBezTo>
                <a:cubicBezTo>
                  <a:pt x="217" y="194"/>
                  <a:pt x="281" y="193"/>
                  <a:pt x="346" y="210"/>
                </a:cubicBezTo>
                <a:cubicBezTo>
                  <a:pt x="385" y="220"/>
                  <a:pt x="415" y="252"/>
                  <a:pt x="454" y="264"/>
                </a:cubicBezTo>
                <a:cubicBezTo>
                  <a:pt x="491" y="290"/>
                  <a:pt x="534" y="314"/>
                  <a:pt x="576" y="332"/>
                </a:cubicBezTo>
                <a:cubicBezTo>
                  <a:pt x="608" y="346"/>
                  <a:pt x="596" y="332"/>
                  <a:pt x="624" y="346"/>
                </a:cubicBezTo>
                <a:cubicBezTo>
                  <a:pt x="720" y="393"/>
                  <a:pt x="820" y="418"/>
                  <a:pt x="928" y="427"/>
                </a:cubicBezTo>
                <a:cubicBezTo>
                  <a:pt x="962" y="422"/>
                  <a:pt x="986" y="416"/>
                  <a:pt x="1017" y="407"/>
                </a:cubicBezTo>
                <a:cubicBezTo>
                  <a:pt x="1108" y="345"/>
                  <a:pt x="1181" y="259"/>
                  <a:pt x="1261" y="183"/>
                </a:cubicBezTo>
                <a:cubicBezTo>
                  <a:pt x="1293" y="153"/>
                  <a:pt x="1318" y="114"/>
                  <a:pt x="1355" y="88"/>
                </a:cubicBezTo>
                <a:cubicBezTo>
                  <a:pt x="1376" y="58"/>
                  <a:pt x="1401" y="53"/>
                  <a:pt x="1430" y="34"/>
                </a:cubicBezTo>
                <a:cubicBezTo>
                  <a:pt x="1478" y="38"/>
                  <a:pt x="1505" y="36"/>
                  <a:pt x="1545" y="47"/>
                </a:cubicBezTo>
                <a:cubicBezTo>
                  <a:pt x="1570" y="54"/>
                  <a:pt x="1587" y="68"/>
                  <a:pt x="1613" y="75"/>
                </a:cubicBezTo>
                <a:cubicBezTo>
                  <a:pt x="1648" y="98"/>
                  <a:pt x="1661" y="98"/>
                  <a:pt x="1687" y="136"/>
                </a:cubicBezTo>
                <a:cubicBezTo>
                  <a:pt x="1696" y="150"/>
                  <a:pt x="1715" y="176"/>
                  <a:pt x="1715" y="176"/>
                </a:cubicBezTo>
                <a:cubicBezTo>
                  <a:pt x="1722" y="199"/>
                  <a:pt x="1736" y="214"/>
                  <a:pt x="1742" y="237"/>
                </a:cubicBezTo>
                <a:cubicBezTo>
                  <a:pt x="1775" y="356"/>
                  <a:pt x="1814" y="493"/>
                  <a:pt x="1925" y="562"/>
                </a:cubicBezTo>
                <a:cubicBezTo>
                  <a:pt x="2018" y="558"/>
                  <a:pt x="2048" y="575"/>
                  <a:pt x="2108" y="535"/>
                </a:cubicBezTo>
                <a:cubicBezTo>
                  <a:pt x="2173" y="439"/>
                  <a:pt x="2152" y="320"/>
                  <a:pt x="2196" y="217"/>
                </a:cubicBezTo>
                <a:cubicBezTo>
                  <a:pt x="2211" y="181"/>
                  <a:pt x="2217" y="150"/>
                  <a:pt x="2250" y="129"/>
                </a:cubicBezTo>
                <a:cubicBezTo>
                  <a:pt x="2270" y="87"/>
                  <a:pt x="2327" y="54"/>
                  <a:pt x="2372" y="41"/>
                </a:cubicBezTo>
                <a:cubicBezTo>
                  <a:pt x="2410" y="12"/>
                  <a:pt x="2454" y="7"/>
                  <a:pt x="2501" y="0"/>
                </a:cubicBezTo>
                <a:cubicBezTo>
                  <a:pt x="2594" y="9"/>
                  <a:pt x="2711" y="15"/>
                  <a:pt x="2785" y="81"/>
                </a:cubicBezTo>
                <a:cubicBezTo>
                  <a:pt x="2812" y="105"/>
                  <a:pt x="2859" y="155"/>
                  <a:pt x="2880" y="183"/>
                </a:cubicBezTo>
                <a:cubicBezTo>
                  <a:pt x="2919" y="237"/>
                  <a:pt x="2898" y="219"/>
                  <a:pt x="2934" y="244"/>
                </a:cubicBezTo>
                <a:cubicBezTo>
                  <a:pt x="2939" y="251"/>
                  <a:pt x="2942" y="258"/>
                  <a:pt x="2948" y="264"/>
                </a:cubicBezTo>
                <a:cubicBezTo>
                  <a:pt x="2954" y="270"/>
                  <a:pt x="2963" y="272"/>
                  <a:pt x="2968" y="278"/>
                </a:cubicBezTo>
                <a:cubicBezTo>
                  <a:pt x="3005" y="325"/>
                  <a:pt x="2937" y="272"/>
                  <a:pt x="2995" y="312"/>
                </a:cubicBezTo>
                <a:cubicBezTo>
                  <a:pt x="3011" y="335"/>
                  <a:pt x="3022" y="344"/>
                  <a:pt x="3050" y="352"/>
                </a:cubicBezTo>
                <a:cubicBezTo>
                  <a:pt x="3080" y="373"/>
                  <a:pt x="3109" y="385"/>
                  <a:pt x="3144" y="393"/>
                </a:cubicBezTo>
                <a:cubicBezTo>
                  <a:pt x="3167" y="398"/>
                  <a:pt x="3212" y="407"/>
                  <a:pt x="3212" y="407"/>
                </a:cubicBezTo>
                <a:cubicBezTo>
                  <a:pt x="3299" y="403"/>
                  <a:pt x="3347" y="402"/>
                  <a:pt x="3422" y="380"/>
                </a:cubicBezTo>
                <a:cubicBezTo>
                  <a:pt x="3427" y="373"/>
                  <a:pt x="3430" y="365"/>
                  <a:pt x="3436" y="359"/>
                </a:cubicBezTo>
                <a:cubicBezTo>
                  <a:pt x="3448" y="345"/>
                  <a:pt x="3465" y="335"/>
                  <a:pt x="3476" y="319"/>
                </a:cubicBezTo>
                <a:cubicBezTo>
                  <a:pt x="3497" y="288"/>
                  <a:pt x="3508" y="264"/>
                  <a:pt x="3544" y="251"/>
                </a:cubicBezTo>
                <a:cubicBezTo>
                  <a:pt x="3576" y="203"/>
                  <a:pt x="3672" y="180"/>
                  <a:pt x="3727" y="163"/>
                </a:cubicBezTo>
                <a:cubicBezTo>
                  <a:pt x="3812" y="169"/>
                  <a:pt x="3849" y="182"/>
                  <a:pt x="3924" y="203"/>
                </a:cubicBezTo>
                <a:cubicBezTo>
                  <a:pt x="3973" y="238"/>
                  <a:pt x="4041" y="249"/>
                  <a:pt x="4100" y="258"/>
                </a:cubicBezTo>
                <a:cubicBezTo>
                  <a:pt x="4172" y="246"/>
                  <a:pt x="4237" y="214"/>
                  <a:pt x="4310" y="203"/>
                </a:cubicBezTo>
                <a:cubicBezTo>
                  <a:pt x="4383" y="181"/>
                  <a:pt x="4465" y="197"/>
                  <a:pt x="4540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3440" y="57340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55640" y="566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490160" y="558972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029440" y="551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36280" y="595008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38480" y="587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92000" y="616572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94200" y="609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41400" y="592452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38920" y="58514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9760" y="486900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2000" y="5300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84000" y="479736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4660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08640" y="50133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62600" y="544500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ies                                                            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ies                                                        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ies                                                               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ies                                                        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60400" y="5292720"/>
            <a:ext cx="7207200" cy="912960"/>
          </a:xfrm>
          <a:custGeom>
            <a:avLst/>
            <a:gdLst/>
            <a:ahLst/>
            <a:rect l="l" t="t" r="r" b="b"/>
            <a:pathLst>
              <a:path w="4540" h="575">
                <a:moveTo>
                  <a:pt x="0" y="291"/>
                </a:moveTo>
                <a:cubicBezTo>
                  <a:pt x="13" y="253"/>
                  <a:pt x="28" y="248"/>
                  <a:pt x="61" y="230"/>
                </a:cubicBezTo>
                <a:cubicBezTo>
                  <a:pt x="102" y="207"/>
                  <a:pt x="106" y="201"/>
                  <a:pt x="149" y="190"/>
                </a:cubicBezTo>
                <a:cubicBezTo>
                  <a:pt x="217" y="194"/>
                  <a:pt x="281" y="193"/>
                  <a:pt x="346" y="210"/>
                </a:cubicBezTo>
                <a:cubicBezTo>
                  <a:pt x="385" y="220"/>
                  <a:pt x="415" y="252"/>
                  <a:pt x="454" y="264"/>
                </a:cubicBezTo>
                <a:cubicBezTo>
                  <a:pt x="491" y="290"/>
                  <a:pt x="534" y="314"/>
                  <a:pt x="576" y="332"/>
                </a:cubicBezTo>
                <a:cubicBezTo>
                  <a:pt x="608" y="346"/>
                  <a:pt x="596" y="332"/>
                  <a:pt x="624" y="346"/>
                </a:cubicBezTo>
                <a:cubicBezTo>
                  <a:pt x="720" y="393"/>
                  <a:pt x="820" y="418"/>
                  <a:pt x="928" y="427"/>
                </a:cubicBezTo>
                <a:cubicBezTo>
                  <a:pt x="962" y="422"/>
                  <a:pt x="986" y="416"/>
                  <a:pt x="1017" y="407"/>
                </a:cubicBezTo>
                <a:cubicBezTo>
                  <a:pt x="1108" y="345"/>
                  <a:pt x="1181" y="259"/>
                  <a:pt x="1261" y="183"/>
                </a:cubicBezTo>
                <a:cubicBezTo>
                  <a:pt x="1293" y="153"/>
                  <a:pt x="1318" y="114"/>
                  <a:pt x="1355" y="88"/>
                </a:cubicBezTo>
                <a:cubicBezTo>
                  <a:pt x="1376" y="58"/>
                  <a:pt x="1401" y="53"/>
                  <a:pt x="1430" y="34"/>
                </a:cubicBezTo>
                <a:cubicBezTo>
                  <a:pt x="1478" y="38"/>
                  <a:pt x="1505" y="36"/>
                  <a:pt x="1545" y="47"/>
                </a:cubicBezTo>
                <a:cubicBezTo>
                  <a:pt x="1570" y="54"/>
                  <a:pt x="1587" y="68"/>
                  <a:pt x="1613" y="75"/>
                </a:cubicBezTo>
                <a:cubicBezTo>
                  <a:pt x="1648" y="98"/>
                  <a:pt x="1661" y="98"/>
                  <a:pt x="1687" y="136"/>
                </a:cubicBezTo>
                <a:cubicBezTo>
                  <a:pt x="1696" y="150"/>
                  <a:pt x="1715" y="176"/>
                  <a:pt x="1715" y="176"/>
                </a:cubicBezTo>
                <a:cubicBezTo>
                  <a:pt x="1722" y="199"/>
                  <a:pt x="1736" y="214"/>
                  <a:pt x="1742" y="237"/>
                </a:cubicBezTo>
                <a:cubicBezTo>
                  <a:pt x="1775" y="356"/>
                  <a:pt x="1814" y="493"/>
                  <a:pt x="1925" y="562"/>
                </a:cubicBezTo>
                <a:cubicBezTo>
                  <a:pt x="2018" y="558"/>
                  <a:pt x="2048" y="575"/>
                  <a:pt x="2108" y="535"/>
                </a:cubicBezTo>
                <a:cubicBezTo>
                  <a:pt x="2173" y="439"/>
                  <a:pt x="2152" y="320"/>
                  <a:pt x="2196" y="217"/>
                </a:cubicBezTo>
                <a:cubicBezTo>
                  <a:pt x="2211" y="181"/>
                  <a:pt x="2217" y="150"/>
                  <a:pt x="2250" y="129"/>
                </a:cubicBezTo>
                <a:cubicBezTo>
                  <a:pt x="2270" y="87"/>
                  <a:pt x="2327" y="54"/>
                  <a:pt x="2372" y="41"/>
                </a:cubicBezTo>
                <a:cubicBezTo>
                  <a:pt x="2410" y="12"/>
                  <a:pt x="2454" y="7"/>
                  <a:pt x="2501" y="0"/>
                </a:cubicBezTo>
                <a:cubicBezTo>
                  <a:pt x="2594" y="9"/>
                  <a:pt x="2711" y="15"/>
                  <a:pt x="2785" y="81"/>
                </a:cubicBezTo>
                <a:cubicBezTo>
                  <a:pt x="2812" y="105"/>
                  <a:pt x="2859" y="155"/>
                  <a:pt x="2880" y="183"/>
                </a:cubicBezTo>
                <a:cubicBezTo>
                  <a:pt x="2919" y="237"/>
                  <a:pt x="2898" y="219"/>
                  <a:pt x="2934" y="244"/>
                </a:cubicBezTo>
                <a:cubicBezTo>
                  <a:pt x="2939" y="251"/>
                  <a:pt x="2942" y="258"/>
                  <a:pt x="2948" y="264"/>
                </a:cubicBezTo>
                <a:cubicBezTo>
                  <a:pt x="2954" y="270"/>
                  <a:pt x="2963" y="272"/>
                  <a:pt x="2968" y="278"/>
                </a:cubicBezTo>
                <a:cubicBezTo>
                  <a:pt x="3005" y="325"/>
                  <a:pt x="2937" y="272"/>
                  <a:pt x="2995" y="312"/>
                </a:cubicBezTo>
                <a:cubicBezTo>
                  <a:pt x="3011" y="335"/>
                  <a:pt x="3022" y="344"/>
                  <a:pt x="3050" y="352"/>
                </a:cubicBezTo>
                <a:cubicBezTo>
                  <a:pt x="3080" y="373"/>
                  <a:pt x="3109" y="385"/>
                  <a:pt x="3144" y="393"/>
                </a:cubicBezTo>
                <a:cubicBezTo>
                  <a:pt x="3167" y="398"/>
                  <a:pt x="3212" y="407"/>
                  <a:pt x="3212" y="407"/>
                </a:cubicBezTo>
                <a:cubicBezTo>
                  <a:pt x="3299" y="403"/>
                  <a:pt x="3347" y="402"/>
                  <a:pt x="3422" y="380"/>
                </a:cubicBezTo>
                <a:cubicBezTo>
                  <a:pt x="3427" y="373"/>
                  <a:pt x="3430" y="365"/>
                  <a:pt x="3436" y="359"/>
                </a:cubicBezTo>
                <a:cubicBezTo>
                  <a:pt x="3448" y="345"/>
                  <a:pt x="3465" y="335"/>
                  <a:pt x="3476" y="319"/>
                </a:cubicBezTo>
                <a:cubicBezTo>
                  <a:pt x="3497" y="288"/>
                  <a:pt x="3508" y="264"/>
                  <a:pt x="3544" y="251"/>
                </a:cubicBezTo>
                <a:cubicBezTo>
                  <a:pt x="3576" y="203"/>
                  <a:pt x="3672" y="180"/>
                  <a:pt x="3727" y="163"/>
                </a:cubicBezTo>
                <a:cubicBezTo>
                  <a:pt x="3812" y="169"/>
                  <a:pt x="3849" y="182"/>
                  <a:pt x="3924" y="203"/>
                </a:cubicBezTo>
                <a:cubicBezTo>
                  <a:pt x="3973" y="238"/>
                  <a:pt x="4041" y="249"/>
                  <a:pt x="4100" y="258"/>
                </a:cubicBezTo>
                <a:cubicBezTo>
                  <a:pt x="4172" y="246"/>
                  <a:pt x="4237" y="214"/>
                  <a:pt x="4310" y="203"/>
                </a:cubicBezTo>
                <a:cubicBezTo>
                  <a:pt x="4383" y="181"/>
                  <a:pt x="4465" y="197"/>
                  <a:pt x="4540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3440" y="57340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55640" y="566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90160" y="558972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029440" y="551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36280" y="595008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38480" y="587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92000" y="616572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94200" y="609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41400" y="592452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38920" y="58514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69760" y="486900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2000" y="5300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284000" y="479736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74660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08640" y="50133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62600" y="544500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861600">
            <a:off x="1265040" y="5949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7929800">
            <a:off x="2669760" y="5463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4818600">
            <a:off x="3585240" y="54442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3929400">
            <a:off x="5225400" y="5533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6841400">
            <a:off x="4254120" y="55324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6841400">
            <a:off x="6235200" y="5679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861600">
            <a:off x="7257960" y="53002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 (cont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d tha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itial values of variables. The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ments imply tha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final values of variables.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s that the as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valid and finishes the justifica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02800" y="1628640"/>
            <a:ext cx="340884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oint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8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} 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put “VALID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0400" y="5292720"/>
            <a:ext cx="7207200" cy="912960"/>
          </a:xfrm>
          <a:custGeom>
            <a:avLst/>
            <a:gdLst/>
            <a:ahLst/>
            <a:rect l="l" t="t" r="r" b="b"/>
            <a:pathLst>
              <a:path w="4540" h="575">
                <a:moveTo>
                  <a:pt x="0" y="291"/>
                </a:moveTo>
                <a:cubicBezTo>
                  <a:pt x="13" y="253"/>
                  <a:pt x="28" y="248"/>
                  <a:pt x="61" y="230"/>
                </a:cubicBezTo>
                <a:cubicBezTo>
                  <a:pt x="102" y="207"/>
                  <a:pt x="106" y="201"/>
                  <a:pt x="149" y="190"/>
                </a:cubicBezTo>
                <a:cubicBezTo>
                  <a:pt x="217" y="194"/>
                  <a:pt x="281" y="193"/>
                  <a:pt x="346" y="210"/>
                </a:cubicBezTo>
                <a:cubicBezTo>
                  <a:pt x="385" y="220"/>
                  <a:pt x="415" y="252"/>
                  <a:pt x="454" y="264"/>
                </a:cubicBezTo>
                <a:cubicBezTo>
                  <a:pt x="491" y="290"/>
                  <a:pt x="534" y="314"/>
                  <a:pt x="576" y="332"/>
                </a:cubicBezTo>
                <a:cubicBezTo>
                  <a:pt x="608" y="346"/>
                  <a:pt x="596" y="332"/>
                  <a:pt x="624" y="346"/>
                </a:cubicBezTo>
                <a:cubicBezTo>
                  <a:pt x="720" y="393"/>
                  <a:pt x="820" y="418"/>
                  <a:pt x="928" y="427"/>
                </a:cubicBezTo>
                <a:cubicBezTo>
                  <a:pt x="962" y="422"/>
                  <a:pt x="986" y="416"/>
                  <a:pt x="1017" y="407"/>
                </a:cubicBezTo>
                <a:cubicBezTo>
                  <a:pt x="1108" y="345"/>
                  <a:pt x="1181" y="259"/>
                  <a:pt x="1261" y="183"/>
                </a:cubicBezTo>
                <a:cubicBezTo>
                  <a:pt x="1293" y="153"/>
                  <a:pt x="1318" y="114"/>
                  <a:pt x="1355" y="88"/>
                </a:cubicBezTo>
                <a:cubicBezTo>
                  <a:pt x="1376" y="58"/>
                  <a:pt x="1401" y="53"/>
                  <a:pt x="1430" y="34"/>
                </a:cubicBezTo>
                <a:cubicBezTo>
                  <a:pt x="1478" y="38"/>
                  <a:pt x="1505" y="36"/>
                  <a:pt x="1545" y="47"/>
                </a:cubicBezTo>
                <a:cubicBezTo>
                  <a:pt x="1570" y="54"/>
                  <a:pt x="1587" y="68"/>
                  <a:pt x="1613" y="75"/>
                </a:cubicBezTo>
                <a:cubicBezTo>
                  <a:pt x="1648" y="98"/>
                  <a:pt x="1661" y="98"/>
                  <a:pt x="1687" y="136"/>
                </a:cubicBezTo>
                <a:cubicBezTo>
                  <a:pt x="1696" y="150"/>
                  <a:pt x="1715" y="176"/>
                  <a:pt x="1715" y="176"/>
                </a:cubicBezTo>
                <a:cubicBezTo>
                  <a:pt x="1722" y="199"/>
                  <a:pt x="1736" y="214"/>
                  <a:pt x="1742" y="237"/>
                </a:cubicBezTo>
                <a:cubicBezTo>
                  <a:pt x="1775" y="356"/>
                  <a:pt x="1814" y="493"/>
                  <a:pt x="1925" y="562"/>
                </a:cubicBezTo>
                <a:cubicBezTo>
                  <a:pt x="2018" y="558"/>
                  <a:pt x="2048" y="575"/>
                  <a:pt x="2108" y="535"/>
                </a:cubicBezTo>
                <a:cubicBezTo>
                  <a:pt x="2173" y="439"/>
                  <a:pt x="2152" y="320"/>
                  <a:pt x="2196" y="217"/>
                </a:cubicBezTo>
                <a:cubicBezTo>
                  <a:pt x="2211" y="181"/>
                  <a:pt x="2217" y="150"/>
                  <a:pt x="2250" y="129"/>
                </a:cubicBezTo>
                <a:cubicBezTo>
                  <a:pt x="2270" y="87"/>
                  <a:pt x="2327" y="54"/>
                  <a:pt x="2372" y="41"/>
                </a:cubicBezTo>
                <a:cubicBezTo>
                  <a:pt x="2410" y="12"/>
                  <a:pt x="2454" y="7"/>
                  <a:pt x="2501" y="0"/>
                </a:cubicBezTo>
                <a:cubicBezTo>
                  <a:pt x="2594" y="9"/>
                  <a:pt x="2711" y="15"/>
                  <a:pt x="2785" y="81"/>
                </a:cubicBezTo>
                <a:cubicBezTo>
                  <a:pt x="2812" y="105"/>
                  <a:pt x="2859" y="155"/>
                  <a:pt x="2880" y="183"/>
                </a:cubicBezTo>
                <a:cubicBezTo>
                  <a:pt x="2919" y="237"/>
                  <a:pt x="2898" y="219"/>
                  <a:pt x="2934" y="244"/>
                </a:cubicBezTo>
                <a:cubicBezTo>
                  <a:pt x="2939" y="251"/>
                  <a:pt x="2942" y="258"/>
                  <a:pt x="2948" y="264"/>
                </a:cubicBezTo>
                <a:cubicBezTo>
                  <a:pt x="2954" y="270"/>
                  <a:pt x="2963" y="272"/>
                  <a:pt x="2968" y="278"/>
                </a:cubicBezTo>
                <a:cubicBezTo>
                  <a:pt x="3005" y="325"/>
                  <a:pt x="2937" y="272"/>
                  <a:pt x="2995" y="312"/>
                </a:cubicBezTo>
                <a:cubicBezTo>
                  <a:pt x="3011" y="335"/>
                  <a:pt x="3022" y="344"/>
                  <a:pt x="3050" y="352"/>
                </a:cubicBezTo>
                <a:cubicBezTo>
                  <a:pt x="3080" y="373"/>
                  <a:pt x="3109" y="385"/>
                  <a:pt x="3144" y="393"/>
                </a:cubicBezTo>
                <a:cubicBezTo>
                  <a:pt x="3167" y="398"/>
                  <a:pt x="3212" y="407"/>
                  <a:pt x="3212" y="407"/>
                </a:cubicBezTo>
                <a:cubicBezTo>
                  <a:pt x="3299" y="403"/>
                  <a:pt x="3347" y="402"/>
                  <a:pt x="3422" y="380"/>
                </a:cubicBezTo>
                <a:cubicBezTo>
                  <a:pt x="3427" y="373"/>
                  <a:pt x="3430" y="365"/>
                  <a:pt x="3436" y="359"/>
                </a:cubicBezTo>
                <a:cubicBezTo>
                  <a:pt x="3448" y="345"/>
                  <a:pt x="3465" y="335"/>
                  <a:pt x="3476" y="319"/>
                </a:cubicBezTo>
                <a:cubicBezTo>
                  <a:pt x="3497" y="288"/>
                  <a:pt x="3508" y="264"/>
                  <a:pt x="3544" y="251"/>
                </a:cubicBezTo>
                <a:cubicBezTo>
                  <a:pt x="3576" y="203"/>
                  <a:pt x="3672" y="180"/>
                  <a:pt x="3727" y="163"/>
                </a:cubicBezTo>
                <a:cubicBezTo>
                  <a:pt x="3812" y="169"/>
                  <a:pt x="3849" y="182"/>
                  <a:pt x="3924" y="203"/>
                </a:cubicBezTo>
                <a:cubicBezTo>
                  <a:pt x="3973" y="238"/>
                  <a:pt x="4041" y="249"/>
                  <a:pt x="4100" y="258"/>
                </a:cubicBezTo>
                <a:cubicBezTo>
                  <a:pt x="4172" y="246"/>
                  <a:pt x="4237" y="214"/>
                  <a:pt x="4310" y="203"/>
                </a:cubicBezTo>
                <a:cubicBezTo>
                  <a:pt x="4383" y="181"/>
                  <a:pt x="4465" y="197"/>
                  <a:pt x="4540" y="1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3440" y="57340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55640" y="5661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90160" y="558972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029440" y="5516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36280" y="595008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238480" y="587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92000" y="616572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94200" y="609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41400" y="592452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938920" y="58514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669760" y="486900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32000" y="53006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84000" y="4797360"/>
            <a:ext cx="111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46600" y="522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308640" y="501336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62600" y="544500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861600">
            <a:off x="1265040" y="5949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7929800">
            <a:off x="2669760" y="5463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4818600">
            <a:off x="3585240" y="54442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3929400">
            <a:off x="5225400" y="553356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6841400">
            <a:off x="4254120" y="55324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841400">
            <a:off x="6235200" y="567900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861600">
            <a:off x="7257960" y="530028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to Example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correctness of Floyd-Hoare Method, the as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1; WHILE BxB &lt;= A DO B:= B+1; B:=B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BxB &lt;= A &amp; (B+1)x(B+1)&gt;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valid, i.e.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e can claim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value of variable A is an integer N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BxB &lt;= A DO B:= B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terminat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final value of variable B i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[sqrt(N)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Correctness of Floyd-Hoar Method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comp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partial correctness asse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Floyd-Hoare Met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veals that correctness of Floyd-Hoare Method can be re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partial correctness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 partial correctness asser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yd-Hoare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partial correctness assertion is v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01760" y="3141720"/>
            <a:ext cx="42224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ventually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for final values of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44520" y="3141720"/>
            <a:ext cx="38793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rtial correctness asser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oyd-Hoare Method terminates for this assertio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ssertion is va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of Floyd-Hoare Method for valid partial correct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 relies up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priate annotations (invariant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ng correctness of acyclic p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problem is human-dependant design problem: the design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gorithm should care about appropriate annotations,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ari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operties that hold every time when control flow p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sponding contro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there is an algorithm that solves the second problem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any control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these  tw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f a 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(empty may be) that consists of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ssign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 of proving correctness for path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fine explicit provability criterion for the empty sequ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non-empty sequences to shorter sequ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quence is empty, then a path looks like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ath terminates and does not change variables. H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the explicit provability criterion for the empty sequence is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84720" y="16286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50560" y="1413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85040" y="1628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50520" y="1413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27640" y="1701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52680" y="2584440"/>
            <a:ext cx="619128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932920" y="4317840"/>
            <a:ext cx="3414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nnotation1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mous joke that all odd integers greater that one are prime i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illustration why testing is not very sound argument in valid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is extensive testing in [1..20] and outside this interval conv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that the following pseudo code is prime numbers generator in [1..N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A; B:=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B &lt; A DO {B:= B+2 ; output B}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re not, since it is very easy to find a number of refutations: 9, 15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34960" y="2549520"/>
          <a:ext cx="6305760" cy="663480"/>
        </p:xfrm>
        <a:graphic>
          <a:graphicData uri="http://schemas.openxmlformats.org/drawingml/2006/table">
            <a:tbl>
              <a:tblPr/>
              <a:tblGrid>
                <a:gridCol w="1149480"/>
                <a:gridCol w="468360"/>
                <a:gridCol w="466560"/>
                <a:gridCol w="470160"/>
                <a:gridCol w="468360"/>
                <a:gridCol w="468000"/>
                <a:gridCol w="468360"/>
                <a:gridCol w="466920"/>
                <a:gridCol w="469800"/>
                <a:gridCol w="469800"/>
                <a:gridCol w="470160"/>
                <a:gridCol w="469800"/>
              </a:tblGrid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t prim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quence is non-empty and the last operator in the sequen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, then a path can be represented as follows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at we assume that all assignments in algorithms are sid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free, with monovariant (deterministic) well-defined expression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-hand side, presented by ground data operations. H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ser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after th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ser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holds  before th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ssertion2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tes substitu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ead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89040" y="27176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54880" y="2502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480000" y="27176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45840" y="2502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43120" y="2674800"/>
            <a:ext cx="156996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15600" y="2649600"/>
            <a:ext cx="1791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variable :=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013440" y="2789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60360" y="5229360"/>
            <a:ext cx="848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27120" y="5877000"/>
            <a:ext cx="848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631960" y="2428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97800" y="221292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22920" y="2421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88760" y="2205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786040" y="2386080"/>
            <a:ext cx="156996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358520" y="2352600"/>
            <a:ext cx="1791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variable :=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156360" y="24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correctness of the original path with th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 correctness of the following shorter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ntrol point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for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ssig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w anno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631960" y="42292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97800" y="401328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86040" y="4186080"/>
            <a:ext cx="1569960" cy="27972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92720" y="4229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33280" y="4013280"/>
            <a:ext cx="129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ew a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797440" y="5249880"/>
            <a:ext cx="848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quence is non-empty and the last operator in the sequen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, then a path can be represented 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at we assume that a All conditions in algorithms are side-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, presented by Boolean combinations of ground data properti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89040" y="27176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054880" y="2502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480000" y="271764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45840" y="2502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643120" y="2674800"/>
            <a:ext cx="156996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21000" y="2649600"/>
            <a:ext cx="86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76720" y="2781360"/>
            <a:ext cx="144000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26720" y="2455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89040" y="4084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054880" y="386856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80000" y="4084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45840" y="386856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643120" y="4041720"/>
            <a:ext cx="156996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21000" y="4016520"/>
            <a:ext cx="86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76720" y="4148280"/>
            <a:ext cx="144000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527080" y="3822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irst 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asser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after th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it holds  before, bu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can pass through the condition only if it holds. H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the original path is equivalent to correctness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path                                                     , wher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rol point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fore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w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annotation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92320" y="1636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58160" y="142092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83280" y="1636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549120" y="142092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146400" y="1593720"/>
            <a:ext cx="156996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1568520"/>
            <a:ext cx="86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580000" y="1700280"/>
            <a:ext cx="144000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30000" y="1374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05280" y="3941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70760" y="3726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59000" y="3898800"/>
            <a:ext cx="157032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65680" y="3941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06600" y="3726000"/>
            <a:ext cx="129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ew a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Prove Path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cond 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assertio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after th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it holds  before, bu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can pass through the condition only if it fails. H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ness of the original path is equivalent to correctness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path                                                     , wher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rol point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fore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w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OR annotation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992320" y="1636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58160" y="142092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983280" y="163656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49120" y="142092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46400" y="1593720"/>
            <a:ext cx="156996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24280" y="1568520"/>
            <a:ext cx="86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80000" y="1700280"/>
            <a:ext cx="144000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30360" y="1374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05280" y="3941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70760" y="3726000"/>
            <a:ext cx="10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59000" y="3898800"/>
            <a:ext cx="1570320" cy="279360"/>
          </a:xfrm>
          <a:custGeom>
            <a:avLst/>
            <a:gdLst/>
            <a:ahLst/>
            <a:rect l="l" t="t" r="r" b="b"/>
            <a:pathLst>
              <a:path w="989" h="176">
                <a:moveTo>
                  <a:pt x="0" y="81"/>
                </a:moveTo>
                <a:cubicBezTo>
                  <a:pt x="28" y="71"/>
                  <a:pt x="55" y="54"/>
                  <a:pt x="81" y="40"/>
                </a:cubicBezTo>
                <a:cubicBezTo>
                  <a:pt x="95" y="32"/>
                  <a:pt x="108" y="22"/>
                  <a:pt x="122" y="13"/>
                </a:cubicBezTo>
                <a:cubicBezTo>
                  <a:pt x="129" y="9"/>
                  <a:pt x="142" y="0"/>
                  <a:pt x="142" y="0"/>
                </a:cubicBezTo>
                <a:cubicBezTo>
                  <a:pt x="196" y="2"/>
                  <a:pt x="251" y="0"/>
                  <a:pt x="305" y="6"/>
                </a:cubicBezTo>
                <a:cubicBezTo>
                  <a:pt x="335" y="9"/>
                  <a:pt x="381" y="58"/>
                  <a:pt x="406" y="74"/>
                </a:cubicBezTo>
                <a:cubicBezTo>
                  <a:pt x="421" y="96"/>
                  <a:pt x="494" y="153"/>
                  <a:pt x="521" y="162"/>
                </a:cubicBezTo>
                <a:cubicBezTo>
                  <a:pt x="535" y="167"/>
                  <a:pt x="562" y="176"/>
                  <a:pt x="562" y="176"/>
                </a:cubicBezTo>
                <a:cubicBezTo>
                  <a:pt x="591" y="171"/>
                  <a:pt x="623" y="174"/>
                  <a:pt x="650" y="162"/>
                </a:cubicBezTo>
                <a:cubicBezTo>
                  <a:pt x="657" y="159"/>
                  <a:pt x="658" y="147"/>
                  <a:pt x="664" y="142"/>
                </a:cubicBezTo>
                <a:cubicBezTo>
                  <a:pt x="670" y="138"/>
                  <a:pt x="677" y="137"/>
                  <a:pt x="684" y="135"/>
                </a:cubicBezTo>
                <a:cubicBezTo>
                  <a:pt x="735" y="62"/>
                  <a:pt x="805" y="54"/>
                  <a:pt x="887" y="40"/>
                </a:cubicBezTo>
                <a:cubicBezTo>
                  <a:pt x="958" y="49"/>
                  <a:pt x="924" y="47"/>
                  <a:pt x="989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765680" y="394164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206600" y="3726000"/>
            <a:ext cx="1299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ew a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to Example 1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936720" y="3446640"/>
            <a:ext cx="604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38400" y="3114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187280" y="29718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187280" y="41227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58920" y="3762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61680" y="434016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78480" y="244152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44840" y="1447920"/>
            <a:ext cx="77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at there were 3 paths in the example. Let process them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ance with rules and criterion developed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337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203640" y="3186000"/>
            <a:ext cx="144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54320" y="30430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30560" y="3500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9440" y="371808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1-1)x(1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945160" y="2513160"/>
            <a:ext cx="51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79640" y="4149720"/>
            <a:ext cx="1800360" cy="719280"/>
          </a:xfrm>
          <a:custGeom>
            <a:avLst/>
            <a:gdLst>
              <a:gd name="textAreaLeft" fmla="*/ 600120 w 1800360"/>
              <a:gd name="textAreaRight" fmla="*/ 1542240 w 180036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st.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740040" y="3357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075280" y="338940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A&gt;0)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0&lt;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12960" y="33577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to Example 1 Agai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309680" y="25891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31880" y="206064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82760" y="2733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81640" y="309420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382760" y="3454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48960" y="3814920"/>
            <a:ext cx="858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35240" y="4535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06520" y="4175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04600" y="47512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335960" y="3417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337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232680" y="2708280"/>
            <a:ext cx="144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83360" y="2565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59600" y="30225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50920" y="4510080"/>
            <a:ext cx="2160720" cy="719280"/>
          </a:xfrm>
          <a:custGeom>
            <a:avLst/>
            <a:gdLst>
              <a:gd name="textAreaLeft" fmla="*/ 720000 w 2160720"/>
              <a:gd name="textAreaRight" fmla="*/ 1850760 w 216072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+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st.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543480" y="2563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965320" y="20350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1620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15440" y="306864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61620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69400" y="3392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568680" y="378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72760" y="4005360"/>
            <a:ext cx="7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xB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16400" y="3375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30760" y="20350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03880" y="3141720"/>
            <a:ext cx="177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xB&lt;=A) </a:t>
            </a:r>
            <a:r>
              <a:rPr b="1" lang="en-US" sz="12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(BxB&lt;=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940360" y="3789360"/>
            <a:ext cx="486000" cy="1368360"/>
          </a:xfrm>
          <a:prstGeom prst="downArrow">
            <a:avLst>
              <a:gd name="adj1" fmla="val 50000"/>
              <a:gd name="adj2" fmla="val 703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741840" y="5445000"/>
            <a:ext cx="48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B-1)x(B-1)&lt;=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BxB&lt;=A)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BxB&lt;=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28600" y="61279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to Example 1 Agai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79600" y="24447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901440" y="19162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552680" y="2589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51560" y="294948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552680" y="3309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19600" y="3670200"/>
            <a:ext cx="807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04800" y="439092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576440" y="4030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85680" y="4606920"/>
            <a:ext cx="1232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BxB &lt;= A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+1)x(B+1)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505880" y="3273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93840" y="3255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93840" y="4390920"/>
            <a:ext cx="2160720" cy="719280"/>
          </a:xfrm>
          <a:custGeom>
            <a:avLst/>
            <a:gdLst>
              <a:gd name="textAreaLeft" fmla="*/ 720000 w 2160720"/>
              <a:gd name="textAreaRight" fmla="*/ 1850760 w 216072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-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st.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86040" y="24447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108240" y="19162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759120" y="2589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258360" y="2949480"/>
            <a:ext cx="927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xB&lt;=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759120" y="3309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12680" y="3273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11600" y="36702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34640" y="3886200"/>
            <a:ext cx="194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 &amp; BxB&gt;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59320" y="3255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ition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095600" y="2589120"/>
            <a:ext cx="180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47000" y="24462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023240" y="290340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494400" y="1916280"/>
            <a:ext cx="124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-1)x(B-1)&lt;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531040" y="3022560"/>
            <a:ext cx="304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e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BxB&lt;=A) OR ((B-1)x(B-1)&lt;=A &amp; BxB&gt;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04000" y="3670200"/>
            <a:ext cx="485640" cy="1368360"/>
          </a:xfrm>
          <a:prstGeom prst="downArrow">
            <a:avLst>
              <a:gd name="adj1" fmla="val 50000"/>
              <a:gd name="adj2" fmla="val 704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001840" y="5319720"/>
            <a:ext cx="408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B-1)x(B-1)&lt;=A)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(BxB&lt;=A)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B-1)x(B-1)&lt;=A &amp; BxB&gt;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89080" y="6200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it is not easy (and may be impossible) to find a refutation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im that the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A; B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BxB &lt;= A DO B:= B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B-1; outpu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[sqrt(N)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input non-negative integer N. It leads u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 to try to prove the claim in rigorous mathematical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we have to formalize the claim. It seams reasonable to start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value of variable A is an integer N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gorith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BxB &lt;= A DO B:= B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terminat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value of variable B i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[sqrt(N)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51920" y="2763720"/>
            <a:ext cx="1258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42200" y="5491080"/>
            <a:ext cx="1355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43280" y="4437000"/>
            <a:ext cx="992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3882960"/>
            <a:ext cx="152280" cy="1346400"/>
          </a:xfrm>
          <a:custGeom>
            <a:avLst/>
            <a:gdLst>
              <a:gd name="textAreaLeft" fmla="*/ 0 w 152280"/>
              <a:gd name="textAreaRight" fmla="*/ 55080 w 15228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643280" y="4581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5302080"/>
            <a:ext cx="152640" cy="648000"/>
          </a:xfrm>
          <a:custGeom>
            <a:avLst/>
            <a:gdLst>
              <a:gd name="textAreaLeft" fmla="*/ 0 w 152640"/>
              <a:gd name="textAreaRight" fmla="*/ 55080 w 152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148000" y="5661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508720" y="2924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laim of the above kind explicitly includes termination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condition, then it is called TOTAL correctness as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tion for total correctness asser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&gt;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BxB &lt;= A DO B:= B+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:=B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 =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[sqrt(A)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72080" y="3284640"/>
            <a:ext cx="1229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type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52640" y="4770360"/>
            <a:ext cx="9730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s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4076640"/>
            <a:ext cx="223920" cy="1800360"/>
          </a:xfrm>
          <a:custGeom>
            <a:avLst/>
            <a:gdLst>
              <a:gd name="textAreaLeft" fmla="*/ 0 w 223920"/>
              <a:gd name="textAreaRight" fmla="*/ 80640 w 223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5600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642920" y="342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8880" y="4076640"/>
            <a:ext cx="1258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6880" y="5491080"/>
            <a:ext cx="1355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00" y="4724280"/>
            <a:ext cx="992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360" y="566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4869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16080" y="44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semantics of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ually terminat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final values of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itial value of variable A is an integer N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, B : integers; B:=1; WHILE BxB &lt;= A DO B:= B+1; B:=B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terminat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nal value of variable B is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[sqrt(A)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 Algorithm Specific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can be spl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ually termina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initial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tually termin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lds for final values of variable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21:21:55Z</dcterms:created>
  <dc:creator>Nicolai Shilov</dc:creator>
  <dc:description/>
  <dc:language>en-US</dc:language>
  <cp:lastModifiedBy>admin</cp:lastModifiedBy>
  <dcterms:modified xsi:type="dcterms:W3CDTF">2008-02-21T11:15:09Z</dcterms:modified>
  <cp:revision>330</cp:revision>
  <dc:subject/>
  <dc:title>Science of Design Correctness </dc:title>
</cp:coreProperties>
</file>