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1C60-DA2B-4396-B049-4E6A9774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FBAD-035B-48E0-9F4F-0F0C8CE7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B56E-2486-4CE1-B0CF-1C7CC3AE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7743-2F1A-47DB-87E6-73A941BB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D3A9-DE7D-468C-88C9-9BD58ED2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29FA-3C45-45C8-88B6-5C8D9ADC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D63C-6F08-46E1-BD34-70539D20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B727-1DEB-46B6-9B6E-347D7C29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F504-9C4A-4BC3-A3F0-30C4370E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1943-9363-4BFF-95CD-3798CCA0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6AB3-6667-4525-BBCE-3681EE82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ACC3-04DD-47FF-8169-3333C0E0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9B74-2146-472B-BEE5-4917972E9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ы теории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ция 6: Основы спецификации и верификации алгоритмов и программ: разбор примеров доказательства частичной коррек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 of Interval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base of these knowledge we can formalize suggested “roundabou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ach to intervals [A,B] and [C,D] inters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s A and B are separated by straight line (C,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s C and D are separated by straight line 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retriev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following man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1720" y="2781360"/>
            <a:ext cx="152640" cy="1008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 of Interval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quation of a straight line (C,D)  that goes through the poi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(Cx,Cy) and D(Dx,Dy)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y - Dy)*X +(Dx - Cx)*Y + (Dy*Cx - Dx*Cy)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s A(Ax,Ay) and B(Bx,By) are “separated” by straight line (C,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f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y - Dy)*Ax +(Dx - Cx)*Ay + (Dy*Cx - Dx*Cy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y - Dy)*Bx +(Dx - Cx)*By + (Dy*Cx - Dx*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opposite signs (&lt;0 and &gt;0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(Cy - Dy)*Ax +(Dx - Cx)*Ay + (Dy*Cx - Dx*Cy))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*((Cy - Dy)*Bx +(Dx - Cx)*By + (Dy*Cx - Dx*Cy)) &lt;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 of Interval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quation of a straight line (A,B)  that goes through the poi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(Ax,Ay) and B(Bx,By)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y - By)*X +(Bx - Ax)*Y + (By*Ax - Bx*Ay)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s C(Cx,Cy) and D(Dx,Dy) are “separated” by straight line (A,B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f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y - By)*Cx +(Bx - Ax)*Cy + (By*Ax - Bx*Ay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y - By)*Dx +(Bx - Ax)*Dy + (By*Ax - Bx*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opposite signs (&lt;0 and &gt;0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(Ay - By)*Cx +(Bx - Ax)*Cy + (By*Ax - Bx*Ay))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*((Ay - By)*Dx +(Bx - Ax)*Dy + (By*Ax - Bx*Ay)) &lt;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 of Interval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suggested “roundabout” approach to intervals [A,B] and [C,D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s A and B are separated by straight line (C,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s C and D are separated by straight line 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formalized as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(Cy - Dy)*Ax +(Dx - Cx)*Ay + (Dy*Cx - Dx*Cy))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*((Cy - Dy)*Bx +(Dx - Cx)*By + (Dy*Cx - Dx*Cy))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(Ay - By)*Cx +(Bx - Ax)*Cy + (By*Ax - Bx*Ay))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*((Ay - By)*Dx +(Bx - Ax)*Dy + (By*Ax - Bx*Ay))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1720" y="2637000"/>
            <a:ext cx="152640" cy="1008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1720" y="4292640"/>
            <a:ext cx="152640" cy="1657440"/>
          </a:xfrm>
          <a:custGeom>
            <a:avLst/>
            <a:gdLst>
              <a:gd name="textAreaLeft" fmla="*/ 97560 w 152640"/>
              <a:gd name="textAreaRight" fmla="*/ 153000 w 15264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8306640" y="4292640"/>
            <a:ext cx="152280" cy="1657440"/>
          </a:xfrm>
          <a:custGeom>
            <a:avLst/>
            <a:gdLst>
              <a:gd name="textAreaLeft" fmla="*/ 96840 w 152280"/>
              <a:gd name="textAreaRight" fmla="*/ 152280 w 15228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 of Interval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us an informal requirement that the program outputs “YES” 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ntervals [A,B] and [C,D] intersect, and “NO” otherwise can be formaliz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s the following quantifier free 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((((Cy - Dy)*Ax +(Dx - Cx)*Ay + (Dy*Cx - Dx*Cy))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((Cy - Dy)*Bx +(Dx - Cx)*By + (Dy*Cx - Dx*Cy))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((Ay - By)*Cx +(Bx - Ax)*Cy + (By*Ax - Bx*Ay))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((Ay - By)*Dx +(Bx - Ax)*Dy + (By*Ax - Bx*Ay)) &lt; 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                                                                                       </a:t>
            </a:r>
            <a:r>
              <a:rPr b="1" lang="en-US" sz="1400" spc="-1" strike="noStrike">
                <a:solidFill>
                  <a:srgbClr val="009999"/>
                </a:solidFill>
                <a:latin typeface="Symbol"/>
                <a:ea typeface="Symbol"/>
              </a:rPr>
              <a:t>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answer = Y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(NOT ( ((Cy - Dy)*Ax +(Dx - Cx)*Ay + (Dy*Cx - Dx*Cy))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((Cy - Dy)*Bx +(Dx - Cx)*By + (Dy*Cx - Dx*Cy))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((Ay - By)*Cx +(Bx - Ax)*Cy + (By*Ax - Bx*Ay))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((Ay - By)*Dx +(Bx - Ax)*Dy + (By*Ax - Bx*Ay)) &lt; 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9999"/>
                </a:solidFill>
                <a:latin typeface="Symbol"/>
                <a:ea typeface="Symbol"/>
              </a:rPr>
              <a:t>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answer = NO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also contributes a part to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ype cont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R answer : {YES, NO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 of Interval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t can be simplified in accordance with the Boolean tau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((X </a:t>
            </a:r>
            <a:r>
              <a:rPr b="0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Y) &amp; (!X </a:t>
            </a:r>
            <a:r>
              <a:rPr b="0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Z)) </a:t>
            </a:r>
            <a:r>
              <a:rPr b="0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(X&amp;Y V !X&amp;Z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nd standard arithmetic equivalence !(a&lt;b) </a:t>
            </a:r>
            <a:r>
              <a:rPr b="0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(a&gt;=b)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(((Cy - Dy)*Ax +(Dx - Cx)*Ay + (Dy*Cx - Dx*Cy))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(Cy - Dy)*Bx +(Dx - Cx)*By + (Dy*Cx - Dx*Cy))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(Ay - By)*Cx +(Bx - Ax)*Cy + (By*Ax - Bx*Ay))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(Ay - By)*Dx +(Bx - Ax)*Dy + (By*Ax - Bx*Ay)) &lt; 0)  AND answer = Y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NOT (((Cy - Dy)*Ax +(Dx - Cx)*Ay + (Dy*Cx - Dx*Cy))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(Cy - Dy)*Bx +(Dx - Cx)*By + (Dy*Cx - Dx*Cy))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(Ay - By)*Cx +(Bx - Ax)*Cy + (By*Ax - Bx*Ay))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(Ay - By)*Dx +(Bx - Ax)*Dy + (By*Ax - Bx*Ay)) &lt; 0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ND answer = NO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 of Interval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a hint for a desig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F condition THEN answer:=YES ELSE answer:=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condition is sim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and B are separated by line (C,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and D are separated by line 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(Cy - Dy)*Ax +(Dx - Cx)*Ay + (Dy*Cx - Dx*Cy))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(Cy - Dy)*Bx +(Dx - Cx)*By + (Dy*Cx - Dx*Cy))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(Ay - By)*Cx +(Bx - Ax)*Cy + (By*Ax - Bx*Ay))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(Ay - By)*Dx +(Bx - Ax)*Dy + (By*Ax - Bx*Ay))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1720" y="2781360"/>
            <a:ext cx="152640" cy="1008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 of Interval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akes verification extremely simple for the following specif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F condition THEN answer:=YES ELSE answer:=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71920" y="4119480"/>
            <a:ext cx="9946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n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01840" y="3787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51080" y="3645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36280" y="3211560"/>
            <a:ext cx="110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e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71640" y="4437000"/>
            <a:ext cx="48420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01720" y="4905360"/>
            <a:ext cx="13129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nswer:=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66920" y="56260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411280" y="5229360"/>
            <a:ext cx="865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7240" y="5851440"/>
            <a:ext cx="118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post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93400" y="43988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312920" y="4437000"/>
            <a:ext cx="45072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7040" y="4905360"/>
            <a:ext cx="1416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nswer:=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36680" y="5265720"/>
            <a:ext cx="93024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88080" y="43988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9720" y="4121280"/>
            <a:ext cx="9946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n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9640" y="37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68880" y="36464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54080" y="3213000"/>
            <a:ext cx="110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e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12000" y="555768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12320" y="5783400"/>
            <a:ext cx="118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post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8472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81280" y="4906800"/>
            <a:ext cx="1416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nswer:=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83280" y="522936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96720" y="44719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34440" y="4121280"/>
            <a:ext cx="9946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n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64360" y="37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13600" y="364644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498800" y="3213000"/>
            <a:ext cx="110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e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956720" y="555768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57040" y="5783400"/>
            <a:ext cx="118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post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02944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4800" y="4906800"/>
            <a:ext cx="13129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nswer:=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8000" y="522936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986240" y="44719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57840" y="63500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tated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21480" y="635652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yclic annotated p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 of Interval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4080" y="3397320"/>
            <a:ext cx="9946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n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24000" y="30654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73240" y="292248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440" y="2489040"/>
            <a:ext cx="110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e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16000" y="48340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6320" y="5059440"/>
            <a:ext cx="118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post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89080" y="37130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5280" y="4183200"/>
            <a:ext cx="1416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nswer:=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450540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720" y="37479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67360" y="4724280"/>
            <a:ext cx="63939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condition &amp; answer=YES) V (!condition &amp; answer=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63040" y="3743280"/>
            <a:ext cx="5763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condition &amp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ES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=YES) V (!condition &amp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ES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=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258560" y="4869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58560" y="393372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86520" y="4286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386440" y="2951280"/>
            <a:ext cx="2567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dition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258560" y="31449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29360" y="3349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20720" y="213372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7640" y="598500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pro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50080" y="2133720"/>
            <a:ext cx="2610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 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476360" y="234936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93000" y="25322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 of Interval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94080" y="3397320"/>
            <a:ext cx="9946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n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4000" y="30654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73240" y="292248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58440" y="2489040"/>
            <a:ext cx="110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e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16000" y="48340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6320" y="5059440"/>
            <a:ext cx="118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post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89080" y="37130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4440" y="4183200"/>
            <a:ext cx="13129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nswer:=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87280" y="450540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01080" y="374796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67360" y="4724280"/>
            <a:ext cx="63939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condition &amp; answer=YES) V (!condition &amp; answer=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59800" y="3743280"/>
            <a:ext cx="5513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condition &amp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=YES) V (!condition &amp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=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258560" y="4869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258560" y="393372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86520" y="4286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64840" y="2954160"/>
            <a:ext cx="2599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dition V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!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258560" y="31449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29360" y="3349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20720" y="213372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7640" y="598500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pro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50080" y="2133720"/>
            <a:ext cx="2610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 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476360" y="234936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93000" y="25322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 of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nterval intersection Prob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Design a program that for 4 input poi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, B, C and D on the plane (where 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points do not belong to any straight line simultaneously)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utpu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YES” iff intervals [A,B] and [C,D] have inside intersection, and “NO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therwise. Annotate and prove your desig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est way to start to solve this problem is ... to retrieve formal pre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post- conditions from the informal problem requirements and on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o design an algorithm in accordance with these pre- and post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70400" y="1568520"/>
            <a:ext cx="339912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Homework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from heuristic search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jkstra problem: implement che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intervals (All_Black[i], All_White[i])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(All_Black[j], All_White[j]) intersect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re non 3 points can not belong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y straight line simultane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 of Interval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us the Interval intersection Problem is solved (Sic! termination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rivial, since the design is loop-free). The solution demonstrates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ieval of formal pre- and post- conditions from the informal probl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is very useful for “right” des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Power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ast Power Function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Design a program that inputs positive integer number N and  re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number X and outputs real value 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 Time complexity of desig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rogram should be O(log N). Your design may use multiplication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real numbers, division and standard (in)equality relations for integ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numbers,  but can not use any other operation. Annotate and pr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your des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n contrast to the Interval Intersection Problem, the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type context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,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are easy to retrieve and formali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R N : integer; VAR X, A(nswer) : real numb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&gt;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=X</a:t>
            </a:r>
            <a:r>
              <a:rPr b="1" lang="en-US" sz="20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Power Function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blem is in this case in the design constrai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dmissible operations are fixe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ime complexity is boun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bound O(log N) is typical complexity for divide and conqu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ology. In accordance with general outlines of the methodolog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have to express 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 simple function of 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[N/2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At the same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bound by the set of admissible operations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(i.e. re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ultiplication, integer division and integer (in)equalities). All the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onstraints are met in the following recurrent formul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[N/2]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= (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[N/2]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) x (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[N/2]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), if N is ev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[N/2]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x X = (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[N/2]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) x (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[N/2]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) x X , if N is od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11280" y="501336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Power Function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bove recurrent formula leads to the following design where tw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xiliary variable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used for square (i.e.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[N/2]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N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ing parts (i.e. X), another auxiliary variable M is used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te values of the po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R N, M : integer; VAR X, S, R, A : real numb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put X and N ; R:=1 ; S:=X ; M:=N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ILE M &gt; 1 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{ IF odd(M) THEN R:= R x S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:= S x S ; M:= [M/2] }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:= S x R ; output 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odd(N) is easy to express in terms of integer divis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ication and inequalities: odd(N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2x[N/2] &lt;&gt; 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Power Function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 we have the following total correctness specif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R N, M : integer; VAR X, S, R, A : real numb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 &gt;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:=1 ; S:=X ; M:=N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ILE M &gt; 1 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{ IF odd(M) THEN R:= R x S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:= S x S ; M:= [M/2] }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swer:= S x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 = X</a:t>
            </a:r>
            <a:r>
              <a:rPr b="1" lang="en-US" sz="20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54520" y="2394000"/>
            <a:ext cx="12294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type 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300360" y="2563920"/>
            <a:ext cx="11509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46880" y="3141720"/>
            <a:ext cx="1258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pre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53000" y="5275440"/>
            <a:ext cx="1355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post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7600" y="4221000"/>
            <a:ext cx="992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algorit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329840" y="328464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476000" y="5445000"/>
            <a:ext cx="3166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95640" y="3429000"/>
            <a:ext cx="223920" cy="1778040"/>
          </a:xfrm>
          <a:custGeom>
            <a:avLst/>
            <a:gdLst>
              <a:gd name="textAreaLeft" fmla="*/ 0 w 223920"/>
              <a:gd name="textAreaRight" fmla="*/ 80640 w 223920"/>
              <a:gd name="textAreaTop" fmla="*/ 46080 h 1778040"/>
              <a:gd name="textAreaBottom" fmla="*/ 1731960 h 177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211280" y="43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Power Function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tion and time complexity of the algorithm is straightforwar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every iteration of the loop body makes value of N twice small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 the values of M form a sequence N, [N/2], [[N/2]/2], [[[N/2]/2]/2],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Hence we have to prove the following partial correctness ass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 &gt;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:=1 ; S:=X ; M:=N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ILE M &gt; 1 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{ IF odd(M) THEN R:= R x S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:= S x S ; M:= [M/2] }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swer:= S x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 = X</a:t>
            </a:r>
            <a:r>
              <a:rPr b="1" lang="en-US" sz="20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am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ype cont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Let us proceed in accordance with FHM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46880" y="3141720"/>
            <a:ext cx="1258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pre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53000" y="5275440"/>
            <a:ext cx="1355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post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7600" y="4221000"/>
            <a:ext cx="992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algorith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329840" y="328464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476000" y="5445000"/>
            <a:ext cx="3166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95640" y="3429000"/>
            <a:ext cx="223920" cy="1778040"/>
          </a:xfrm>
          <a:custGeom>
            <a:avLst/>
            <a:gdLst>
              <a:gd name="textAreaLeft" fmla="*/ 0 w 223920"/>
              <a:gd name="textAreaRight" fmla="*/ 80640 w 223920"/>
              <a:gd name="textAreaTop" fmla="*/ 46080 h 1778040"/>
              <a:gd name="textAreaBottom" fmla="*/ 1731960 h 177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211280" y="43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Power Function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35560" y="2133720"/>
            <a:ext cx="2233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N &gt; 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R:=1 ; S:=X ; M:=N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WHILE M &gt; 1 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{ IF odd(M) THEN R:= R x 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:= S x S ; M:= [M/2] }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:= S x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 = X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27600" y="1622520"/>
            <a:ext cx="506844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put assertion {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lgorith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s a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fine a set of control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lowchar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tart and the finish of the algorithm are include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ery cycle trough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ontains some control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03520" y="1052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94840" y="5249880"/>
            <a:ext cx="1332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R:=1;S:=X;M:=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8424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11720" y="4508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32240" y="5865840"/>
            <a:ext cx="566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M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4120" y="5878440"/>
            <a:ext cx="726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:=Sx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1199880" y="60199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72600" y="57308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97880" y="57308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95640" y="6019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06560" y="551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826920" y="55144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08640" y="5865840"/>
            <a:ext cx="686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odd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50600" y="57308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348000" y="6019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58840" y="5875200"/>
            <a:ext cx="1637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:= S x S ; M:= [M/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25400" y="6237360"/>
            <a:ext cx="726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R:=Rx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59280" y="6165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59280" y="63784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72360" y="61279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40360" y="63784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16360" y="6165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716360" y="566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979640" y="566100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379680" y="3068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9560" y="3738600"/>
            <a:ext cx="1332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R:=1;S:=X;M:=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67160" y="3357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80600" y="31417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015160" y="4354560"/>
            <a:ext cx="566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M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57040" y="4367160"/>
            <a:ext cx="726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:=Sx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582800" y="450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55520" y="421956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80800" y="42195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78560" y="4508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89480" y="4005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210200" y="40032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24720" y="378792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91560" y="4354560"/>
            <a:ext cx="686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odd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33520" y="421956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30920" y="4508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41760" y="4363920"/>
            <a:ext cx="1637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:= S x S ; M:= [M/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08320" y="4726080"/>
            <a:ext cx="726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R:=Rx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42200" y="4654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42200" y="48672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155280" y="46162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23280" y="48672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8099280" y="4654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810108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292360" y="4149720"/>
            <a:ext cx="2809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 rot="5400000">
            <a:off x="3562920" y="4783680"/>
            <a:ext cx="852480" cy="73332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1920 h 733320"/>
              <a:gd name="textAreaBottom" fmla="*/ 6278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835280" y="472428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41800" y="515628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3560" y="5372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334880" y="553068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836720" y="56023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Power Function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338560" y="1628640"/>
            <a:ext cx="45302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ign th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ign th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each control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other than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on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 assign appropriat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invarian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o the control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50280" y="2852640"/>
            <a:ext cx="2233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N &gt; 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R:=1 ; S:=X ; M:=N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WHILE M &gt; 1 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{ IF odd(M) THEN R:= R x 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:= S x S ; M:= [M/2] }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:= S x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 = X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215720" y="5249880"/>
            <a:ext cx="1332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R:=1;S:=X;M:=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88424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11720" y="4508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32240" y="5865840"/>
            <a:ext cx="566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M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74120" y="5878440"/>
            <a:ext cx="726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:=Sx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199880" y="60199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72600" y="57308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97880" y="57308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195640" y="6019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06560" y="551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826920" y="55144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708640" y="5865840"/>
            <a:ext cx="686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odd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50600" y="57308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48000" y="6019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58840" y="5875200"/>
            <a:ext cx="1637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:= S x S ; M:= [M/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25400" y="6237360"/>
            <a:ext cx="726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R:=Rx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59280" y="6165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59280" y="63784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72360" y="61279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140360" y="63784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716360" y="6165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716360" y="566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979640" y="566100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835280" y="472428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41800" y="515628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3560" y="5372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334880" y="553068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836720" y="56023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580000" y="2852640"/>
            <a:ext cx="328680" cy="3672000"/>
          </a:xfrm>
          <a:custGeom>
            <a:avLst/>
            <a:gdLst>
              <a:gd name="textAreaLeft" fmla="*/ 0 w 328680"/>
              <a:gd name="textAreaRight" fmla="*/ 118800 w 32868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43680" y="4438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72440" y="3573360"/>
            <a:ext cx="13755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= S</a:t>
            </a:r>
            <a:r>
              <a:rPr b="1" lang="en-US" sz="1800" spc="-1" strike="noStrike" baseline="30000">
                <a:solidFill>
                  <a:srgbClr val="009999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x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M in [1..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n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=X</a:t>
            </a:r>
            <a:r>
              <a:rPr b="1" lang="en-US" sz="18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1440" y="2811600"/>
            <a:ext cx="257184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varia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hould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 property that hol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very time w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trol flow pass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tr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Power Function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502280" y="1628640"/>
            <a:ext cx="687456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every pair of control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 IF in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ere is a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out control points ins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N prove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holds before execution of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ermin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n th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holds after execution of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98560" y="41832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9360" y="41101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74280" y="4110120"/>
            <a:ext cx="1332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R:=1;S:=X;M:=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19640" y="41832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511440" y="411012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98160" y="484488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00000" y="49165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52680" y="4830840"/>
            <a:ext cx="566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M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653560" y="4834080"/>
            <a:ext cx="726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:=Sx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89440" y="49165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80520" y="484344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8160" y="556416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00000" y="563868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552680" y="5553000"/>
            <a:ext cx="566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M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24800" y="54100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122560" y="56991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635560" y="5545080"/>
            <a:ext cx="686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odd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377520" y="54100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348000" y="56991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858840" y="5554800"/>
            <a:ext cx="1637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:= S x S ; M:= [M/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12000" y="562752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03800" y="55548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98160" y="624996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00000" y="632160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554120" y="6235560"/>
            <a:ext cx="566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M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124000" y="6381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637360" y="6227640"/>
            <a:ext cx="686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odd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349800" y="6381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084280" y="6237360"/>
            <a:ext cx="1637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:= S x S ; M:= [M/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237440" y="63104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329240" y="623736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58480" y="6235560"/>
            <a:ext cx="726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R:=Rx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21800" y="60548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372440" y="3573360"/>
            <a:ext cx="13755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= S</a:t>
            </a:r>
            <a:r>
              <a:rPr b="1" lang="en-US" sz="1800" spc="-1" strike="noStrike" baseline="30000">
                <a:solidFill>
                  <a:srgbClr val="009999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x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M in [1..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n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=X</a:t>
            </a:r>
            <a:r>
              <a:rPr b="1" lang="en-US" sz="18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0" y="6380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32720" y="6380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505480" y="56991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386160" y="49752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152080" y="46864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22560" y="49752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914560" y="42544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42920" y="6380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42920" y="56991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042920" y="49737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042920" y="42544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196360" y="60562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39640" y="3213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Power Function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502280" y="1628640"/>
            <a:ext cx="687456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every pair of control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 IF in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ere is a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out control points ins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N prove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holds before execution of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ermin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n th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holds after execution of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98560" y="357336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59360" y="35002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574280" y="3500280"/>
            <a:ext cx="1332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R:=1;S:=X;M:=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419640" y="357336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511440" y="350028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98160" y="54594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00000" y="5530680"/>
            <a:ext cx="1447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52680" y="5445000"/>
            <a:ext cx="566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M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653560" y="5448240"/>
            <a:ext cx="726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:=Sx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89440" y="553068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80520" y="54579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72440" y="3573360"/>
            <a:ext cx="13755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= S</a:t>
            </a:r>
            <a:r>
              <a:rPr b="1" lang="en-US" sz="1800" spc="-1" strike="noStrike" baseline="30000">
                <a:solidFill>
                  <a:srgbClr val="009999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x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M in [1..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n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=X</a:t>
            </a:r>
            <a:r>
              <a:rPr b="1" lang="en-US" sz="18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386160" y="558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152080" y="53006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122560" y="558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14560" y="36450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042920" y="5587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042920" y="364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998080" y="2852640"/>
            <a:ext cx="10616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 = S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M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&amp; M in [1..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92360" y="3357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58920" y="357192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34120" y="2852640"/>
            <a:ext cx="1044720" cy="459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 = X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N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&amp; N in [1..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328760" y="3357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17120" y="3933720"/>
            <a:ext cx="4640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N&gt;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971640" y="37180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19160" y="5016600"/>
            <a:ext cx="5450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=X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95640" y="530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340000" y="551664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409840" y="566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028960" y="5881680"/>
            <a:ext cx="73260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SxR=X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49680" y="4797360"/>
            <a:ext cx="732600" cy="459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&gt;1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SxR=X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58920" y="551664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332000" y="530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7160" y="5915160"/>
            <a:ext cx="10616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 = S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M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&amp; M in [1..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971640" y="566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61960" y="2852640"/>
            <a:ext cx="141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&gt;0 </a:t>
            </a:r>
            <a:r>
              <a:rPr b="0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= X</a:t>
            </a:r>
            <a:r>
              <a:rPr b="1" lang="en-US" sz="18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&amp; N in [1..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01560" y="4800600"/>
            <a:ext cx="17535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= S</a:t>
            </a:r>
            <a:r>
              <a:rPr b="1" lang="en-US" sz="1800" spc="-1" strike="noStrike" baseline="30000">
                <a:solidFill>
                  <a:srgbClr val="009999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x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&amp; M in [1..N] </a:t>
            </a:r>
            <a:r>
              <a:rPr b="0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M&gt;1 V SxR=X</a:t>
            </a:r>
            <a:r>
              <a:rPr b="1" lang="en-US" sz="18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 of Interval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t trivial, but is still quite straightforward. It have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izes the following informal requirement: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“input points A, B, C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D on the plane (where n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points can not belong to any straight l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taneously)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t can be done in the following manner simultaneously with definition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 part of the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type context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oints A, B, C and D may be represented by their coordinates A(Ax,Ay), B(Bx,By), C(Cx,Cy) and D(Dx,D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ence the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type context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must include the following declaration                               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VAR Ax, Ay, Bx, By, Cx, Cy, Dx, Dy : real numbers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requirement for input points that “n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points can not belong to any straight line simultaneously”  must be expressed in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 form of constraints for values of these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Power Function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502280" y="1628640"/>
            <a:ext cx="687456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every pair of control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 IF in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ere is a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out control points ins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N prove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holds before execution of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ermin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n th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holds after execution of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98160" y="354816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900000" y="362268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552680" y="3537000"/>
            <a:ext cx="566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M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080440" y="33940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22560" y="36831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635560" y="3529080"/>
            <a:ext cx="686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odd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77520" y="33940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348000" y="36831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858840" y="3538440"/>
            <a:ext cx="1637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:= S x S ; M:= [M/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12000" y="36115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03800" y="353844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505480" y="36831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042920" y="36831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590440" y="2886120"/>
            <a:ext cx="10616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 = S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M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&amp; M in [1..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084720" y="33908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564000" y="3605040"/>
            <a:ext cx="14436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633840" y="33908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75560" y="2886120"/>
            <a:ext cx="10616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 = S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M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&amp; M in [1..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969840" y="33908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44440" y="2886120"/>
            <a:ext cx="1377000" cy="459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 = (SxS)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[M/2]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&amp; [M/2] in [1..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152080" y="3967200"/>
            <a:ext cx="1377000" cy="641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odd(M)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 = (SxS)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[M/2]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&amp; [M/2] in [1..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340000" y="360684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11280" y="37512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36080" y="3965400"/>
            <a:ext cx="1377000" cy="824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&gt;1  </a:t>
            </a:r>
            <a:r>
              <a:rPr b="1" lang="en-US" sz="1200" spc="-1" strike="noStrike">
                <a:solidFill>
                  <a:srgbClr val="009999"/>
                </a:solidFill>
                <a:latin typeface="Symbol"/>
                <a:ea typeface="Symbol"/>
              </a:rPr>
              <a:t>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odd(M)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 = (SxS)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[M/2]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&amp; [M/2] in [1..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258920" y="360684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330200" y="37512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372440" y="3573360"/>
            <a:ext cx="13755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= S</a:t>
            </a:r>
            <a:r>
              <a:rPr b="1" lang="en-US" sz="1800" spc="-1" strike="noStrike" baseline="30000">
                <a:solidFill>
                  <a:srgbClr val="009999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x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M in [1..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n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=X</a:t>
            </a:r>
            <a:r>
              <a:rPr b="1" lang="en-US" sz="18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164040" y="5037120"/>
            <a:ext cx="3887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= S</a:t>
            </a:r>
            <a:r>
              <a:rPr b="1" lang="en-US" sz="1800" spc="-1" strike="noStrike" baseline="30000">
                <a:solidFill>
                  <a:srgbClr val="009999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x R &amp; M in [1..N] </a:t>
            </a:r>
            <a:r>
              <a:rPr b="0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 M&gt;1  </a:t>
            </a:r>
            <a:r>
              <a:rPr b="0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odd(M)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= (SxS)</a:t>
            </a:r>
            <a:r>
              <a:rPr b="1" lang="en-US" sz="1800" spc="-1" strike="noStrike" baseline="30000">
                <a:solidFill>
                  <a:srgbClr val="009999"/>
                </a:solidFill>
                <a:latin typeface="Arial"/>
              </a:rPr>
              <a:t>[M/2]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x R &amp; [M/2] in [1..N]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Power Function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502280" y="1628640"/>
            <a:ext cx="687456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every pair of control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 IF in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lowcha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ere is a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out control points ins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N prove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holds before execution of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ermin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n the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nnotation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holds after execution of the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1760" y="420048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63600" y="42721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917720" y="4186080"/>
            <a:ext cx="566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M 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87600" y="43322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000600" y="4178160"/>
            <a:ext cx="686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odd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713040" y="43322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447880" y="4187880"/>
            <a:ext cx="1637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:= S x S ; M:= [M/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159600" y="48704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251400" y="479736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222080" y="4186080"/>
            <a:ext cx="726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R:=Rx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640680" y="40053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935600" y="4330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406520" y="4330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15320" y="3354480"/>
            <a:ext cx="1665360" cy="641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odd(M) </a:t>
            </a:r>
            <a:r>
              <a:rPr b="1" lang="en-US" sz="1200" spc="-1" strike="noStrike">
                <a:solidFill>
                  <a:srgbClr val="009999"/>
                </a:solidFill>
                <a:latin typeface="Symbol"/>
                <a:ea typeface="Symbol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 = (SxS)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[M/2]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 (Rx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&amp; [M/2] in [1..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72440" y="3573360"/>
            <a:ext cx="13755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= S</a:t>
            </a:r>
            <a:r>
              <a:rPr b="1" lang="en-US" sz="1800" spc="-1" strike="noStrike" baseline="30000">
                <a:solidFill>
                  <a:srgbClr val="009999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x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M in [1..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n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=X</a:t>
            </a:r>
            <a:r>
              <a:rPr b="1" lang="en-US" sz="18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230880" y="4510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663520" y="5230800"/>
            <a:ext cx="10616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 = S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M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&amp; M in [1..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230880" y="50148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227560" y="40068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538160" y="3502080"/>
            <a:ext cx="1377000" cy="459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 = (SxS)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[M/2]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&amp; [M/2] in [1..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51600" y="422280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927600" y="422280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444040" y="40053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07320" y="4581360"/>
            <a:ext cx="1665360" cy="459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 = (SxS)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[M/2]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 (Rx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&amp; [M/2] in [1..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98880" y="4365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03600" y="4221000"/>
            <a:ext cx="14436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773440" y="40068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77000" y="3141720"/>
            <a:ext cx="1622520" cy="824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&gt;1  </a:t>
            </a:r>
            <a:r>
              <a:rPr b="1" lang="en-US" sz="1200" spc="-1" strike="noStrike">
                <a:solidFill>
                  <a:srgbClr val="009999"/>
                </a:solidFill>
                <a:latin typeface="Symbol"/>
                <a:ea typeface="Symbol"/>
              </a:rPr>
              <a:t>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odd(M) </a:t>
            </a:r>
            <a:r>
              <a:rPr b="1" lang="en-US" sz="1200" spc="-1" strike="noStrike">
                <a:solidFill>
                  <a:srgbClr val="009999"/>
                </a:solidFill>
                <a:latin typeface="Symbol"/>
                <a:ea typeface="Symbol"/>
              </a:rPr>
              <a:t>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 = (SxS)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[M/2]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(Rx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&amp; [M/2] in [1..N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622520" y="421956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69236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6080" y="4654440"/>
            <a:ext cx="10616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 = S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M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&amp; M in [1..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335240" y="44388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3480" y="5397480"/>
            <a:ext cx="43185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= S</a:t>
            </a:r>
            <a:r>
              <a:rPr b="1" lang="en-US" sz="1800" spc="-1" strike="noStrike" baseline="30000">
                <a:solidFill>
                  <a:srgbClr val="009999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x R &amp; M in [1..N] </a:t>
            </a:r>
            <a:r>
              <a:rPr b="0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 M&gt;1  </a:t>
            </a:r>
            <a:r>
              <a:rPr b="0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(odd(M) </a:t>
            </a:r>
            <a:r>
              <a:rPr b="0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= (SxS)</a:t>
            </a:r>
            <a:r>
              <a:rPr b="1" lang="en-US" sz="1800" spc="-1" strike="noStrike" baseline="30000">
                <a:solidFill>
                  <a:srgbClr val="009999"/>
                </a:solidFill>
                <a:latin typeface="Arial"/>
              </a:rPr>
              <a:t>[M/2]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x(RxX) &amp; [M/2] in [1..N] 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916760" y="603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Power Function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 we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d algorith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ed and annotated i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d termination, partial and (hence) total correctn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Fast Power Function Problem. So the problem is solved completel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1000" y="4137120"/>
            <a:ext cx="2233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N &gt; 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R:=1 ; S:=X ; M:=N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WHILE M &gt; 1 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{ IF odd(M) THEN R:= R x 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:= S x S ; M:= [M/2] }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:= S x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 = X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18769200">
            <a:off x="2394720" y="4509360"/>
            <a:ext cx="194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   A   L   I  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858640" y="4137120"/>
            <a:ext cx="2233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N &gt; 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R:=1 ; S:=X ; M:=N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WHILE M &gt; 1 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{ IF odd(M) THEN R:= R x 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:= S x S ; M:= [M/2] }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:= S x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A = X</a:t>
            </a:r>
            <a:r>
              <a:rPr b="1" lang="en-US" sz="1200" spc="-1" strike="noStrike" baseline="30000">
                <a:solidFill>
                  <a:srgbClr val="009999"/>
                </a:solidFill>
                <a:latin typeface="Arial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18769200">
            <a:off x="5922000" y="4509360"/>
            <a:ext cx="194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   A   L   I  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4360" y="459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apture a 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on Capture Probl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to capture a Lion which is somewhere in the Sahara dese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know how to solve the Problem? - If it is not the case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ase let me teach you a number of method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793960" y="2565360"/>
            <a:ext cx="2786040" cy="1784520"/>
          </a:xfrm>
          <a:custGeom>
            <a:avLst/>
            <a:gdLst/>
            <a:ahLst/>
            <a:rect l="l" t="t" r="r" b="b"/>
            <a:pathLst>
              <a:path w="1755" h="1124">
                <a:moveTo>
                  <a:pt x="284" y="296"/>
                </a:moveTo>
                <a:cubicBezTo>
                  <a:pt x="285" y="286"/>
                  <a:pt x="287" y="240"/>
                  <a:pt x="295" y="224"/>
                </a:cubicBezTo>
                <a:cubicBezTo>
                  <a:pt x="331" y="153"/>
                  <a:pt x="401" y="132"/>
                  <a:pt x="474" y="123"/>
                </a:cubicBezTo>
                <a:cubicBezTo>
                  <a:pt x="487" y="115"/>
                  <a:pt x="502" y="111"/>
                  <a:pt x="513" y="101"/>
                </a:cubicBezTo>
                <a:cubicBezTo>
                  <a:pt x="529" y="88"/>
                  <a:pt x="534" y="62"/>
                  <a:pt x="552" y="50"/>
                </a:cubicBezTo>
                <a:cubicBezTo>
                  <a:pt x="582" y="29"/>
                  <a:pt x="617" y="9"/>
                  <a:pt x="653" y="0"/>
                </a:cubicBezTo>
                <a:cubicBezTo>
                  <a:pt x="719" y="7"/>
                  <a:pt x="784" y="16"/>
                  <a:pt x="848" y="34"/>
                </a:cubicBezTo>
                <a:cubicBezTo>
                  <a:pt x="859" y="37"/>
                  <a:pt x="870" y="42"/>
                  <a:pt x="882" y="45"/>
                </a:cubicBezTo>
                <a:cubicBezTo>
                  <a:pt x="899" y="49"/>
                  <a:pt x="932" y="56"/>
                  <a:pt x="932" y="56"/>
                </a:cubicBezTo>
                <a:cubicBezTo>
                  <a:pt x="975" y="84"/>
                  <a:pt x="920" y="51"/>
                  <a:pt x="971" y="73"/>
                </a:cubicBezTo>
                <a:cubicBezTo>
                  <a:pt x="1000" y="86"/>
                  <a:pt x="1020" y="112"/>
                  <a:pt x="1050" y="123"/>
                </a:cubicBezTo>
                <a:cubicBezTo>
                  <a:pt x="1080" y="112"/>
                  <a:pt x="1099" y="109"/>
                  <a:pt x="1134" y="106"/>
                </a:cubicBezTo>
                <a:cubicBezTo>
                  <a:pt x="1182" y="102"/>
                  <a:pt x="1279" y="95"/>
                  <a:pt x="1279" y="95"/>
                </a:cubicBezTo>
                <a:cubicBezTo>
                  <a:pt x="1394" y="99"/>
                  <a:pt x="1480" y="104"/>
                  <a:pt x="1587" y="123"/>
                </a:cubicBezTo>
                <a:cubicBezTo>
                  <a:pt x="1609" y="140"/>
                  <a:pt x="1636" y="146"/>
                  <a:pt x="1654" y="168"/>
                </a:cubicBezTo>
                <a:cubicBezTo>
                  <a:pt x="1664" y="180"/>
                  <a:pt x="1682" y="207"/>
                  <a:pt x="1682" y="207"/>
                </a:cubicBezTo>
                <a:cubicBezTo>
                  <a:pt x="1690" y="233"/>
                  <a:pt x="1707" y="253"/>
                  <a:pt x="1715" y="280"/>
                </a:cubicBezTo>
                <a:cubicBezTo>
                  <a:pt x="1712" y="331"/>
                  <a:pt x="1690" y="417"/>
                  <a:pt x="1721" y="464"/>
                </a:cubicBezTo>
                <a:cubicBezTo>
                  <a:pt x="1723" y="470"/>
                  <a:pt x="1723" y="476"/>
                  <a:pt x="1726" y="481"/>
                </a:cubicBezTo>
                <a:cubicBezTo>
                  <a:pt x="1729" y="486"/>
                  <a:pt x="1736" y="487"/>
                  <a:pt x="1738" y="492"/>
                </a:cubicBezTo>
                <a:cubicBezTo>
                  <a:pt x="1746" y="517"/>
                  <a:pt x="1746" y="544"/>
                  <a:pt x="1754" y="570"/>
                </a:cubicBezTo>
                <a:cubicBezTo>
                  <a:pt x="1752" y="593"/>
                  <a:pt x="1755" y="616"/>
                  <a:pt x="1749" y="638"/>
                </a:cubicBezTo>
                <a:cubicBezTo>
                  <a:pt x="1745" y="654"/>
                  <a:pt x="1726" y="682"/>
                  <a:pt x="1726" y="682"/>
                </a:cubicBezTo>
                <a:cubicBezTo>
                  <a:pt x="1710" y="770"/>
                  <a:pt x="1594" y="768"/>
                  <a:pt x="1525" y="772"/>
                </a:cubicBezTo>
                <a:cubicBezTo>
                  <a:pt x="1471" y="788"/>
                  <a:pt x="1549" y="921"/>
                  <a:pt x="1503" y="967"/>
                </a:cubicBezTo>
                <a:cubicBezTo>
                  <a:pt x="1491" y="979"/>
                  <a:pt x="1395" y="992"/>
                  <a:pt x="1374" y="995"/>
                </a:cubicBezTo>
                <a:cubicBezTo>
                  <a:pt x="1302" y="1020"/>
                  <a:pt x="1424" y="980"/>
                  <a:pt x="1206" y="995"/>
                </a:cubicBezTo>
                <a:cubicBezTo>
                  <a:pt x="1200" y="995"/>
                  <a:pt x="1203" y="1006"/>
                  <a:pt x="1201" y="1012"/>
                </a:cubicBezTo>
                <a:cubicBezTo>
                  <a:pt x="1196" y="1028"/>
                  <a:pt x="1187" y="1049"/>
                  <a:pt x="1178" y="1063"/>
                </a:cubicBezTo>
                <a:cubicBezTo>
                  <a:pt x="1158" y="1093"/>
                  <a:pt x="1110" y="1112"/>
                  <a:pt x="1078" y="1124"/>
                </a:cubicBezTo>
                <a:cubicBezTo>
                  <a:pt x="1018" y="1122"/>
                  <a:pt x="959" y="1121"/>
                  <a:pt x="899" y="1118"/>
                </a:cubicBezTo>
                <a:cubicBezTo>
                  <a:pt x="833" y="1114"/>
                  <a:pt x="783" y="1062"/>
                  <a:pt x="731" y="1029"/>
                </a:cubicBezTo>
                <a:cubicBezTo>
                  <a:pt x="733" y="1023"/>
                  <a:pt x="743" y="1012"/>
                  <a:pt x="737" y="1012"/>
                </a:cubicBezTo>
                <a:cubicBezTo>
                  <a:pt x="729" y="1012"/>
                  <a:pt x="727" y="1025"/>
                  <a:pt x="720" y="1029"/>
                </a:cubicBezTo>
                <a:cubicBezTo>
                  <a:pt x="713" y="1034"/>
                  <a:pt x="688" y="1038"/>
                  <a:pt x="681" y="1040"/>
                </a:cubicBezTo>
                <a:cubicBezTo>
                  <a:pt x="633" y="1054"/>
                  <a:pt x="535" y="1068"/>
                  <a:pt x="535" y="1068"/>
                </a:cubicBezTo>
                <a:cubicBezTo>
                  <a:pt x="325" y="1064"/>
                  <a:pt x="335" y="1060"/>
                  <a:pt x="189" y="1040"/>
                </a:cubicBezTo>
                <a:cubicBezTo>
                  <a:pt x="145" y="1023"/>
                  <a:pt x="166" y="1035"/>
                  <a:pt x="121" y="990"/>
                </a:cubicBezTo>
                <a:cubicBezTo>
                  <a:pt x="113" y="982"/>
                  <a:pt x="99" y="967"/>
                  <a:pt x="99" y="967"/>
                </a:cubicBezTo>
                <a:cubicBezTo>
                  <a:pt x="90" y="944"/>
                  <a:pt x="87" y="932"/>
                  <a:pt x="71" y="912"/>
                </a:cubicBezTo>
                <a:cubicBezTo>
                  <a:pt x="64" y="887"/>
                  <a:pt x="51" y="865"/>
                  <a:pt x="43" y="839"/>
                </a:cubicBezTo>
                <a:cubicBezTo>
                  <a:pt x="39" y="826"/>
                  <a:pt x="36" y="813"/>
                  <a:pt x="32" y="800"/>
                </a:cubicBezTo>
                <a:cubicBezTo>
                  <a:pt x="30" y="792"/>
                  <a:pt x="26" y="777"/>
                  <a:pt x="26" y="777"/>
                </a:cubicBezTo>
                <a:cubicBezTo>
                  <a:pt x="21" y="730"/>
                  <a:pt x="0" y="656"/>
                  <a:pt x="38" y="621"/>
                </a:cubicBezTo>
                <a:cubicBezTo>
                  <a:pt x="55" y="585"/>
                  <a:pt x="74" y="538"/>
                  <a:pt x="116" y="526"/>
                </a:cubicBezTo>
                <a:cubicBezTo>
                  <a:pt x="135" y="513"/>
                  <a:pt x="155" y="494"/>
                  <a:pt x="177" y="487"/>
                </a:cubicBezTo>
                <a:cubicBezTo>
                  <a:pt x="193" y="471"/>
                  <a:pt x="211" y="455"/>
                  <a:pt x="233" y="447"/>
                </a:cubicBezTo>
                <a:cubicBezTo>
                  <a:pt x="241" y="426"/>
                  <a:pt x="257" y="408"/>
                  <a:pt x="272" y="391"/>
                </a:cubicBezTo>
                <a:cubicBezTo>
                  <a:pt x="286" y="352"/>
                  <a:pt x="281" y="369"/>
                  <a:pt x="289" y="341"/>
                </a:cubicBezTo>
                <a:cubicBezTo>
                  <a:pt x="291" y="326"/>
                  <a:pt x="292" y="311"/>
                  <a:pt x="295" y="296"/>
                </a:cubicBezTo>
                <a:cubicBezTo>
                  <a:pt x="299" y="277"/>
                  <a:pt x="309" y="271"/>
                  <a:pt x="284" y="296"/>
                </a:cubicBezTo>
                <a:close/>
              </a:path>
            </a:pathLst>
          </a:custGeom>
          <a:solidFill>
            <a:srgbClr val="ecd9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4535640" y="3116160"/>
            <a:ext cx="255600" cy="29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apture a Lion: Generalized Topological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us say that a Lion is captured iff Lion is located in a bounded clo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Sahara is a bounded closed space. Hence the Lion is al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ured in generalized topological sen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793960" y="2565360"/>
            <a:ext cx="2786040" cy="1784520"/>
          </a:xfrm>
          <a:custGeom>
            <a:avLst/>
            <a:gdLst/>
            <a:ahLst/>
            <a:rect l="l" t="t" r="r" b="b"/>
            <a:pathLst>
              <a:path w="1755" h="1124">
                <a:moveTo>
                  <a:pt x="284" y="296"/>
                </a:moveTo>
                <a:cubicBezTo>
                  <a:pt x="285" y="286"/>
                  <a:pt x="287" y="240"/>
                  <a:pt x="295" y="224"/>
                </a:cubicBezTo>
                <a:cubicBezTo>
                  <a:pt x="331" y="153"/>
                  <a:pt x="401" y="132"/>
                  <a:pt x="474" y="123"/>
                </a:cubicBezTo>
                <a:cubicBezTo>
                  <a:pt x="487" y="115"/>
                  <a:pt x="502" y="111"/>
                  <a:pt x="513" y="101"/>
                </a:cubicBezTo>
                <a:cubicBezTo>
                  <a:pt x="529" y="88"/>
                  <a:pt x="534" y="62"/>
                  <a:pt x="552" y="50"/>
                </a:cubicBezTo>
                <a:cubicBezTo>
                  <a:pt x="582" y="29"/>
                  <a:pt x="617" y="9"/>
                  <a:pt x="653" y="0"/>
                </a:cubicBezTo>
                <a:cubicBezTo>
                  <a:pt x="719" y="7"/>
                  <a:pt x="784" y="16"/>
                  <a:pt x="848" y="34"/>
                </a:cubicBezTo>
                <a:cubicBezTo>
                  <a:pt x="859" y="37"/>
                  <a:pt x="870" y="42"/>
                  <a:pt x="882" y="45"/>
                </a:cubicBezTo>
                <a:cubicBezTo>
                  <a:pt x="899" y="49"/>
                  <a:pt x="932" y="56"/>
                  <a:pt x="932" y="56"/>
                </a:cubicBezTo>
                <a:cubicBezTo>
                  <a:pt x="975" y="84"/>
                  <a:pt x="920" y="51"/>
                  <a:pt x="971" y="73"/>
                </a:cubicBezTo>
                <a:cubicBezTo>
                  <a:pt x="1000" y="86"/>
                  <a:pt x="1020" y="112"/>
                  <a:pt x="1050" y="123"/>
                </a:cubicBezTo>
                <a:cubicBezTo>
                  <a:pt x="1080" y="112"/>
                  <a:pt x="1099" y="109"/>
                  <a:pt x="1134" y="106"/>
                </a:cubicBezTo>
                <a:cubicBezTo>
                  <a:pt x="1182" y="102"/>
                  <a:pt x="1279" y="95"/>
                  <a:pt x="1279" y="95"/>
                </a:cubicBezTo>
                <a:cubicBezTo>
                  <a:pt x="1394" y="99"/>
                  <a:pt x="1480" y="104"/>
                  <a:pt x="1587" y="123"/>
                </a:cubicBezTo>
                <a:cubicBezTo>
                  <a:pt x="1609" y="140"/>
                  <a:pt x="1636" y="146"/>
                  <a:pt x="1654" y="168"/>
                </a:cubicBezTo>
                <a:cubicBezTo>
                  <a:pt x="1664" y="180"/>
                  <a:pt x="1682" y="207"/>
                  <a:pt x="1682" y="207"/>
                </a:cubicBezTo>
                <a:cubicBezTo>
                  <a:pt x="1690" y="233"/>
                  <a:pt x="1707" y="253"/>
                  <a:pt x="1715" y="280"/>
                </a:cubicBezTo>
                <a:cubicBezTo>
                  <a:pt x="1712" y="331"/>
                  <a:pt x="1690" y="417"/>
                  <a:pt x="1721" y="464"/>
                </a:cubicBezTo>
                <a:cubicBezTo>
                  <a:pt x="1723" y="470"/>
                  <a:pt x="1723" y="476"/>
                  <a:pt x="1726" y="481"/>
                </a:cubicBezTo>
                <a:cubicBezTo>
                  <a:pt x="1729" y="486"/>
                  <a:pt x="1736" y="487"/>
                  <a:pt x="1738" y="492"/>
                </a:cubicBezTo>
                <a:cubicBezTo>
                  <a:pt x="1746" y="517"/>
                  <a:pt x="1746" y="544"/>
                  <a:pt x="1754" y="570"/>
                </a:cubicBezTo>
                <a:cubicBezTo>
                  <a:pt x="1752" y="593"/>
                  <a:pt x="1755" y="616"/>
                  <a:pt x="1749" y="638"/>
                </a:cubicBezTo>
                <a:cubicBezTo>
                  <a:pt x="1745" y="654"/>
                  <a:pt x="1726" y="682"/>
                  <a:pt x="1726" y="682"/>
                </a:cubicBezTo>
                <a:cubicBezTo>
                  <a:pt x="1710" y="770"/>
                  <a:pt x="1594" y="768"/>
                  <a:pt x="1525" y="772"/>
                </a:cubicBezTo>
                <a:cubicBezTo>
                  <a:pt x="1471" y="788"/>
                  <a:pt x="1549" y="921"/>
                  <a:pt x="1503" y="967"/>
                </a:cubicBezTo>
                <a:cubicBezTo>
                  <a:pt x="1491" y="979"/>
                  <a:pt x="1395" y="992"/>
                  <a:pt x="1374" y="995"/>
                </a:cubicBezTo>
                <a:cubicBezTo>
                  <a:pt x="1302" y="1020"/>
                  <a:pt x="1424" y="980"/>
                  <a:pt x="1206" y="995"/>
                </a:cubicBezTo>
                <a:cubicBezTo>
                  <a:pt x="1200" y="995"/>
                  <a:pt x="1203" y="1006"/>
                  <a:pt x="1201" y="1012"/>
                </a:cubicBezTo>
                <a:cubicBezTo>
                  <a:pt x="1196" y="1028"/>
                  <a:pt x="1187" y="1049"/>
                  <a:pt x="1178" y="1063"/>
                </a:cubicBezTo>
                <a:cubicBezTo>
                  <a:pt x="1158" y="1093"/>
                  <a:pt x="1110" y="1112"/>
                  <a:pt x="1078" y="1124"/>
                </a:cubicBezTo>
                <a:cubicBezTo>
                  <a:pt x="1018" y="1122"/>
                  <a:pt x="959" y="1121"/>
                  <a:pt x="899" y="1118"/>
                </a:cubicBezTo>
                <a:cubicBezTo>
                  <a:pt x="833" y="1114"/>
                  <a:pt x="783" y="1062"/>
                  <a:pt x="731" y="1029"/>
                </a:cubicBezTo>
                <a:cubicBezTo>
                  <a:pt x="733" y="1023"/>
                  <a:pt x="743" y="1012"/>
                  <a:pt x="737" y="1012"/>
                </a:cubicBezTo>
                <a:cubicBezTo>
                  <a:pt x="729" y="1012"/>
                  <a:pt x="727" y="1025"/>
                  <a:pt x="720" y="1029"/>
                </a:cubicBezTo>
                <a:cubicBezTo>
                  <a:pt x="713" y="1034"/>
                  <a:pt x="688" y="1038"/>
                  <a:pt x="681" y="1040"/>
                </a:cubicBezTo>
                <a:cubicBezTo>
                  <a:pt x="633" y="1054"/>
                  <a:pt x="535" y="1068"/>
                  <a:pt x="535" y="1068"/>
                </a:cubicBezTo>
                <a:cubicBezTo>
                  <a:pt x="325" y="1064"/>
                  <a:pt x="335" y="1060"/>
                  <a:pt x="189" y="1040"/>
                </a:cubicBezTo>
                <a:cubicBezTo>
                  <a:pt x="145" y="1023"/>
                  <a:pt x="166" y="1035"/>
                  <a:pt x="121" y="990"/>
                </a:cubicBezTo>
                <a:cubicBezTo>
                  <a:pt x="113" y="982"/>
                  <a:pt x="99" y="967"/>
                  <a:pt x="99" y="967"/>
                </a:cubicBezTo>
                <a:cubicBezTo>
                  <a:pt x="90" y="944"/>
                  <a:pt x="87" y="932"/>
                  <a:pt x="71" y="912"/>
                </a:cubicBezTo>
                <a:cubicBezTo>
                  <a:pt x="64" y="887"/>
                  <a:pt x="51" y="865"/>
                  <a:pt x="43" y="839"/>
                </a:cubicBezTo>
                <a:cubicBezTo>
                  <a:pt x="39" y="826"/>
                  <a:pt x="36" y="813"/>
                  <a:pt x="32" y="800"/>
                </a:cubicBezTo>
                <a:cubicBezTo>
                  <a:pt x="30" y="792"/>
                  <a:pt x="26" y="777"/>
                  <a:pt x="26" y="777"/>
                </a:cubicBezTo>
                <a:cubicBezTo>
                  <a:pt x="21" y="730"/>
                  <a:pt x="0" y="656"/>
                  <a:pt x="38" y="621"/>
                </a:cubicBezTo>
                <a:cubicBezTo>
                  <a:pt x="55" y="585"/>
                  <a:pt x="74" y="538"/>
                  <a:pt x="116" y="526"/>
                </a:cubicBezTo>
                <a:cubicBezTo>
                  <a:pt x="135" y="513"/>
                  <a:pt x="155" y="494"/>
                  <a:pt x="177" y="487"/>
                </a:cubicBezTo>
                <a:cubicBezTo>
                  <a:pt x="193" y="471"/>
                  <a:pt x="211" y="455"/>
                  <a:pt x="233" y="447"/>
                </a:cubicBezTo>
                <a:cubicBezTo>
                  <a:pt x="241" y="426"/>
                  <a:pt x="257" y="408"/>
                  <a:pt x="272" y="391"/>
                </a:cubicBezTo>
                <a:cubicBezTo>
                  <a:pt x="286" y="352"/>
                  <a:pt x="281" y="369"/>
                  <a:pt x="289" y="341"/>
                </a:cubicBezTo>
                <a:cubicBezTo>
                  <a:pt x="291" y="326"/>
                  <a:pt x="292" y="311"/>
                  <a:pt x="295" y="296"/>
                </a:cubicBezTo>
                <a:cubicBezTo>
                  <a:pt x="299" y="277"/>
                  <a:pt x="309" y="271"/>
                  <a:pt x="284" y="296"/>
                </a:cubicBezTo>
                <a:close/>
              </a:path>
            </a:pathLst>
          </a:custGeom>
          <a:solidFill>
            <a:srgbClr val="ecd9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4535640" y="3116160"/>
            <a:ext cx="255600" cy="29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apture a Lion: Improved Topological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us say that a Lion is captured iff Lion is located in a bounded clo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pace, Your and Lion’s subspaces are separated by bars, and t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no way to come from one subspace to another other then through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s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Bring a sound cage to Sahara, get inside it, shut the gat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let the cage be Your subspace of Sahara. Let Sahara with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of Your personal cage be Lion’s subspace. All ab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ts are met, hence the Lion is captured in improved topologi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793960" y="2565360"/>
            <a:ext cx="2786040" cy="1784520"/>
          </a:xfrm>
          <a:custGeom>
            <a:avLst/>
            <a:gdLst/>
            <a:ahLst/>
            <a:rect l="l" t="t" r="r" b="b"/>
            <a:pathLst>
              <a:path w="1755" h="1124">
                <a:moveTo>
                  <a:pt x="284" y="296"/>
                </a:moveTo>
                <a:cubicBezTo>
                  <a:pt x="285" y="286"/>
                  <a:pt x="287" y="240"/>
                  <a:pt x="295" y="224"/>
                </a:cubicBezTo>
                <a:cubicBezTo>
                  <a:pt x="331" y="153"/>
                  <a:pt x="401" y="132"/>
                  <a:pt x="474" y="123"/>
                </a:cubicBezTo>
                <a:cubicBezTo>
                  <a:pt x="487" y="115"/>
                  <a:pt x="502" y="111"/>
                  <a:pt x="513" y="101"/>
                </a:cubicBezTo>
                <a:cubicBezTo>
                  <a:pt x="529" y="88"/>
                  <a:pt x="534" y="62"/>
                  <a:pt x="552" y="50"/>
                </a:cubicBezTo>
                <a:cubicBezTo>
                  <a:pt x="582" y="29"/>
                  <a:pt x="617" y="9"/>
                  <a:pt x="653" y="0"/>
                </a:cubicBezTo>
                <a:cubicBezTo>
                  <a:pt x="719" y="7"/>
                  <a:pt x="784" y="16"/>
                  <a:pt x="848" y="34"/>
                </a:cubicBezTo>
                <a:cubicBezTo>
                  <a:pt x="859" y="37"/>
                  <a:pt x="870" y="42"/>
                  <a:pt x="882" y="45"/>
                </a:cubicBezTo>
                <a:cubicBezTo>
                  <a:pt x="899" y="49"/>
                  <a:pt x="932" y="56"/>
                  <a:pt x="932" y="56"/>
                </a:cubicBezTo>
                <a:cubicBezTo>
                  <a:pt x="975" y="84"/>
                  <a:pt x="920" y="51"/>
                  <a:pt x="971" y="73"/>
                </a:cubicBezTo>
                <a:cubicBezTo>
                  <a:pt x="1000" y="86"/>
                  <a:pt x="1020" y="112"/>
                  <a:pt x="1050" y="123"/>
                </a:cubicBezTo>
                <a:cubicBezTo>
                  <a:pt x="1080" y="112"/>
                  <a:pt x="1099" y="109"/>
                  <a:pt x="1134" y="106"/>
                </a:cubicBezTo>
                <a:cubicBezTo>
                  <a:pt x="1182" y="102"/>
                  <a:pt x="1279" y="95"/>
                  <a:pt x="1279" y="95"/>
                </a:cubicBezTo>
                <a:cubicBezTo>
                  <a:pt x="1394" y="99"/>
                  <a:pt x="1480" y="104"/>
                  <a:pt x="1587" y="123"/>
                </a:cubicBezTo>
                <a:cubicBezTo>
                  <a:pt x="1609" y="140"/>
                  <a:pt x="1636" y="146"/>
                  <a:pt x="1654" y="168"/>
                </a:cubicBezTo>
                <a:cubicBezTo>
                  <a:pt x="1664" y="180"/>
                  <a:pt x="1682" y="207"/>
                  <a:pt x="1682" y="207"/>
                </a:cubicBezTo>
                <a:cubicBezTo>
                  <a:pt x="1690" y="233"/>
                  <a:pt x="1707" y="253"/>
                  <a:pt x="1715" y="280"/>
                </a:cubicBezTo>
                <a:cubicBezTo>
                  <a:pt x="1712" y="331"/>
                  <a:pt x="1690" y="417"/>
                  <a:pt x="1721" y="464"/>
                </a:cubicBezTo>
                <a:cubicBezTo>
                  <a:pt x="1723" y="470"/>
                  <a:pt x="1723" y="476"/>
                  <a:pt x="1726" y="481"/>
                </a:cubicBezTo>
                <a:cubicBezTo>
                  <a:pt x="1729" y="486"/>
                  <a:pt x="1736" y="487"/>
                  <a:pt x="1738" y="492"/>
                </a:cubicBezTo>
                <a:cubicBezTo>
                  <a:pt x="1746" y="517"/>
                  <a:pt x="1746" y="544"/>
                  <a:pt x="1754" y="570"/>
                </a:cubicBezTo>
                <a:cubicBezTo>
                  <a:pt x="1752" y="593"/>
                  <a:pt x="1755" y="616"/>
                  <a:pt x="1749" y="638"/>
                </a:cubicBezTo>
                <a:cubicBezTo>
                  <a:pt x="1745" y="654"/>
                  <a:pt x="1726" y="682"/>
                  <a:pt x="1726" y="682"/>
                </a:cubicBezTo>
                <a:cubicBezTo>
                  <a:pt x="1710" y="770"/>
                  <a:pt x="1594" y="768"/>
                  <a:pt x="1525" y="772"/>
                </a:cubicBezTo>
                <a:cubicBezTo>
                  <a:pt x="1471" y="788"/>
                  <a:pt x="1549" y="921"/>
                  <a:pt x="1503" y="967"/>
                </a:cubicBezTo>
                <a:cubicBezTo>
                  <a:pt x="1491" y="979"/>
                  <a:pt x="1395" y="992"/>
                  <a:pt x="1374" y="995"/>
                </a:cubicBezTo>
                <a:cubicBezTo>
                  <a:pt x="1302" y="1020"/>
                  <a:pt x="1424" y="980"/>
                  <a:pt x="1206" y="995"/>
                </a:cubicBezTo>
                <a:cubicBezTo>
                  <a:pt x="1200" y="995"/>
                  <a:pt x="1203" y="1006"/>
                  <a:pt x="1201" y="1012"/>
                </a:cubicBezTo>
                <a:cubicBezTo>
                  <a:pt x="1196" y="1028"/>
                  <a:pt x="1187" y="1049"/>
                  <a:pt x="1178" y="1063"/>
                </a:cubicBezTo>
                <a:cubicBezTo>
                  <a:pt x="1158" y="1093"/>
                  <a:pt x="1110" y="1112"/>
                  <a:pt x="1078" y="1124"/>
                </a:cubicBezTo>
                <a:cubicBezTo>
                  <a:pt x="1018" y="1122"/>
                  <a:pt x="959" y="1121"/>
                  <a:pt x="899" y="1118"/>
                </a:cubicBezTo>
                <a:cubicBezTo>
                  <a:pt x="833" y="1114"/>
                  <a:pt x="783" y="1062"/>
                  <a:pt x="731" y="1029"/>
                </a:cubicBezTo>
                <a:cubicBezTo>
                  <a:pt x="733" y="1023"/>
                  <a:pt x="743" y="1012"/>
                  <a:pt x="737" y="1012"/>
                </a:cubicBezTo>
                <a:cubicBezTo>
                  <a:pt x="729" y="1012"/>
                  <a:pt x="727" y="1025"/>
                  <a:pt x="720" y="1029"/>
                </a:cubicBezTo>
                <a:cubicBezTo>
                  <a:pt x="713" y="1034"/>
                  <a:pt x="688" y="1038"/>
                  <a:pt x="681" y="1040"/>
                </a:cubicBezTo>
                <a:cubicBezTo>
                  <a:pt x="633" y="1054"/>
                  <a:pt x="535" y="1068"/>
                  <a:pt x="535" y="1068"/>
                </a:cubicBezTo>
                <a:cubicBezTo>
                  <a:pt x="325" y="1064"/>
                  <a:pt x="335" y="1060"/>
                  <a:pt x="189" y="1040"/>
                </a:cubicBezTo>
                <a:cubicBezTo>
                  <a:pt x="145" y="1023"/>
                  <a:pt x="166" y="1035"/>
                  <a:pt x="121" y="990"/>
                </a:cubicBezTo>
                <a:cubicBezTo>
                  <a:pt x="113" y="982"/>
                  <a:pt x="99" y="967"/>
                  <a:pt x="99" y="967"/>
                </a:cubicBezTo>
                <a:cubicBezTo>
                  <a:pt x="90" y="944"/>
                  <a:pt x="87" y="932"/>
                  <a:pt x="71" y="912"/>
                </a:cubicBezTo>
                <a:cubicBezTo>
                  <a:pt x="64" y="887"/>
                  <a:pt x="51" y="865"/>
                  <a:pt x="43" y="839"/>
                </a:cubicBezTo>
                <a:cubicBezTo>
                  <a:pt x="39" y="826"/>
                  <a:pt x="36" y="813"/>
                  <a:pt x="32" y="800"/>
                </a:cubicBezTo>
                <a:cubicBezTo>
                  <a:pt x="30" y="792"/>
                  <a:pt x="26" y="777"/>
                  <a:pt x="26" y="777"/>
                </a:cubicBezTo>
                <a:cubicBezTo>
                  <a:pt x="21" y="730"/>
                  <a:pt x="0" y="656"/>
                  <a:pt x="38" y="621"/>
                </a:cubicBezTo>
                <a:cubicBezTo>
                  <a:pt x="55" y="585"/>
                  <a:pt x="74" y="538"/>
                  <a:pt x="116" y="526"/>
                </a:cubicBezTo>
                <a:cubicBezTo>
                  <a:pt x="135" y="513"/>
                  <a:pt x="155" y="494"/>
                  <a:pt x="177" y="487"/>
                </a:cubicBezTo>
                <a:cubicBezTo>
                  <a:pt x="193" y="471"/>
                  <a:pt x="211" y="455"/>
                  <a:pt x="233" y="447"/>
                </a:cubicBezTo>
                <a:cubicBezTo>
                  <a:pt x="241" y="426"/>
                  <a:pt x="257" y="408"/>
                  <a:pt x="272" y="391"/>
                </a:cubicBezTo>
                <a:cubicBezTo>
                  <a:pt x="286" y="352"/>
                  <a:pt x="281" y="369"/>
                  <a:pt x="289" y="341"/>
                </a:cubicBezTo>
                <a:cubicBezTo>
                  <a:pt x="291" y="326"/>
                  <a:pt x="292" y="311"/>
                  <a:pt x="295" y="296"/>
                </a:cubicBezTo>
                <a:cubicBezTo>
                  <a:pt x="299" y="277"/>
                  <a:pt x="309" y="271"/>
                  <a:pt x="284" y="296"/>
                </a:cubicBezTo>
                <a:close/>
              </a:path>
            </a:pathLst>
          </a:custGeom>
          <a:solidFill>
            <a:srgbClr val="ecd9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4535640" y="3116160"/>
            <a:ext cx="255600" cy="29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4605480" y="3759120"/>
            <a:ext cx="32688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apture a Lion: Improved Topological Method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ally both examples are about importance of formal specif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ieval from informal problem requirements.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bo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s is trivial: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ere is a Lion in Sahara dese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It is not so trivial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ize a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Improved Topological Method sugge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formalization for the informal requirement “Lion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ured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Lion is located in a bounded closed subspace of Sahar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Your and Lion’s subspaces are separated by bar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ere is no way to come from one subspace to another                         other then through the b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apture a Lion: Improved Topological Method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as soon as the specifications are fixed, the suggested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ectly matches these specif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ere is a Lion in Sahara deser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ring a sound cage to Sahar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et inside the cag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hut the gate of the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Lion is located in a bounded closed subspace of Sah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&amp; Your and Lion’s subspaces are separated by b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&amp; there is no way to come from one subspace to another other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rough the bar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arning! Be careful with formal specifications retrieva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apture a L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uchy, Bolzano, Weierstrass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us say that a Lion is captured iff Lion is in a closed cag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R space, cage : bounded closed spa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put cage; space:= Sahar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ILE size(space) &gt; size(cage)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{ divide space onto two halv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pace:= a half that with Lion }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ver space by cage; output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219640" y="3228840"/>
            <a:ext cx="2786040" cy="1784520"/>
          </a:xfrm>
          <a:custGeom>
            <a:avLst/>
            <a:gdLst/>
            <a:ahLst/>
            <a:rect l="l" t="t" r="r" b="b"/>
            <a:pathLst>
              <a:path w="1755" h="1124">
                <a:moveTo>
                  <a:pt x="284" y="296"/>
                </a:moveTo>
                <a:cubicBezTo>
                  <a:pt x="285" y="286"/>
                  <a:pt x="287" y="240"/>
                  <a:pt x="295" y="224"/>
                </a:cubicBezTo>
                <a:cubicBezTo>
                  <a:pt x="331" y="153"/>
                  <a:pt x="401" y="132"/>
                  <a:pt x="474" y="123"/>
                </a:cubicBezTo>
                <a:cubicBezTo>
                  <a:pt x="487" y="115"/>
                  <a:pt x="502" y="111"/>
                  <a:pt x="513" y="101"/>
                </a:cubicBezTo>
                <a:cubicBezTo>
                  <a:pt x="529" y="88"/>
                  <a:pt x="534" y="62"/>
                  <a:pt x="552" y="50"/>
                </a:cubicBezTo>
                <a:cubicBezTo>
                  <a:pt x="582" y="29"/>
                  <a:pt x="617" y="9"/>
                  <a:pt x="653" y="0"/>
                </a:cubicBezTo>
                <a:cubicBezTo>
                  <a:pt x="719" y="7"/>
                  <a:pt x="784" y="16"/>
                  <a:pt x="848" y="34"/>
                </a:cubicBezTo>
                <a:cubicBezTo>
                  <a:pt x="859" y="37"/>
                  <a:pt x="870" y="42"/>
                  <a:pt x="882" y="45"/>
                </a:cubicBezTo>
                <a:cubicBezTo>
                  <a:pt x="899" y="49"/>
                  <a:pt x="932" y="56"/>
                  <a:pt x="932" y="56"/>
                </a:cubicBezTo>
                <a:cubicBezTo>
                  <a:pt x="975" y="84"/>
                  <a:pt x="920" y="51"/>
                  <a:pt x="971" y="73"/>
                </a:cubicBezTo>
                <a:cubicBezTo>
                  <a:pt x="1000" y="86"/>
                  <a:pt x="1020" y="112"/>
                  <a:pt x="1050" y="123"/>
                </a:cubicBezTo>
                <a:cubicBezTo>
                  <a:pt x="1080" y="112"/>
                  <a:pt x="1099" y="109"/>
                  <a:pt x="1134" y="106"/>
                </a:cubicBezTo>
                <a:cubicBezTo>
                  <a:pt x="1182" y="102"/>
                  <a:pt x="1279" y="95"/>
                  <a:pt x="1279" y="95"/>
                </a:cubicBezTo>
                <a:cubicBezTo>
                  <a:pt x="1394" y="99"/>
                  <a:pt x="1480" y="104"/>
                  <a:pt x="1587" y="123"/>
                </a:cubicBezTo>
                <a:cubicBezTo>
                  <a:pt x="1609" y="140"/>
                  <a:pt x="1636" y="146"/>
                  <a:pt x="1654" y="168"/>
                </a:cubicBezTo>
                <a:cubicBezTo>
                  <a:pt x="1664" y="180"/>
                  <a:pt x="1682" y="207"/>
                  <a:pt x="1682" y="207"/>
                </a:cubicBezTo>
                <a:cubicBezTo>
                  <a:pt x="1690" y="233"/>
                  <a:pt x="1707" y="253"/>
                  <a:pt x="1715" y="280"/>
                </a:cubicBezTo>
                <a:cubicBezTo>
                  <a:pt x="1712" y="331"/>
                  <a:pt x="1690" y="417"/>
                  <a:pt x="1721" y="464"/>
                </a:cubicBezTo>
                <a:cubicBezTo>
                  <a:pt x="1723" y="470"/>
                  <a:pt x="1723" y="476"/>
                  <a:pt x="1726" y="481"/>
                </a:cubicBezTo>
                <a:cubicBezTo>
                  <a:pt x="1729" y="486"/>
                  <a:pt x="1736" y="487"/>
                  <a:pt x="1738" y="492"/>
                </a:cubicBezTo>
                <a:cubicBezTo>
                  <a:pt x="1746" y="517"/>
                  <a:pt x="1746" y="544"/>
                  <a:pt x="1754" y="570"/>
                </a:cubicBezTo>
                <a:cubicBezTo>
                  <a:pt x="1752" y="593"/>
                  <a:pt x="1755" y="616"/>
                  <a:pt x="1749" y="638"/>
                </a:cubicBezTo>
                <a:cubicBezTo>
                  <a:pt x="1745" y="654"/>
                  <a:pt x="1726" y="682"/>
                  <a:pt x="1726" y="682"/>
                </a:cubicBezTo>
                <a:cubicBezTo>
                  <a:pt x="1710" y="770"/>
                  <a:pt x="1594" y="768"/>
                  <a:pt x="1525" y="772"/>
                </a:cubicBezTo>
                <a:cubicBezTo>
                  <a:pt x="1471" y="788"/>
                  <a:pt x="1549" y="921"/>
                  <a:pt x="1503" y="967"/>
                </a:cubicBezTo>
                <a:cubicBezTo>
                  <a:pt x="1491" y="979"/>
                  <a:pt x="1395" y="992"/>
                  <a:pt x="1374" y="995"/>
                </a:cubicBezTo>
                <a:cubicBezTo>
                  <a:pt x="1302" y="1020"/>
                  <a:pt x="1424" y="980"/>
                  <a:pt x="1206" y="995"/>
                </a:cubicBezTo>
                <a:cubicBezTo>
                  <a:pt x="1200" y="995"/>
                  <a:pt x="1203" y="1006"/>
                  <a:pt x="1201" y="1012"/>
                </a:cubicBezTo>
                <a:cubicBezTo>
                  <a:pt x="1196" y="1028"/>
                  <a:pt x="1187" y="1049"/>
                  <a:pt x="1178" y="1063"/>
                </a:cubicBezTo>
                <a:cubicBezTo>
                  <a:pt x="1158" y="1093"/>
                  <a:pt x="1110" y="1112"/>
                  <a:pt x="1078" y="1124"/>
                </a:cubicBezTo>
                <a:cubicBezTo>
                  <a:pt x="1018" y="1122"/>
                  <a:pt x="959" y="1121"/>
                  <a:pt x="899" y="1118"/>
                </a:cubicBezTo>
                <a:cubicBezTo>
                  <a:pt x="833" y="1114"/>
                  <a:pt x="783" y="1062"/>
                  <a:pt x="731" y="1029"/>
                </a:cubicBezTo>
                <a:cubicBezTo>
                  <a:pt x="733" y="1023"/>
                  <a:pt x="743" y="1012"/>
                  <a:pt x="737" y="1012"/>
                </a:cubicBezTo>
                <a:cubicBezTo>
                  <a:pt x="729" y="1012"/>
                  <a:pt x="727" y="1025"/>
                  <a:pt x="720" y="1029"/>
                </a:cubicBezTo>
                <a:cubicBezTo>
                  <a:pt x="713" y="1034"/>
                  <a:pt x="688" y="1038"/>
                  <a:pt x="681" y="1040"/>
                </a:cubicBezTo>
                <a:cubicBezTo>
                  <a:pt x="633" y="1054"/>
                  <a:pt x="535" y="1068"/>
                  <a:pt x="535" y="1068"/>
                </a:cubicBezTo>
                <a:cubicBezTo>
                  <a:pt x="325" y="1064"/>
                  <a:pt x="335" y="1060"/>
                  <a:pt x="189" y="1040"/>
                </a:cubicBezTo>
                <a:cubicBezTo>
                  <a:pt x="145" y="1023"/>
                  <a:pt x="166" y="1035"/>
                  <a:pt x="121" y="990"/>
                </a:cubicBezTo>
                <a:cubicBezTo>
                  <a:pt x="113" y="982"/>
                  <a:pt x="99" y="967"/>
                  <a:pt x="99" y="967"/>
                </a:cubicBezTo>
                <a:cubicBezTo>
                  <a:pt x="90" y="944"/>
                  <a:pt x="87" y="932"/>
                  <a:pt x="71" y="912"/>
                </a:cubicBezTo>
                <a:cubicBezTo>
                  <a:pt x="64" y="887"/>
                  <a:pt x="51" y="865"/>
                  <a:pt x="43" y="839"/>
                </a:cubicBezTo>
                <a:cubicBezTo>
                  <a:pt x="39" y="826"/>
                  <a:pt x="36" y="813"/>
                  <a:pt x="32" y="800"/>
                </a:cubicBezTo>
                <a:cubicBezTo>
                  <a:pt x="30" y="792"/>
                  <a:pt x="26" y="777"/>
                  <a:pt x="26" y="777"/>
                </a:cubicBezTo>
                <a:cubicBezTo>
                  <a:pt x="21" y="730"/>
                  <a:pt x="0" y="656"/>
                  <a:pt x="38" y="621"/>
                </a:cubicBezTo>
                <a:cubicBezTo>
                  <a:pt x="55" y="585"/>
                  <a:pt x="74" y="538"/>
                  <a:pt x="116" y="526"/>
                </a:cubicBezTo>
                <a:cubicBezTo>
                  <a:pt x="135" y="513"/>
                  <a:pt x="155" y="494"/>
                  <a:pt x="177" y="487"/>
                </a:cubicBezTo>
                <a:cubicBezTo>
                  <a:pt x="193" y="471"/>
                  <a:pt x="211" y="455"/>
                  <a:pt x="233" y="447"/>
                </a:cubicBezTo>
                <a:cubicBezTo>
                  <a:pt x="241" y="426"/>
                  <a:pt x="257" y="408"/>
                  <a:pt x="272" y="391"/>
                </a:cubicBezTo>
                <a:cubicBezTo>
                  <a:pt x="286" y="352"/>
                  <a:pt x="281" y="369"/>
                  <a:pt x="289" y="341"/>
                </a:cubicBezTo>
                <a:cubicBezTo>
                  <a:pt x="291" y="326"/>
                  <a:pt x="292" y="311"/>
                  <a:pt x="295" y="296"/>
                </a:cubicBezTo>
                <a:cubicBezTo>
                  <a:pt x="299" y="277"/>
                  <a:pt x="309" y="271"/>
                  <a:pt x="284" y="296"/>
                </a:cubicBezTo>
                <a:close/>
              </a:path>
            </a:pathLst>
          </a:custGeom>
          <a:solidFill>
            <a:srgbClr val="ecd9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6961320" y="3780000"/>
            <a:ext cx="255600" cy="29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5" name=""/>
          <p:cNvSpPr/>
          <p:nvPr/>
        </p:nvSpPr>
        <p:spPr>
          <a:xfrm>
            <a:off x="6659640" y="256536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300720" y="414972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308720" y="313992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516720" y="3716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948360" y="3573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6718320" y="2349360"/>
            <a:ext cx="662040" cy="69696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6517800" y="566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408520" y="4005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165440" y="4449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544880" y="3573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0508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apture a L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uchy, Bolzano, Weierstrass 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is case is a little bit more complicate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Lion is in Sahara deser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ze of the cage is posi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n contrast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much simpl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Lion is in the c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ype cont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otal correctness specification foll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R space, cage : bounded closed spa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Lion is in Sahara desert &amp; size of the cage is posi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pace:= Sahar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ILE size(space) &gt; size(cage)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{ divide space onto two halv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pace:= a half that with Lion }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ver space by c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Lion is in the c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 of Interval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be the most straightforward way to retrieve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v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the requirement in terms of vector algeb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on the line (A,B) iff                                                                                                  FOR SOME real value K:                                                                                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*K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t on the line (A,B) iff                                                                                                  FOR EVERY real value K:                                                                                  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*K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is approach exploits quantifi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vector algebra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5435640" y="2420640"/>
            <a:ext cx="1440" cy="279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37080" y="5216400"/>
            <a:ext cx="309564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76720" y="2840040"/>
            <a:ext cx="3672000" cy="1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3680" y="26971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21440" y="2781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437080" y="2839680"/>
            <a:ext cx="287280" cy="237636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437080" y="2852640"/>
            <a:ext cx="1656000" cy="236376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24360" y="2781360"/>
            <a:ext cx="136872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80360" y="407664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96360" y="278136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435640" y="4220640"/>
            <a:ext cx="1944720" cy="100836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435640" y="2923920"/>
            <a:ext cx="2160720" cy="23050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24360" y="2708280"/>
            <a:ext cx="19432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apture a L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uchy, Bolzano, Weierstrass 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tion of the algorithm is straightforward, since every itera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op body makes size of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wice smaller, i.e. the values form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S, [S/2], [[S/2]/2], [[[S/2]/2]/2], ... (where S is size of Sahar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finally they become less than size of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ich is positiv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we have to prove the following partial correctness ass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Lion is in Sahara desert &amp; size of the cage is posi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pace:= Sahar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ILE size(space) &gt; size(cage)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{ divide space onto two halv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pace:= a half of space with Lion }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ver space by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Lion is in the c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apture a L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uchy, Bolzano, Weierstrass 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45400" y="2371680"/>
            <a:ext cx="285084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Lion is in Sahara desert 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size of the cage is positiv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ace:= Sahar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WHILE size(space) &gt; size(cage)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{ divide space onto two halve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ace:= a half of space with Lion }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over space by c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Lion is in the cag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703520" y="1228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524400" y="2852640"/>
            <a:ext cx="976320" cy="865440"/>
          </a:xfrm>
          <a:prstGeom prst="rightArrow">
            <a:avLst>
              <a:gd name="adj1" fmla="val 50000"/>
              <a:gd name="adj2" fmla="val 28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de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040080" y="1851120"/>
            <a:ext cx="12643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ace:=Sah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194880" y="2784600"/>
            <a:ext cx="100512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ize(sp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ize(c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694560" y="14698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648320" y="2784600"/>
            <a:ext cx="10677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ace:= ha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of s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with 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94560" y="219060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5724360" y="31399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701120" y="2770200"/>
            <a:ext cx="7506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by c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158680" y="371808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6720" y="28162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301880" y="28162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199280" y="3139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219640" y="24782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219640" y="2477880"/>
            <a:ext cx="142416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142120" y="342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17240" y="12682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735600" y="233532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643800" y="13273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643800" y="24066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085240" y="3789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rot="16200000">
            <a:off x="4304160" y="168480"/>
            <a:ext cx="606600" cy="8136000"/>
          </a:xfrm>
          <a:custGeom>
            <a:avLst/>
            <a:gdLst>
              <a:gd name="textAreaLeft" fmla="*/ 387720 w 606600"/>
              <a:gd name="textAreaRight" fmla="*/ 606960 w 606600"/>
              <a:gd name="textAreaTop" fmla="*/ 212040 h 8136000"/>
              <a:gd name="textAreaBottom" fmla="*/ 7923960 h 813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356000" y="4653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472120" y="5840280"/>
            <a:ext cx="4196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varia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Lion in 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39360" y="4591080"/>
            <a:ext cx="29088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ion is in Sahara desert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ize of the cage is posi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659560" y="4653000"/>
            <a:ext cx="2082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n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ion is in the c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Capture a L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uchy, Bolzano, Weierstrass 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277800" y="1990800"/>
            <a:ext cx="12643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ace:=Sah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432600" y="2924280"/>
            <a:ext cx="100512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ize(sp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ize(c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932280" y="16095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886400" y="2924280"/>
            <a:ext cx="10677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ace:= ha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of s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with 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32280" y="233028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2962080" y="32796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938840" y="2909880"/>
            <a:ext cx="7506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by c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034440" y="29559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539600" y="295596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437000" y="32796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2457360" y="26179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2457360" y="2617560"/>
            <a:ext cx="142416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881520" y="1467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881520" y="2546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02440" y="3220920"/>
            <a:ext cx="14436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978360" y="2416320"/>
            <a:ext cx="1665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Lion in spac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971880" y="1415880"/>
            <a:ext cx="45133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Lion is in Sahara desert &amp; size of the cage is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281280" y="3137040"/>
            <a:ext cx="20995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Lion is in the c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697360" y="32814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356000" y="3789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941480" y="4976640"/>
            <a:ext cx="530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trivial paths... Proved. Lion is captur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uchy, Bolzano, Weierstrass 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uchy, Bolzano, Weierstrass … h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ved the follow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orem named after еру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very finite interval [A,B] of real numbe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ontinuous function F: [A, B]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very real number Y in interval [F(A), F(B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exists X in [A, B] such that F(X)=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. equation F(X)=Y has a solu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 flipV="1">
            <a:off x="971640" y="1053720"/>
            <a:ext cx="0" cy="575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50920" y="6094440"/>
            <a:ext cx="8569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197440" y="6161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310880" y="6165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2411280" y="1125000"/>
            <a:ext cx="0" cy="4969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7451640" y="1125000"/>
            <a:ext cx="0" cy="4969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24000" y="1641600"/>
            <a:ext cx="5688000" cy="4163760"/>
          </a:xfrm>
          <a:custGeom>
            <a:avLst/>
            <a:gdLst/>
            <a:ahLst/>
            <a:rect l="l" t="t" r="r" b="b"/>
            <a:pathLst>
              <a:path w="3583" h="2623">
                <a:moveTo>
                  <a:pt x="0" y="2623"/>
                </a:moveTo>
                <a:cubicBezTo>
                  <a:pt x="75" y="2320"/>
                  <a:pt x="151" y="2018"/>
                  <a:pt x="317" y="1852"/>
                </a:cubicBezTo>
                <a:cubicBezTo>
                  <a:pt x="483" y="1686"/>
                  <a:pt x="794" y="1610"/>
                  <a:pt x="998" y="1625"/>
                </a:cubicBezTo>
                <a:cubicBezTo>
                  <a:pt x="1202" y="1640"/>
                  <a:pt x="1376" y="1913"/>
                  <a:pt x="1542" y="1943"/>
                </a:cubicBezTo>
                <a:cubicBezTo>
                  <a:pt x="1708" y="1973"/>
                  <a:pt x="1875" y="1981"/>
                  <a:pt x="1996" y="1807"/>
                </a:cubicBezTo>
                <a:cubicBezTo>
                  <a:pt x="2117" y="1633"/>
                  <a:pt x="2140" y="1021"/>
                  <a:pt x="2268" y="900"/>
                </a:cubicBezTo>
                <a:cubicBezTo>
                  <a:pt x="2396" y="779"/>
                  <a:pt x="2638" y="1202"/>
                  <a:pt x="2767" y="1081"/>
                </a:cubicBezTo>
                <a:cubicBezTo>
                  <a:pt x="2896" y="960"/>
                  <a:pt x="2926" y="348"/>
                  <a:pt x="3039" y="174"/>
                </a:cubicBezTo>
                <a:cubicBezTo>
                  <a:pt x="3152" y="0"/>
                  <a:pt x="3356" y="53"/>
                  <a:pt x="3447" y="38"/>
                </a:cubicBezTo>
                <a:cubicBezTo>
                  <a:pt x="3538" y="23"/>
                  <a:pt x="3560" y="53"/>
                  <a:pt x="3583" y="83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971640" y="1700280"/>
            <a:ext cx="648000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971640" y="4869000"/>
            <a:ext cx="143964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51640" y="46544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51640" y="14860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971640" y="3499920"/>
            <a:ext cx="4608360" cy="1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uchy, Bolzano, Weierstrass 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47920" y="3319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580000" y="3500280"/>
            <a:ext cx="0" cy="2592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372280" y="6165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 flipV="1">
            <a:off x="971640" y="1053720"/>
            <a:ext cx="0" cy="575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50920" y="6094440"/>
            <a:ext cx="8569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197440" y="6161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310880" y="6165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2411280" y="1125000"/>
            <a:ext cx="0" cy="4969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7451640" y="1125000"/>
            <a:ext cx="0" cy="4969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124000" y="1641600"/>
            <a:ext cx="5688000" cy="4163760"/>
          </a:xfrm>
          <a:custGeom>
            <a:avLst/>
            <a:gdLst/>
            <a:ahLst/>
            <a:rect l="l" t="t" r="r" b="b"/>
            <a:pathLst>
              <a:path w="3583" h="2623">
                <a:moveTo>
                  <a:pt x="0" y="2623"/>
                </a:moveTo>
                <a:cubicBezTo>
                  <a:pt x="75" y="2320"/>
                  <a:pt x="151" y="2018"/>
                  <a:pt x="317" y="1852"/>
                </a:cubicBezTo>
                <a:cubicBezTo>
                  <a:pt x="483" y="1686"/>
                  <a:pt x="794" y="1610"/>
                  <a:pt x="998" y="1625"/>
                </a:cubicBezTo>
                <a:cubicBezTo>
                  <a:pt x="1202" y="1640"/>
                  <a:pt x="1376" y="1913"/>
                  <a:pt x="1542" y="1943"/>
                </a:cubicBezTo>
                <a:cubicBezTo>
                  <a:pt x="1708" y="1973"/>
                  <a:pt x="1875" y="1981"/>
                  <a:pt x="1996" y="1807"/>
                </a:cubicBezTo>
                <a:cubicBezTo>
                  <a:pt x="2117" y="1633"/>
                  <a:pt x="2140" y="1021"/>
                  <a:pt x="2268" y="900"/>
                </a:cubicBezTo>
                <a:cubicBezTo>
                  <a:pt x="2396" y="779"/>
                  <a:pt x="2638" y="1202"/>
                  <a:pt x="2767" y="1081"/>
                </a:cubicBezTo>
                <a:cubicBezTo>
                  <a:pt x="2896" y="960"/>
                  <a:pt x="2926" y="348"/>
                  <a:pt x="3039" y="174"/>
                </a:cubicBezTo>
                <a:cubicBezTo>
                  <a:pt x="3152" y="0"/>
                  <a:pt x="3356" y="53"/>
                  <a:pt x="3447" y="38"/>
                </a:cubicBezTo>
                <a:cubicBezTo>
                  <a:pt x="3538" y="23"/>
                  <a:pt x="3560" y="53"/>
                  <a:pt x="3583" y="83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971640" y="1700280"/>
            <a:ext cx="648000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971640" y="4869000"/>
            <a:ext cx="143964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51640" y="46544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51640" y="14860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971640" y="3499920"/>
            <a:ext cx="4608360" cy="1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 of 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47920" y="3319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580000" y="3500280"/>
            <a:ext cx="0" cy="2592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372280" y="6165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4932360" y="981000"/>
            <a:ext cx="0" cy="54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789080" y="6467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6300720" y="981000"/>
            <a:ext cx="0" cy="54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157440" y="6467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5653080" y="981000"/>
            <a:ext cx="0" cy="54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09800" y="6467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5311800" y="981000"/>
            <a:ext cx="0" cy="54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168520" y="6467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5456160" y="981000"/>
            <a:ext cx="0" cy="54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312880" y="6467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uchy, Bolzano, Weierstrass …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ssume F be a continuous computable function on interval [A,B], Y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 real number between values F(A) and F(B) inclusively, E b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ositive real precision. Then the method for numeric approxim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olution of equation F(X)=Y with precision E on X can be represen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by the following high-level pseudo co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VAR A, B, E, X, Y : real numb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VAR interval : closed interval of real numb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input A, B, D and 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interval:= [A, B]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X:= A or B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WHILE  size of interval &gt; E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{ X:= point inside the interval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interval:= a half of the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case of  F(half)  include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} ;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output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24480" y="4724280"/>
            <a:ext cx="325116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VAR space, cage : bounded closed spac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input cage; space:= Sahar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WHILE size(space) &gt; size(cage)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{ divide space onto two halve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ace:= a half of space with Lion }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over space by cage; output c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uchy, Bolzano, Weierstrass …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method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corresponding low-level pseudo code implements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interval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by p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f auxiliary variables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D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hich store boundaries of the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interval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most important feature of this implementation is order discipline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boundaries: in computations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F(C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must be less that or equal to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F(D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VAR A, B, C, D, E, X, Y : real numb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input A, B, E and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IF F(A)&gt;F(B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THEN {D:=A ; C:=B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ELSE {C:=A ; D:=B}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X:=C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WHILE  |C-D| &gt; 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{ X:= (C + D)/2 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IF F(X) &lt; Y THEN C:= X ELSE D:= X}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output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49800" y="3429000"/>
            <a:ext cx="3535200" cy="228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VAR A, B, D, X, Y : real number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VAR interval : closed interval of real number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input A, B, D and 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interval:= [A, B]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X:= A or B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WHILE  size of interval &gt; 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{X:= point inside the interval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interval:= a half of the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case of  F(half)  includes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} ;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output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uchy, Bolzano, Weierstrass …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method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type context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are explici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VAR A, B,C, D, E, X, Y : real numb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E &gt; 0 AND Y in [F(A), F(B)]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ituation with 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is more complicated. Formally spea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e have to formalize the following requiremen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X is approximate solution of equation F(X)=Y with precision E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most straightforward formalization exploits quantif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FOR SOME Z in [X-E, X+E] : F(Z) = Y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et us adopt this property as the 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tion of the algorithm is (again) straightforward, since ev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ration of the loop body make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C-D|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wice smaller until it over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hreshold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uchy, Bolzano, Weierstrass …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method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84120" y="2276640"/>
            <a:ext cx="2760840" cy="17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E &gt; 0 &amp; Y</a:t>
            </a:r>
            <a:r>
              <a:rPr b="1" lang="en-NZ" sz="12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 [F(A), F(B)]</a:t>
            </a: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IF F(A)&gt;F(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THEN {D:=A ; C:=B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ELSE {C:=A ; D:=B}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X:=C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WHILE  |C-D| &gt; 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{ X:= (C + D)/2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IF F(X) &lt; Y THEN C:= X ELSE D:= X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NZ" sz="1200" spc="-1" strike="noStrike">
                <a:solidFill>
                  <a:srgbClr val="009999"/>
                </a:solidFill>
                <a:latin typeface="Symbol"/>
                <a:ea typeface="Symbol"/>
              </a:rPr>
              <a:t></a:t>
            </a: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Z</a:t>
            </a:r>
            <a:r>
              <a:rPr b="1" lang="en-NZ" sz="12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[X-E, X+E] : F(Z)=Y</a:t>
            </a: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494000" y="1228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276720" y="2421000"/>
            <a:ext cx="976320" cy="107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fin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o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235920" y="1851120"/>
            <a:ext cx="875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(A)&gt;F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266160" y="4049640"/>
            <a:ext cx="726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|C-D|&gt;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694560" y="14698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563600" y="404640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401520" y="42480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071840" y="3879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021440" y="4203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717240" y="12682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663960" y="357336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643800" y="13273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572160" y="367200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489800" y="41180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446080" y="2496960"/>
            <a:ext cx="990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:=B; D: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969880" y="20606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041600" y="20606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661080" y="43228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867920" y="4684680"/>
            <a:ext cx="666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(X)&lt;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163200" y="4681440"/>
            <a:ext cx="9579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X:=(C+D)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367600" y="4032360"/>
            <a:ext cx="53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D:=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507200" y="4032360"/>
            <a:ext cx="53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:=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5508360" y="4824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5508720" y="4320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4861080" y="4320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601160" y="42480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438160" y="42480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788000" y="3745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788000" y="3745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653080" y="3745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936680" y="5181480"/>
            <a:ext cx="35866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art: </a:t>
            </a:r>
            <a:r>
              <a:rPr b="0" lang="en-NZ" sz="1800" spc="-1" strike="noStrike">
                <a:solidFill>
                  <a:srgbClr val="009999"/>
                </a:solidFill>
                <a:latin typeface="Arial"/>
              </a:rPr>
              <a:t>E&gt;0 &amp; Y</a:t>
            </a:r>
            <a:r>
              <a:rPr b="0" lang="en-NZ" sz="18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0" lang="en-NZ" sz="1800" spc="-1" strike="noStrike">
                <a:solidFill>
                  <a:srgbClr val="009999"/>
                </a:solidFill>
                <a:latin typeface="Arial"/>
              </a:rPr>
              <a:t>[F(A), F(B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int: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X </a:t>
            </a:r>
            <a:r>
              <a:rPr b="0" lang="en-NZ" sz="18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0" lang="en-NZ" sz="1800" spc="-1" strike="noStrike">
                <a:solidFill>
                  <a:srgbClr val="009999"/>
                </a:solidFill>
                <a:latin typeface="Arial"/>
              </a:rPr>
              <a:t>[C,D] &amp; F(C)&lt;=Y&lt;=F(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nish: </a:t>
            </a:r>
            <a:r>
              <a:rPr b="0" lang="en-NZ" sz="1800" spc="-1" strike="noStrike">
                <a:solidFill>
                  <a:srgbClr val="009999"/>
                </a:solidFill>
                <a:latin typeface="Symbol"/>
                <a:ea typeface="Symbol"/>
              </a:rPr>
              <a:t></a:t>
            </a:r>
            <a:r>
              <a:rPr b="0" lang="en-NZ" sz="1800" spc="-1" strike="noStrike">
                <a:solidFill>
                  <a:srgbClr val="009999"/>
                </a:solidFill>
                <a:latin typeface="Arial"/>
              </a:rPr>
              <a:t>Z</a:t>
            </a:r>
            <a:r>
              <a:rPr b="0" lang="en-NZ" sz="18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0" lang="en-NZ" sz="1800" spc="-1" strike="noStrike">
                <a:solidFill>
                  <a:srgbClr val="009999"/>
                </a:solidFill>
                <a:latin typeface="Arial"/>
              </a:rPr>
              <a:t>[X-E, X+E]: F(Z)=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09308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410520" y="3068640"/>
            <a:ext cx="53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X:=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6108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140360" y="2924280"/>
            <a:ext cx="502920" cy="3744720"/>
          </a:xfrm>
          <a:custGeom>
            <a:avLst/>
            <a:gdLst>
              <a:gd name="textAreaLeft" fmla="*/ 321480 w 502920"/>
              <a:gd name="textAreaRight" fmla="*/ 503280 w 502920"/>
              <a:gd name="textAreaTop" fmla="*/ 97560 h 3744720"/>
              <a:gd name="textAreaBottom" fmla="*/ 3647160 h 37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059280" y="46720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51240" y="4316400"/>
            <a:ext cx="2259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5 path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prov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+2”, “1-2”, “2++2”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+-2”, and “2-3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6659640" y="3790800"/>
            <a:ext cx="144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955920" y="2492280"/>
            <a:ext cx="990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:=A; D:=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227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443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94836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 of Interval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calculus we know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straight line can be characterized  by some linear expression F*X + G*Y + H so that coordinates (X,Y) of points of the line satisfy the equation F*X + G*Y + H = 0 that is called the line equ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quation of a straight line the that goes through two points (that may coincide) K and L with coordinates (Kx,Ky) and (Lx,Ly) is       (Ky - Ly)*X +(Lx - Kx)*Y + (Ly*Kx - Lx*Ky)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3 points A(Ax,Ay), B(Bx,By) and Z(Zx,Zy) do not belong to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line iff (Ay - By)*Zx +(Bx - Ax)*Zy + (By*Ax - Bx*Ly) &lt;&gt;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uchy, Bolzano, Weierstrass …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method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898560" y="1916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84640" y="1849320"/>
            <a:ext cx="875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(A)&gt;F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850480" y="1849320"/>
            <a:ext cx="990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:=A; D:=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289400" y="1844640"/>
            <a:ext cx="53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X:=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291280" y="19162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042920" y="1989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411280" y="1989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849840" y="198900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857840" y="1989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41080" y="17002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900000" y="33559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486080" y="3289320"/>
            <a:ext cx="875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(A)&gt;F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52280" y="3289320"/>
            <a:ext cx="990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:=B; D: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291200" y="3284640"/>
            <a:ext cx="53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X:=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292720" y="33559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044720" y="342900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413080" y="3429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51280" y="3429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59280" y="3429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342160" y="31399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296680" y="5181480"/>
            <a:ext cx="32194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: </a:t>
            </a:r>
            <a:r>
              <a:rPr b="0" lang="en-NZ" sz="1800" spc="-1" strike="noStrike">
                <a:solidFill>
                  <a:srgbClr val="009999"/>
                </a:solidFill>
                <a:latin typeface="Arial"/>
              </a:rPr>
              <a:t>E&gt;0 &amp; Y</a:t>
            </a:r>
            <a:r>
              <a:rPr b="0" lang="en-NZ" sz="18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0" lang="en-NZ" sz="1800" spc="-1" strike="noStrike">
                <a:solidFill>
                  <a:srgbClr val="009999"/>
                </a:solidFill>
                <a:latin typeface="Arial"/>
              </a:rPr>
              <a:t>[F(A), F(B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2: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X </a:t>
            </a:r>
            <a:r>
              <a:rPr b="0" lang="en-NZ" sz="18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0" lang="en-NZ" sz="1800" spc="-1" strike="noStrike">
                <a:solidFill>
                  <a:srgbClr val="009999"/>
                </a:solidFill>
                <a:latin typeface="Arial"/>
              </a:rPr>
              <a:t>[C,D] &amp; F(C)&lt;=Y&lt;=F(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: </a:t>
            </a:r>
            <a:r>
              <a:rPr b="0" lang="en-NZ" sz="1800" spc="-1" strike="noStrike">
                <a:solidFill>
                  <a:srgbClr val="009999"/>
                </a:solidFill>
                <a:latin typeface="Symbol"/>
                <a:ea typeface="Symbol"/>
              </a:rPr>
              <a:t></a:t>
            </a:r>
            <a:r>
              <a:rPr b="0" lang="en-NZ" sz="1800" spc="-1" strike="noStrike">
                <a:solidFill>
                  <a:srgbClr val="009999"/>
                </a:solidFill>
                <a:latin typeface="Arial"/>
              </a:rPr>
              <a:t>Z</a:t>
            </a:r>
            <a:r>
              <a:rPr b="0" lang="en-NZ" sz="18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0" lang="en-NZ" sz="1800" spc="-1" strike="noStrike">
                <a:solidFill>
                  <a:srgbClr val="009999"/>
                </a:solidFill>
                <a:latin typeface="Arial"/>
              </a:rPr>
              <a:t>[X-E, X+E]: F(Z)=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5000" y="1243080"/>
            <a:ext cx="12430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 </a:t>
            </a:r>
            <a:r>
              <a:rPr b="1" lang="en-NZ" sz="12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[C,D] 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F(C)&lt;=Y&lt;=F(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364000" y="17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55680" y="1244520"/>
            <a:ext cx="11836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E&gt;0</a:t>
            </a: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 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1" lang="en-NZ" sz="12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[F(A), F(B)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961920" y="17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428280" y="2276640"/>
            <a:ext cx="1243080" cy="459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 </a:t>
            </a:r>
            <a:r>
              <a:rPr b="1" lang="en-NZ" sz="12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[C,D] 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F(C)&lt;=Y&lt;=F(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995640" y="1916280"/>
            <a:ext cx="1447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06728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988280" y="1414440"/>
            <a:ext cx="124308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F(A)&lt;=Y&lt;=F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556000" y="191628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627280" y="17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187280" y="1916280"/>
            <a:ext cx="1447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2589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19920" y="2276640"/>
            <a:ext cx="1243080" cy="459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F(A)&gt;F(B)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F(A)&lt;=Y&lt;=F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489360" y="1374840"/>
            <a:ext cx="23356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&gt;0</a:t>
            </a:r>
            <a:r>
              <a:rPr b="0" lang="en-NZ" sz="1800" spc="-1" strike="noStrike">
                <a:solidFill>
                  <a:srgbClr val="009999"/>
                </a:solidFill>
                <a:latin typeface="Arial"/>
              </a:rPr>
              <a:t> &amp; Y</a:t>
            </a:r>
            <a:r>
              <a:rPr b="0" lang="en-NZ" sz="18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0" lang="en-NZ" sz="1800" spc="-1" strike="noStrike">
                <a:solidFill>
                  <a:srgbClr val="009999"/>
                </a:solidFill>
                <a:latin typeface="Arial"/>
              </a:rPr>
              <a:t>[F(A), F(B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F(A)&gt;F(B)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9999"/>
                </a:solidFill>
                <a:latin typeface="Arial"/>
              </a:rPr>
              <a:t>         </a:t>
            </a:r>
            <a:r>
              <a:rPr b="0" lang="en-NZ" sz="1800" spc="-1" strike="noStrike">
                <a:solidFill>
                  <a:srgbClr val="009999"/>
                </a:solidFill>
                <a:latin typeface="Arial"/>
              </a:rPr>
              <a:t>F(B)&lt;=Y&lt;=F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523200" y="3065400"/>
            <a:ext cx="1526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simila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900000" y="479736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482840" y="4729320"/>
            <a:ext cx="726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|C-D|&gt;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042920" y="4869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195640" y="4869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627280" y="4797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196720" y="458136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833480" y="4297320"/>
            <a:ext cx="17856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9999"/>
                </a:solidFill>
                <a:latin typeface="Symbol"/>
                <a:ea typeface="Symbol"/>
              </a:rPr>
              <a:t></a:t>
            </a: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Z</a:t>
            </a:r>
            <a:r>
              <a:rPr b="1" lang="en-NZ" sz="12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[X-E, X+E]: F(Z)=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70036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32640" y="4124160"/>
            <a:ext cx="12430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 </a:t>
            </a:r>
            <a:r>
              <a:rPr b="1" lang="en-NZ" sz="12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[C,D] 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F(C)&lt;=Y&lt;=F(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97164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187280" y="4797360"/>
            <a:ext cx="1447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58920" y="49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24000" y="5159520"/>
            <a:ext cx="1785600" cy="459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|C-D|&gt;E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9999"/>
                </a:solidFill>
                <a:latin typeface="Symbol"/>
                <a:ea typeface="Symbol"/>
              </a:rPr>
              <a:t></a:t>
            </a: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Z</a:t>
            </a:r>
            <a:r>
              <a:rPr b="1" lang="en-NZ" sz="12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[X-E, X+E]: F(Z)=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612320" y="4159080"/>
            <a:ext cx="42249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X </a:t>
            </a:r>
            <a:r>
              <a:rPr b="0" lang="en-NZ" sz="18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0" lang="en-NZ" sz="1800" spc="-1" strike="noStrike">
                <a:solidFill>
                  <a:srgbClr val="009999"/>
                </a:solidFill>
                <a:latin typeface="Arial"/>
              </a:rPr>
              <a:t>[C,D] &amp; F(C)&lt;=Y&lt;=F(D) </a:t>
            </a:r>
            <a:r>
              <a:rPr b="0" lang="en-NZ" sz="1800" spc="-1" strike="noStrike">
                <a:solidFill>
                  <a:srgbClr val="009999"/>
                </a:solidFill>
                <a:latin typeface="Symbol"/>
                <a:ea typeface="Symbol"/>
              </a:rPr>
              <a:t></a:t>
            </a:r>
            <a:r>
              <a:rPr b="0" lang="en-NZ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0" lang="en-NZ" sz="1800" spc="-1" strike="noStrike">
                <a:solidFill>
                  <a:srgbClr val="009999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C-D|&gt;E V </a:t>
            </a:r>
            <a:r>
              <a:rPr b="0" lang="en-NZ" sz="1800" spc="-1" strike="noStrike">
                <a:solidFill>
                  <a:srgbClr val="009999"/>
                </a:solidFill>
                <a:latin typeface="Symbol"/>
                <a:ea typeface="Symbol"/>
              </a:rPr>
              <a:t></a:t>
            </a:r>
            <a:r>
              <a:rPr b="0" lang="en-NZ" sz="1800" spc="-1" strike="noStrike">
                <a:solidFill>
                  <a:srgbClr val="009999"/>
                </a:solidFill>
                <a:latin typeface="Arial"/>
              </a:rPr>
              <a:t>Z</a:t>
            </a:r>
            <a:r>
              <a:rPr b="0" lang="en-NZ" sz="18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0" lang="en-NZ" sz="1800" spc="-1" strike="noStrike">
                <a:solidFill>
                  <a:srgbClr val="009999"/>
                </a:solidFill>
                <a:latin typeface="Arial"/>
              </a:rPr>
              <a:t>[X-E, X+E]: F(Z)=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(with aid of Cauchy theorem) </a:t>
            </a:r>
            <a:r>
              <a:rPr b="1" lang="en-NZ" sz="1800" spc="-1" strike="noStrike">
                <a:solidFill>
                  <a:srgbClr val="ff3300"/>
                </a:solidFill>
                <a:latin typeface="Arial"/>
              </a:rPr>
              <a:t>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uchy, Bolzano, Weierstrass 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ethod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900000" y="33559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482840" y="3284640"/>
            <a:ext cx="726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|C-D|&gt;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670480" y="3284640"/>
            <a:ext cx="9579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X:=(C+D)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074120" y="3284640"/>
            <a:ext cx="666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(X)&lt;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226120" y="3284640"/>
            <a:ext cx="53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D:=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227640" y="335592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042920" y="3429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232000" y="3429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633840" y="3429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786200" y="3429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794200" y="3429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153520" y="31035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17440" y="310356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296680" y="5181480"/>
            <a:ext cx="32194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: </a:t>
            </a:r>
            <a:r>
              <a:rPr b="0" lang="en-NZ" sz="1800" spc="-1" strike="noStrike">
                <a:solidFill>
                  <a:srgbClr val="009999"/>
                </a:solidFill>
                <a:latin typeface="Arial"/>
              </a:rPr>
              <a:t>E&gt;0 &amp; Y</a:t>
            </a:r>
            <a:r>
              <a:rPr b="0" lang="en-NZ" sz="18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0" lang="en-NZ" sz="1800" spc="-1" strike="noStrike">
                <a:solidFill>
                  <a:srgbClr val="009999"/>
                </a:solidFill>
                <a:latin typeface="Arial"/>
              </a:rPr>
              <a:t>[F(A), F(B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2: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X </a:t>
            </a:r>
            <a:r>
              <a:rPr b="0" lang="en-NZ" sz="18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0" lang="en-NZ" sz="1800" spc="-1" strike="noStrike">
                <a:solidFill>
                  <a:srgbClr val="009999"/>
                </a:solidFill>
                <a:latin typeface="Arial"/>
              </a:rPr>
              <a:t>[C,D] &amp; F(C)&lt;=Y&lt;=F(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: </a:t>
            </a:r>
            <a:r>
              <a:rPr b="0" lang="en-NZ" sz="1800" spc="-1" strike="noStrike">
                <a:solidFill>
                  <a:srgbClr val="009999"/>
                </a:solidFill>
                <a:latin typeface="Symbol"/>
                <a:ea typeface="Symbol"/>
              </a:rPr>
              <a:t></a:t>
            </a:r>
            <a:r>
              <a:rPr b="0" lang="en-NZ" sz="1800" spc="-1" strike="noStrike">
                <a:solidFill>
                  <a:srgbClr val="009999"/>
                </a:solidFill>
                <a:latin typeface="Arial"/>
              </a:rPr>
              <a:t>Z</a:t>
            </a:r>
            <a:r>
              <a:rPr b="0" lang="en-NZ" sz="18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0" lang="en-NZ" sz="1800" spc="-1" strike="noStrike">
                <a:solidFill>
                  <a:srgbClr val="009999"/>
                </a:solidFill>
                <a:latin typeface="Arial"/>
              </a:rPr>
              <a:t>[X-E, X+E]: F(Z)=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660280" y="2682720"/>
            <a:ext cx="12430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 </a:t>
            </a:r>
            <a:r>
              <a:rPr b="1" lang="en-NZ" sz="12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[C,D] 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F(C)&lt;=Y&lt;=F(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299280" y="3139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364640" y="3716280"/>
            <a:ext cx="1235160" cy="459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 </a:t>
            </a:r>
            <a:r>
              <a:rPr b="1" lang="en-NZ" sz="12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[C,X] 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F(C)&lt;=Y&lt;=F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932360" y="335592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00364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780000" y="335592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212280" y="2492280"/>
            <a:ext cx="1235160" cy="641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F(X)&lt;Y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 </a:t>
            </a:r>
            <a:r>
              <a:rPr b="1" lang="en-NZ" sz="12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[C,X] 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F(C)&lt;=Y&lt;=F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851280" y="3139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667520" y="3716280"/>
            <a:ext cx="1810080" cy="641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F((C+D)/2)&lt;Y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(C+D)/2</a:t>
            </a:r>
            <a:r>
              <a:rPr b="1" lang="en-NZ" sz="12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[C,(C+D)/2] 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F(C)&lt;=Y&lt;=F((C+D)/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411280" y="3355920"/>
            <a:ext cx="1447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48292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187280" y="3355920"/>
            <a:ext cx="1447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258920" y="3139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45320" y="2419200"/>
            <a:ext cx="1669680" cy="641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|C-D|&gt;E </a:t>
            </a:r>
            <a:r>
              <a:rPr b="1" lang="en-US" sz="1200" spc="-1" strike="noStrike">
                <a:solidFill>
                  <a:srgbClr val="009999"/>
                </a:solidFill>
                <a:latin typeface="Symbol"/>
                <a:ea typeface="Symbol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F((C+D)/2)&lt;Y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F(C)&lt;=Y&lt;=F((C+D)/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59560" y="3716280"/>
            <a:ext cx="12430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X </a:t>
            </a:r>
            <a:r>
              <a:rPr b="1" lang="en-NZ" sz="12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[C,D] 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F(C)&lt;=Y&lt;=F(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97164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900000" y="192420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482840" y="1852560"/>
            <a:ext cx="726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|C-D|&gt;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670480" y="1852560"/>
            <a:ext cx="9579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X:=(C+D)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074120" y="1852560"/>
            <a:ext cx="666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(X)&lt;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226120" y="1852560"/>
            <a:ext cx="53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:=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227640" y="1924200"/>
            <a:ext cx="14472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042920" y="19969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232000" y="19969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633840" y="19969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786200" y="19969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794200" y="19969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153520" y="16714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717080" y="16714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23200" y="1628640"/>
            <a:ext cx="1526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simila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04960" y="4919760"/>
            <a:ext cx="25016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X </a:t>
            </a:r>
            <a:r>
              <a:rPr b="0" lang="en-NZ" sz="18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0" lang="en-NZ" sz="1800" spc="-1" strike="noStrike">
                <a:solidFill>
                  <a:srgbClr val="009999"/>
                </a:solidFill>
                <a:latin typeface="Arial"/>
              </a:rPr>
              <a:t>[C,D] 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9999"/>
                </a:solidFill>
                <a:latin typeface="Arial"/>
              </a:rPr>
              <a:t>F(C)&lt;=Y&lt;=F(D) </a:t>
            </a:r>
            <a:r>
              <a:rPr b="0" lang="en-NZ" sz="1800" spc="-1" strike="noStrike">
                <a:solidFill>
                  <a:srgbClr val="009999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|C-D|&gt;E </a:t>
            </a:r>
            <a:r>
              <a:rPr b="0" lang="en-US" sz="1800" spc="-1" strike="noStrike">
                <a:solidFill>
                  <a:srgbClr val="009999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F((C+D)/2)&lt;Y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9999"/>
                </a:solidFill>
                <a:latin typeface="Arial"/>
              </a:rPr>
              <a:t>F(C)&lt;=Y&lt;=F((C+D)/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7699320" y="3213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uchy, Bolzano, Weierstrass …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method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092320" y="2548080"/>
            <a:ext cx="2760840" cy="17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E &gt; 0 &amp; Y</a:t>
            </a:r>
            <a:r>
              <a:rPr b="1" lang="en-NZ" sz="12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 [F(A), F(B)]</a:t>
            </a: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IF F(A)&gt;F(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THEN {D:=A ; C:=B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ELSE {C:=A ; D:=B}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X:=C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WHILE  |C-D| &gt; 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{ X:= (C + D)/2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IF F(X) &lt; Y THEN C:= X ELSE D:= X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NZ" sz="1200" spc="-1" strike="noStrike">
                <a:solidFill>
                  <a:srgbClr val="009999"/>
                </a:solidFill>
                <a:latin typeface="Symbol"/>
                <a:ea typeface="Symbol"/>
              </a:rPr>
              <a:t></a:t>
            </a: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Z</a:t>
            </a:r>
            <a:r>
              <a:rPr b="1" lang="en-NZ" sz="12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[X-E, X+E] : F(Z)=Y</a:t>
            </a: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61000" y="2548080"/>
            <a:ext cx="2760840" cy="17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E &gt; 0 &amp; Y</a:t>
            </a:r>
            <a:r>
              <a:rPr b="1" lang="en-NZ" sz="12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 [F(A), F(B)]</a:t>
            </a: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IF F(A)&gt;F(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THEN {D:=A ; C:=B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ELSE {C:=A ; D:=B}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X:=C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WHILE  |C-D| &gt; 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{ X:= (C + D)/2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3399"/>
                </a:solidFill>
                <a:latin typeface="Arial"/>
              </a:rPr>
              <a:t>IF F(X) &lt; Y THEN C:= X ELSE D:= X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NZ" sz="1200" spc="-1" strike="noStrike">
                <a:solidFill>
                  <a:srgbClr val="009999"/>
                </a:solidFill>
                <a:latin typeface="Symbol"/>
                <a:ea typeface="Symbol"/>
              </a:rPr>
              <a:t></a:t>
            </a: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Z</a:t>
            </a:r>
            <a:r>
              <a:rPr b="1" lang="en-NZ" sz="12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1" lang="en-NZ" sz="1200" spc="-1" strike="noStrike">
                <a:solidFill>
                  <a:srgbClr val="009999"/>
                </a:solidFill>
                <a:latin typeface="Arial"/>
              </a:rPr>
              <a:t>[X-E, X+E] : F(Z)=Y</a:t>
            </a: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rot="19142400">
            <a:off x="1763640" y="2979360"/>
            <a:ext cx="3313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   A   L   I  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rot="19142400">
            <a:off x="5292720" y="2979360"/>
            <a:ext cx="3313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   A   L   I  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84360" y="3213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bute to Floyd and Ho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1990800" cy="171432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2"/>
          <a:stretch/>
        </p:blipFill>
        <p:spPr>
          <a:xfrm>
            <a:off x="6659640" y="4653000"/>
            <a:ext cx="2016000" cy="144468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401760" y="1125360"/>
            <a:ext cx="838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M's most prestigious technical award is accompanied by a prize of $100,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given to an individual selected for contributions of a technical natur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computing community. The contributions should be of lasting and maj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ical importance to the computer field. Financial support of the Turing Aw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provided by the Intel Corpo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561040" y="2638440"/>
            <a:ext cx="640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ert W. Floy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36-2001) was awarded in 1978 “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ing a clear influence on methodologies for the crea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and reliable software, and for helping to fou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ing important subfields of computer science: the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arsing, the semantics of programming languag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program verification, automatic program synthesi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alysis of algorithms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57480" y="4724280"/>
            <a:ext cx="589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r C. Antony R. Ho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s awarded in 1980 “for 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mental contributions to the definition and desig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ing language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 of Interval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e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no 3 of 4 input points A(Ax,Ay), B(Bx,By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(Cx,Cy) and D(Dx,Dy) do not belong to any straight l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taneously can be formalized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Ay - By)*Cx +(Bx - Ax)*Cy + (By*Ax - Bx*Ly) &lt;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Ay - By)*Dx +(Bx - Ax)*Dy + (By*Ax - Bx*Ly) &lt;&gt;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ost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ve to formalize the requirement that the progr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utputs “YES” iff  intervals [A,B] and [C,D] have inside intersection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NO” otherwis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265896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 of Interval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be the most straightforward way to formalize the requirement is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 that the interval intersect in the vector form, ex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OR SOME real values V, W in ]0..1[ :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*V =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*W 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e  output is “YES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FOR ALL real values V, B in ]0..1[ :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*V &lt;&gt;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*W 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e  output is “NO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 most straightforward way is not the simplest one again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435640" y="2420640"/>
            <a:ext cx="1440" cy="279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7080" y="5216400"/>
            <a:ext cx="309564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4360" y="28400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96360" y="2347920"/>
            <a:ext cx="0" cy="250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3680" y="26971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5120" y="2709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54880" y="47991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54880" y="21319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437080" y="2839680"/>
            <a:ext cx="2159280" cy="237636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435640" y="2347920"/>
            <a:ext cx="2158920" cy="288144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437080" y="4857840"/>
            <a:ext cx="2159280" cy="35856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437080" y="2839680"/>
            <a:ext cx="287280" cy="237636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437080" y="2839680"/>
            <a:ext cx="3024360" cy="237636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4360" y="2768760"/>
            <a:ext cx="18720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669080" y="2839680"/>
            <a:ext cx="0" cy="201780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2492280"/>
            <a:ext cx="289080" cy="2521080"/>
          </a:xfrm>
          <a:custGeom>
            <a:avLst/>
            <a:gdLst>
              <a:gd name="textAreaLeft" fmla="*/ 84960 w 289080"/>
              <a:gd name="textAreaRight" fmla="*/ 289080 w 289080"/>
              <a:gd name="textAreaTop" fmla="*/ 104760 h 2521080"/>
              <a:gd name="textAreaBottom" fmla="*/ 241632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002920" y="2492280"/>
            <a:ext cx="289080" cy="2521080"/>
          </a:xfrm>
          <a:custGeom>
            <a:avLst/>
            <a:gdLst>
              <a:gd name="textAreaLeft" fmla="*/ 84960 w 289080"/>
              <a:gd name="textAreaRight" fmla="*/ 289080 w 289080"/>
              <a:gd name="textAreaTop" fmla="*/ 104760 h 2521080"/>
              <a:gd name="textAreaBottom" fmla="*/ 241632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 of Interval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roundabout way to formalize the requirement is simpl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 3 of points belong to a straight line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als [A,B] and [C,D] intersect “insid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s A and B are separated by straight line (C,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s C and D are separated by straight line (A,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76360" y="3141720"/>
            <a:ext cx="152280" cy="1008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4581360"/>
            <a:ext cx="2158920" cy="18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50920" y="4868640"/>
            <a:ext cx="266364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82560" y="5300640"/>
            <a:ext cx="1368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4200" y="5013360"/>
            <a:ext cx="1296720" cy="10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3480" y="4797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30240" y="60339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000" y="5805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1520" y="5013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3640" y="4581360"/>
            <a:ext cx="2158920" cy="18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203640" y="4868640"/>
            <a:ext cx="266364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635280" y="5300640"/>
            <a:ext cx="1368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46560" y="4726080"/>
            <a:ext cx="72072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360" y="45100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95640" y="50864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21080" y="5805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54600" y="5013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27640" y="4510080"/>
            <a:ext cx="2159280" cy="18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227640" y="4797000"/>
            <a:ext cx="266400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515280" y="5721480"/>
            <a:ext cx="57600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70560" y="4654440"/>
            <a:ext cx="72072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00720" y="4438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9640" y="5014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00720" y="5792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14960" y="56624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 of Interval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 again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straight line can be characterized  by some linear expression F*X + G*Y + H so that coordinates (X,Y) of points of the line satisfy the equation F*X + G*Y + H = 0 that is called the line equ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quation of a straight line the that goes through two points (that may coincide) K and L with coordinates (Kx,Ky) and (Lx,Ly) is       (Ky - Ly)*X +(Lx - Kx)*Y + (Ly*Kx - Lx*Ky)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calculus we know also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straight line with the equation F*X + G*Y + H = 0 divides the plane on to half planes so that coordinates (X,Y) of points in one half satisfy the inequality F*X + G*Y + H &gt; 0, and coordinates (X,Y) of points in another half satisfy the inequality  F*X + G*Y + H &lt;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23:39:13Z</dcterms:created>
  <dc:creator>Nicolai Shilov</dc:creator>
  <dc:description/>
  <dc:language>en-US</dc:language>
  <cp:lastModifiedBy>admin</cp:lastModifiedBy>
  <dcterms:modified xsi:type="dcterms:W3CDTF">2008-02-21T11:13:49Z</dcterms:modified>
  <cp:revision>519</cp:revision>
  <dc:subject/>
  <dc:title>Verification Examples</dc:title>
</cp:coreProperties>
</file>